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0A47-C282-4BA4-A3A0-430273DFE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8C2D-F2CF-4C9D-9EA3-14127EC94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0730-65CA-4562-B155-144E176DF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120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364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2876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120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364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31E8-5BC7-402E-82CA-6C6A0E738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59E79-DFA4-4615-B525-D95323CE8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2872A-5A72-4C3D-A8D7-9F1455C18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93002-A850-4B4A-8F05-579DB139E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3694F-1001-43E6-98ED-4D43B837C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C0252-5A89-4903-8637-817ACF67C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15800" y="94464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D8E5B-74A0-4411-946C-17178551B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E8AC6-1ADA-437C-86C1-823D854E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101E-B840-4974-A010-C240AFA0B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0871F-2542-4C8C-98C7-971E0DA9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3C8C3-0CA9-4A20-B14B-F0BDDFFF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70C43-0F9D-4801-9529-4937A4971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9B612-E4D1-43F5-829D-4FF9A4443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120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364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2876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120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364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F3853-2EE9-4FF3-8CE6-756121EBB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723F-9498-4435-8B62-32954FC45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F5AE-5DDB-46DF-9A29-AB5C0CC3F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C742-28BF-4AC9-8366-15027D3C8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5800" y="94464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C829-9006-4049-8B5E-5C103D707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96B9-293C-4035-B5DF-125B48D3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4BBB-DDC3-420B-AAC0-3D0C14BD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6D42-110B-4B2D-A7EA-F1B0CF60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C838A-C4DC-474B-A73A-B9E72D588E18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Text Box 11"/>
          <p:cNvSpPr/>
          <p:nvPr/>
        </p:nvSpPr>
        <p:spPr>
          <a:xfrm>
            <a:off x="4221000" y="6419880"/>
            <a:ext cx="70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5E24E-360B-437A-88E5-9EBE8E410498}" type="slidenum">
              <a:rPr b="1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图片2"/>
          <p:cNvPicPr/>
          <p:nvPr/>
        </p:nvPicPr>
        <p:blipFill>
          <a:blip r:embed="rId2"/>
          <a:stretch/>
        </p:blipFill>
        <p:spPr>
          <a:xfrm>
            <a:off x="-14400" y="0"/>
            <a:ext cx="9158400" cy="68706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1"/>
          <p:cNvSpPr/>
          <p:nvPr/>
        </p:nvSpPr>
        <p:spPr>
          <a:xfrm>
            <a:off x="4221000" y="6419880"/>
            <a:ext cx="70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CEDAC-0D4B-4EF4-A781-8CD0B421D7AC}" type="slidenum">
              <a:rPr b="1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AA573-D0C2-40D6-B0FC-9F64A4B02F07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dongtai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CBCF2-5DB4-42A7-87DC-DB601B57FA2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1040" y="1698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28720" y="2060640"/>
            <a:ext cx="460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67800" y="1001880"/>
            <a:ext cx="33044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水墨画鱼动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C84B4-CEEC-4265-97BE-459FB2F1740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4360" y="765000"/>
            <a:ext cx="633708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动态ppt模板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EBC3-A0B3-44DB-82D6-EEC0DBCA24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5D866-0608-46FC-B1FF-BE9FDE74641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001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3"/>
          <p:cNvSpPr/>
          <p:nvPr/>
        </p:nvSpPr>
        <p:spPr>
          <a:xfrm>
            <a:off x="1857240" y="3645000"/>
            <a:ext cx="59058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华文中宋"/>
                <a:ea typeface="黑体"/>
              </a:rPr>
              <a:t>感谢聆听！</a:t>
            </a:r>
            <a:br>
              <a:rPr sz="6000"/>
            </a:b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2T15:56:23Z</dcterms:created>
  <dc:creator/>
  <dc:description/>
  <cp:keywords>幻灯片之家 http:/www.eeppt.com</cp:keywords>
  <dc:language>en-US</dc:language>
  <cp:lastModifiedBy/>
  <dcterms:modified xsi:type="dcterms:W3CDTF">2015-07-08T03:04:59Z</dcterms:modified>
  <cp:revision>593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