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A0F-18F5-48D1-84C4-F84B95D7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4C6-C95C-4340-A6F8-D0B89E8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5D6-44DF-4629-A008-A27E99E2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117-1CBE-4370-83D5-B2BD0614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D35-CE16-4790-8020-F8A1C20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B75-72A5-43D5-9884-2EC501B7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242-AF5C-45F8-ACD7-219A522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3AF-8866-4C5F-8C8E-171BAEB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470-2D3D-40E7-92C4-51C30CA7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7B9-409C-415C-ADD4-A635E29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137-A74D-48B0-A7EB-D74FDD8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4F6-CBD4-42F5-8637-561D87D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F9B-934B-42DF-9D26-938F65134D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DC8-1A3E-4136-ACDB-30DC0FE7AF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95848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高清立体方块世界地图大图 点击还原"/>
          <p:cNvPicPr/>
          <p:nvPr/>
        </p:nvPicPr>
        <p:blipFill>
          <a:blip r:embed="rId1"/>
          <a:srcRect l="6356" t="0" r="2029" b="5963"/>
          <a:stretch/>
        </p:blipFill>
        <p:spPr>
          <a:xfrm>
            <a:off x="36360" y="-24300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33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87700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4B1-38E5-4577-A035-89B44552A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7:00Z</dcterms:created>
  <dc:creator/>
  <dc:description/>
  <cp:keywords>幻灯片之家 http:/www.eeppt.com</cp:keywords>
  <dc:language>en-US</dc:language>
  <cp:lastModifiedBy/>
  <dcterms:modified xsi:type="dcterms:W3CDTF">2015-07-09T02:48:26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