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4E1B5BD5-104D-43FC-836C-11E84F6FB912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98900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443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商务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图表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51008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商务ppt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shangwu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/>
  <dc:description/>
  <cp:keywords>幻灯片之家 http:/www.eeppt.com</cp:keywords>
  <dc:language>en-US</dc:language>
  <cp:lastModifiedBy/>
  <dcterms:modified xsi:type="dcterms:W3CDTF">2015-07-09T02:50:56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