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B85-34E8-412E-8A84-F09C0F3C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2B0-DB60-48CD-B6B6-BE703C3C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65C-5FDF-44EF-A4E5-6F03DEF7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FF3-7F94-4849-9CBB-CB2BBEC9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4640-8473-46D9-BADB-9CF08FBD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08FC-333D-4BC1-BDE8-22981080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FCBA-6D75-4AFD-A95F-65330A02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099F-9CE1-40C5-94E5-0D9F07B4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A639-5781-48B7-8A96-C723DEBC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2E26-FA1C-424F-967C-C9607558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CD46-1D10-422C-A837-2F69FCDE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73A-2209-4F45-ABDF-4F48CA7C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BCB2-EB93-49EC-9147-94ABB94D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860B-0718-4699-9704-D5712475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AE6A-6437-48FE-8608-C1292B33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7F70-D17F-4748-8793-289ABE20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ADC4-B850-4A4F-A320-3E464ADE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7B0-3F94-4F83-9122-4C1713E7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04A-E6DD-43A4-9AE8-1A6258D3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673-4CD5-4500-928F-568F2993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DC6-ED46-45E1-8BA5-58BAF45E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EB2-A66E-476E-A091-94E86744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681-9FAD-4C34-8D50-7CAB6440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8C0-8E5A-4FA3-8081-EF77778E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985E-ACB6-41C8-A81D-451819451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D1DD-48EC-4BE3-80E6-65E25E901377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74800"/>
            <a:ext cx="7772400" cy="39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700" spc="-1" strike="noStrike">
              <a:solidFill>
                <a:srgbClr val="003399"/>
              </a:solidFill>
              <a:latin typeface="Arial"/>
              <a:ea typeface="华文新魏"/>
            </a:endParaRPr>
          </a:p>
        </p:txBody>
      </p:sp>
      <p:sp>
        <p:nvSpPr>
          <p:cNvPr id="83" name=""/>
          <p:cNvSpPr/>
          <p:nvPr/>
        </p:nvSpPr>
        <p:spPr>
          <a:xfrm>
            <a:off x="25236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5640" y="1125360"/>
            <a:ext cx="4995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数学观察物体课件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下载</a:t>
            </a:r>
            <a:endParaRPr b="0" lang="en-US" sz="4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老师寄语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我们要善于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不同角度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观察事物，了解事物，不要像摸象的盲人一样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以偏概全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4284720" y="36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99"/>
                </a:solidFill>
                <a:latin typeface="Arial"/>
              </a:rPr>
              <a:t>盲人摸象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924360" y="3500280"/>
            <a:ext cx="1224000" cy="1079640"/>
          </a:xfrm>
          <a:custGeom>
            <a:avLst/>
            <a:gdLst>
              <a:gd name="textAreaLeft" fmla="*/ 67320 w 1224000"/>
              <a:gd name="textAreaRight" fmla="*/ 1156680 w 122400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4487" h="21600">
                <a:moveTo>
                  <a:pt x="0" y="0"/>
                </a:moveTo>
                <a:lnTo>
                  <a:pt x="24487" y="0"/>
                </a:lnTo>
                <a:lnTo>
                  <a:pt x="24487" y="21600"/>
                </a:lnTo>
                <a:lnTo>
                  <a:pt x="0" y="21600"/>
                </a:lnTo>
                <a:close/>
              </a:path>
              <a:path fill="lightenLess" w="24487" h="21600">
                <a:moveTo>
                  <a:pt x="0" y="0"/>
                </a:moveTo>
                <a:lnTo>
                  <a:pt x="24487" y="0"/>
                </a:lnTo>
                <a:lnTo>
                  <a:pt x="23137" y="1350"/>
                </a:lnTo>
                <a:lnTo>
                  <a:pt x="1350" y="1350"/>
                </a:lnTo>
                <a:close/>
              </a:path>
              <a:path fill="darken" w="24487" h="21600">
                <a:moveTo>
                  <a:pt x="24487" y="0"/>
                </a:moveTo>
                <a:lnTo>
                  <a:pt x="24487" y="21600"/>
                </a:lnTo>
                <a:lnTo>
                  <a:pt x="23137" y="20250"/>
                </a:lnTo>
                <a:lnTo>
                  <a:pt x="23137" y="1350"/>
                </a:lnTo>
                <a:close/>
              </a:path>
              <a:path fill="darkenLess" w="24487" h="21600">
                <a:moveTo>
                  <a:pt x="2448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137" y="20250"/>
                </a:lnTo>
                <a:close/>
              </a:path>
              <a:path fill="lighten" w="2448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487" h="21600">
                <a:moveTo>
                  <a:pt x="5200" y="3756"/>
                </a:moveTo>
                <a:lnTo>
                  <a:pt x="19287" y="10800"/>
                </a:lnTo>
                <a:lnTo>
                  <a:pt x="5200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先摆一摆，再仔细观察比较这三个物体，看有什么发现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755640" y="2708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554040" y="29098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332000" y="2708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1908000" y="27082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52584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411480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4716360" y="27226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3913200" y="2924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6284880" y="27226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86124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743760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7236000" y="2924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24000" y="260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正面、背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相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79360" y="2286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两个侧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相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79360" y="4221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上面、下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不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4" name="Group 25"/>
          <p:cNvGrpSpPr/>
          <p:nvPr/>
        </p:nvGrpSpPr>
        <p:grpSpPr>
          <a:xfrm>
            <a:off x="2698920" y="1628640"/>
            <a:ext cx="1728720" cy="576360"/>
            <a:chOff x="2698920" y="1628640"/>
            <a:chExt cx="1728720" cy="576360"/>
          </a:xfrm>
        </p:grpSpPr>
        <p:sp>
          <p:nvSpPr>
            <p:cNvPr id="105" name="Rectangle 7"/>
            <p:cNvSpPr/>
            <p:nvPr/>
          </p:nvSpPr>
          <p:spPr>
            <a:xfrm>
              <a:off x="2698920" y="162864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3275280" y="162864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3851280" y="162864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8" name="Group 26"/>
          <p:cNvGrpSpPr/>
          <p:nvPr/>
        </p:nvGrpSpPr>
        <p:grpSpPr>
          <a:xfrm>
            <a:off x="2700360" y="3573360"/>
            <a:ext cx="1152360" cy="576360"/>
            <a:chOff x="2700360" y="3573360"/>
            <a:chExt cx="1152360" cy="576360"/>
          </a:xfrm>
        </p:grpSpPr>
        <p:sp>
          <p:nvSpPr>
            <p:cNvPr id="109" name="Rectangle 10"/>
            <p:cNvSpPr/>
            <p:nvPr/>
          </p:nvSpPr>
          <p:spPr>
            <a:xfrm>
              <a:off x="2700360" y="3573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3276720" y="3573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1" name="Group 27"/>
          <p:cNvGrpSpPr/>
          <p:nvPr/>
        </p:nvGrpSpPr>
        <p:grpSpPr>
          <a:xfrm>
            <a:off x="900000" y="5157720"/>
            <a:ext cx="1727280" cy="1152360"/>
            <a:chOff x="900000" y="5157720"/>
            <a:chExt cx="1727280" cy="1152360"/>
          </a:xfrm>
        </p:grpSpPr>
        <p:sp>
          <p:nvSpPr>
            <p:cNvPr id="112" name="Rectangle 13"/>
            <p:cNvSpPr/>
            <p:nvPr/>
          </p:nvSpPr>
          <p:spPr>
            <a:xfrm>
              <a:off x="9000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1476360" y="5157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205092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900000" y="573408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6" name="Group 28"/>
          <p:cNvGrpSpPr/>
          <p:nvPr/>
        </p:nvGrpSpPr>
        <p:grpSpPr>
          <a:xfrm>
            <a:off x="3421080" y="5157720"/>
            <a:ext cx="1727280" cy="1152360"/>
            <a:chOff x="3421080" y="5157720"/>
            <a:chExt cx="1727280" cy="1152360"/>
          </a:xfrm>
        </p:grpSpPr>
        <p:sp>
          <p:nvSpPr>
            <p:cNvPr id="117" name="Rectangle 17"/>
            <p:cNvSpPr/>
            <p:nvPr/>
          </p:nvSpPr>
          <p:spPr>
            <a:xfrm>
              <a:off x="342108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3997440" y="5157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45720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3995640" y="573408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1" name="Group 29"/>
          <p:cNvGrpSpPr/>
          <p:nvPr/>
        </p:nvGrpSpPr>
        <p:grpSpPr>
          <a:xfrm>
            <a:off x="6373800" y="5157720"/>
            <a:ext cx="1727280" cy="1152360"/>
            <a:chOff x="6373800" y="5157720"/>
            <a:chExt cx="1727280" cy="1152360"/>
          </a:xfrm>
        </p:grpSpPr>
        <p:sp>
          <p:nvSpPr>
            <p:cNvPr id="122" name="Rectangle 21"/>
            <p:cNvSpPr/>
            <p:nvPr/>
          </p:nvSpPr>
          <p:spPr>
            <a:xfrm>
              <a:off x="63738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6950160" y="5157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" name="Rectangle 23"/>
            <p:cNvSpPr/>
            <p:nvPr/>
          </p:nvSpPr>
          <p:spPr>
            <a:xfrm>
              <a:off x="752472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7524720" y="573408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把刚才的那三个物体变一变，使它们变成下图这样的三个物体吗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743040" y="32259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43040" y="26370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332000" y="32259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908000" y="32259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50676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09428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468144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4095720" y="264960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628488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686124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743760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7439040" y="26496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755640" y="344160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4000" y="4437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哪面看这三个物体，看到的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形状完全相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？从哪面看到的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形状不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呢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摆一摆，说一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43040" y="34290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743040" y="284004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346040" y="342900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41240" y="224964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55640" y="3645000"/>
            <a:ext cx="576360" cy="576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79280" y="1628640"/>
            <a:ext cx="2664000" cy="3240360"/>
          </a:xfrm>
          <a:prstGeom prst="rect">
            <a:avLst/>
          </a:prstGeom>
          <a:noFill/>
          <a:ln w="3816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7812000" y="2133720"/>
            <a:ext cx="576360" cy="1728720"/>
            <a:chOff x="7812000" y="2133720"/>
            <a:chExt cx="576360" cy="1728720"/>
          </a:xfrm>
        </p:grpSpPr>
        <p:sp>
          <p:nvSpPr>
            <p:cNvPr id="150" name="Rectangle 11"/>
            <p:cNvSpPr/>
            <p:nvPr/>
          </p:nvSpPr>
          <p:spPr>
            <a:xfrm rot="16200000">
              <a:off x="7812000" y="3286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 rot="16200000">
              <a:off x="7812000" y="2709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 rot="16200000">
              <a:off x="7812000" y="2133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3" name="Group 14"/>
          <p:cNvGrpSpPr/>
          <p:nvPr/>
        </p:nvGrpSpPr>
        <p:grpSpPr>
          <a:xfrm>
            <a:off x="3419640" y="3141720"/>
            <a:ext cx="1152360" cy="576360"/>
            <a:chOff x="3419640" y="3141720"/>
            <a:chExt cx="1152360" cy="576360"/>
          </a:xfrm>
        </p:grpSpPr>
        <p:sp>
          <p:nvSpPr>
            <p:cNvPr id="154" name="Rectangle 15"/>
            <p:cNvSpPr/>
            <p:nvPr/>
          </p:nvSpPr>
          <p:spPr>
            <a:xfrm>
              <a:off x="3419640" y="3141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3996000" y="3141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5651640" y="2133720"/>
            <a:ext cx="1152360" cy="1726560"/>
            <a:chOff x="5651640" y="2133720"/>
            <a:chExt cx="1152360" cy="1726560"/>
          </a:xfrm>
        </p:grpSpPr>
        <p:sp>
          <p:nvSpPr>
            <p:cNvPr id="157" name="Rectangle 18"/>
            <p:cNvSpPr/>
            <p:nvPr/>
          </p:nvSpPr>
          <p:spPr>
            <a:xfrm rot="16200000">
              <a:off x="5651640" y="32839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 rot="16200000">
              <a:off x="5652000" y="2708280"/>
              <a:ext cx="57564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 rot="16200000">
              <a:off x="5651640" y="2133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 rot="16200000">
              <a:off x="6228000" y="328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1" name="Rectangle 22"/>
          <p:cNvSpPr/>
          <p:nvPr/>
        </p:nvSpPr>
        <p:spPr>
          <a:xfrm>
            <a:off x="2846520" y="4013280"/>
            <a:ext cx="266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上面或下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5651640" y="40053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正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7596360" y="40053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侧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0"/>
          <p:cNvSpPr/>
          <p:nvPr/>
        </p:nvSpPr>
        <p:spPr>
          <a:xfrm>
            <a:off x="4065480" y="11667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3855960" y="13683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AutoShape 19"/>
          <p:cNvSpPr/>
          <p:nvPr/>
        </p:nvSpPr>
        <p:spPr>
          <a:xfrm>
            <a:off x="4643280" y="11667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AutoShape 21"/>
          <p:cNvSpPr/>
          <p:nvPr/>
        </p:nvSpPr>
        <p:spPr>
          <a:xfrm>
            <a:off x="4456080" y="13683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4581000"/>
            <a:ext cx="854064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正面看到               的有哪几个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195480" indent="-1954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侧面看到               的有哪几个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50920" y="-316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说一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3492360" y="5805360"/>
            <a:ext cx="1728720" cy="576360"/>
            <a:chOff x="3492360" y="5805360"/>
            <a:chExt cx="1728720" cy="576360"/>
          </a:xfrm>
        </p:grpSpPr>
        <p:sp>
          <p:nvSpPr>
            <p:cNvPr id="171" name="Rectangle 6"/>
            <p:cNvSpPr/>
            <p:nvPr/>
          </p:nvSpPr>
          <p:spPr>
            <a:xfrm>
              <a:off x="3492360" y="5805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4068720" y="5805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4644720" y="5805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3780000" y="4508640"/>
            <a:ext cx="1152360" cy="576000"/>
            <a:chOff x="3780000" y="4508640"/>
            <a:chExt cx="1152360" cy="576000"/>
          </a:xfrm>
        </p:grpSpPr>
        <p:sp>
          <p:nvSpPr>
            <p:cNvPr id="175" name="Rectangle 10"/>
            <p:cNvSpPr/>
            <p:nvPr/>
          </p:nvSpPr>
          <p:spPr>
            <a:xfrm>
              <a:off x="3780000" y="450864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4356360" y="450864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7" name="AutoShape 12"/>
          <p:cNvSpPr/>
          <p:nvPr/>
        </p:nvSpPr>
        <p:spPr>
          <a:xfrm>
            <a:off x="1374840" y="9936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1187280" y="11955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1762200" y="11955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1560600" y="13971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0" y="47628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2987640" y="54756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2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6156360" y="61920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3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AutoShape 23"/>
          <p:cNvSpPr/>
          <p:nvPr/>
        </p:nvSpPr>
        <p:spPr>
          <a:xfrm>
            <a:off x="6588000" y="13539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AutoShape 24"/>
          <p:cNvSpPr/>
          <p:nvPr/>
        </p:nvSpPr>
        <p:spPr>
          <a:xfrm>
            <a:off x="7164360" y="13539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AutoShape 25"/>
          <p:cNvSpPr/>
          <p:nvPr/>
        </p:nvSpPr>
        <p:spPr>
          <a:xfrm>
            <a:off x="7740720" y="13539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>
            <a:off x="7742160" y="7635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AutoShape 27"/>
          <p:cNvSpPr/>
          <p:nvPr/>
        </p:nvSpPr>
        <p:spPr>
          <a:xfrm>
            <a:off x="1305000" y="35272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1305000" y="293832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AutoShape 29"/>
          <p:cNvSpPr/>
          <p:nvPr/>
        </p:nvSpPr>
        <p:spPr>
          <a:xfrm>
            <a:off x="1908000" y="35272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AutoShape 30"/>
          <p:cNvSpPr/>
          <p:nvPr/>
        </p:nvSpPr>
        <p:spPr>
          <a:xfrm>
            <a:off x="1303200" y="234792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Rectangle 31"/>
          <p:cNvSpPr/>
          <p:nvPr/>
        </p:nvSpPr>
        <p:spPr>
          <a:xfrm>
            <a:off x="1317600" y="374328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0" y="2276640"/>
            <a:ext cx="900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4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2987640" y="234792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6156360" y="241920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6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AutoShape 35"/>
          <p:cNvSpPr/>
          <p:nvPr/>
        </p:nvSpPr>
        <p:spPr>
          <a:xfrm flipH="1">
            <a:off x="7408080" y="32986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AutoShape 36"/>
          <p:cNvSpPr/>
          <p:nvPr/>
        </p:nvSpPr>
        <p:spPr>
          <a:xfrm flipH="1">
            <a:off x="7596360" y="35002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AutoShape 37"/>
          <p:cNvSpPr/>
          <p:nvPr/>
        </p:nvSpPr>
        <p:spPr>
          <a:xfrm flipH="1">
            <a:off x="7393680" y="26938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AutoShape 38"/>
          <p:cNvSpPr/>
          <p:nvPr/>
        </p:nvSpPr>
        <p:spPr>
          <a:xfrm flipH="1">
            <a:off x="6818400" y="32986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4140360" y="29955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>
            <a:off x="3938760" y="31971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AutoShape 42"/>
          <p:cNvSpPr/>
          <p:nvPr/>
        </p:nvSpPr>
        <p:spPr>
          <a:xfrm>
            <a:off x="4716360" y="29955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AutoShape 43"/>
          <p:cNvSpPr/>
          <p:nvPr/>
        </p:nvSpPr>
        <p:spPr>
          <a:xfrm>
            <a:off x="3736800" y="34005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1619280" y="515772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2554200" y="515772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2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3562200" y="515772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Rectangle 49"/>
          <p:cNvSpPr/>
          <p:nvPr/>
        </p:nvSpPr>
        <p:spPr>
          <a:xfrm>
            <a:off x="1620720" y="636264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Rectangle 50"/>
          <p:cNvSpPr/>
          <p:nvPr/>
        </p:nvSpPr>
        <p:spPr>
          <a:xfrm>
            <a:off x="2592360" y="636264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A7D-5DB5-4B86-A284-DF011C2F7E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用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小正方体按要求摆一摆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976040"/>
            <a:ext cx="85406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30320" y="2852640"/>
            <a:ext cx="85406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08000" y="4797360"/>
            <a:ext cx="9036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          ，从侧面看        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30320" y="3743280"/>
            <a:ext cx="85406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7" name="Group 7"/>
          <p:cNvGrpSpPr/>
          <p:nvPr/>
        </p:nvGrpSpPr>
        <p:grpSpPr>
          <a:xfrm>
            <a:off x="3490920" y="3789360"/>
            <a:ext cx="1728720" cy="576360"/>
            <a:chOff x="3490920" y="3789360"/>
            <a:chExt cx="1728720" cy="576360"/>
          </a:xfrm>
        </p:grpSpPr>
        <p:sp>
          <p:nvSpPr>
            <p:cNvPr id="218" name="Rectangle 8"/>
            <p:cNvSpPr/>
            <p:nvPr/>
          </p:nvSpPr>
          <p:spPr>
            <a:xfrm>
              <a:off x="3490920" y="3789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9" name="Rectangle 9"/>
            <p:cNvSpPr/>
            <p:nvPr/>
          </p:nvSpPr>
          <p:spPr>
            <a:xfrm>
              <a:off x="4067280" y="3789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4643280" y="3789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1" name="Group 11"/>
          <p:cNvGrpSpPr/>
          <p:nvPr/>
        </p:nvGrpSpPr>
        <p:grpSpPr>
          <a:xfrm>
            <a:off x="3492360" y="2924280"/>
            <a:ext cx="1152360" cy="576000"/>
            <a:chOff x="3492360" y="2924280"/>
            <a:chExt cx="1152360" cy="576000"/>
          </a:xfrm>
        </p:grpSpPr>
        <p:sp>
          <p:nvSpPr>
            <p:cNvPr id="222" name="Rectangle 12"/>
            <p:cNvSpPr/>
            <p:nvPr/>
          </p:nvSpPr>
          <p:spPr>
            <a:xfrm>
              <a:off x="3492360" y="292428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4068720" y="292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4" name="Rectangle 15"/>
          <p:cNvSpPr/>
          <p:nvPr/>
        </p:nvSpPr>
        <p:spPr>
          <a:xfrm>
            <a:off x="3490920" y="206064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7308720" y="4365720"/>
            <a:ext cx="576360" cy="1728720"/>
            <a:chOff x="7308720" y="4365720"/>
            <a:chExt cx="576360" cy="1728720"/>
          </a:xfrm>
        </p:grpSpPr>
        <p:sp>
          <p:nvSpPr>
            <p:cNvPr id="226" name="Rectangle 18"/>
            <p:cNvSpPr/>
            <p:nvPr/>
          </p:nvSpPr>
          <p:spPr>
            <a:xfrm rot="16200000">
              <a:off x="7308720" y="5518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7" name="Rectangle 19"/>
            <p:cNvSpPr/>
            <p:nvPr/>
          </p:nvSpPr>
          <p:spPr>
            <a:xfrm rot="16200000">
              <a:off x="7308720" y="4941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Rectangle 20"/>
            <p:cNvSpPr/>
            <p:nvPr/>
          </p:nvSpPr>
          <p:spPr>
            <a:xfrm rot="16200000">
              <a:off x="7308720" y="4365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9" name="Group 21"/>
          <p:cNvGrpSpPr/>
          <p:nvPr/>
        </p:nvGrpSpPr>
        <p:grpSpPr>
          <a:xfrm>
            <a:off x="3203640" y="4869000"/>
            <a:ext cx="1152360" cy="576000"/>
            <a:chOff x="3203640" y="4869000"/>
            <a:chExt cx="1152360" cy="576000"/>
          </a:xfrm>
        </p:grpSpPr>
        <p:sp>
          <p:nvSpPr>
            <p:cNvPr id="230" name="Rectangle 22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1" name="Rectangle 23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23:30:37Z</dcterms:created>
  <dc:creator/>
  <dc:description/>
  <cp:keywords>幻灯片之家 http:/www.eeppt.com</cp:keywords>
  <dc:language>en-US</dc:language>
  <cp:lastModifiedBy/>
  <dcterms:modified xsi:type="dcterms:W3CDTF">2015-07-13T08:34:00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