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26.gif" ContentType="image/gif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17.png" ContentType="image/png"/>
  <Override PartName="/ppt/media/image2.jpeg" ContentType="image/jpeg"/>
  <Override PartName="/ppt/media/image23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B5B-773E-47B1-960B-8FB1AF98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211-C563-44B4-A975-8A254FA3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07E-376D-4A21-AEAE-026C0DCF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4D7-897B-4D03-AD3E-20BB4930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51E-F082-4015-8D48-15045CFA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8C3-C572-49D5-8137-AA0BAC1E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F8C-0C9F-4404-993A-2CA4EA94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905-7301-4572-B1DB-829F5B7C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FCB-3187-47EB-AAA9-6327F9F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34C-1394-4AB6-AA61-6E7D40C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F6A-15A5-4A2A-BFB3-E8856E7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8F4-DABC-424A-89BF-802C011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1141-B692-47E1-8C9C-C88BB6FBF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1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22.png"/><Relationship Id="rId5" Type="http://schemas.openxmlformats.org/officeDocument/2006/relationships/image" Target="../media/image11.jpeg"/><Relationship Id="rId6" Type="http://schemas.openxmlformats.org/officeDocument/2006/relationships/image" Target="../media/image23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24.gif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3.jpeg"/><Relationship Id="rId6" Type="http://schemas.openxmlformats.org/officeDocument/2006/relationships/image" Target="../media/image12.jpeg"/><Relationship Id="rId7" Type="http://schemas.openxmlformats.org/officeDocument/2006/relationships/image" Target="../media/image1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619200" y="2708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76360" y="33336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Img251030600"/>
          <p:cNvPicPr/>
          <p:nvPr/>
        </p:nvPicPr>
        <p:blipFill>
          <a:blip r:embed="rId16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1403280" y="4221000"/>
            <a:ext cx="1008000" cy="93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13080" y="981000"/>
            <a:ext cx="46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成功了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1111"/>
          <p:cNvPicPr/>
          <p:nvPr/>
        </p:nvPicPr>
        <p:blipFill>
          <a:blip r:embed="rId1"/>
          <a:stretch/>
        </p:blipFill>
        <p:spPr>
          <a:xfrm>
            <a:off x="-457200" y="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887920" y="1589040"/>
            <a:ext cx="4447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２００８年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奥林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匹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旗帜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中国北京高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飘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扬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8360" y="1052640"/>
            <a:ext cx="83534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申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     奥林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匹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克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相互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京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泪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海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拥抱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飘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222222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601992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395280" y="476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s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971640" y="6922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427640" y="260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p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79280" y="2060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xiān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547640" y="2060640"/>
            <a:ext cx="10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h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3708360" y="2060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jī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796000" y="20606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è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403280" y="350028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yɑ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1835280" y="3644640"/>
            <a:ext cx="14436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2771640" y="35002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yō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067280" y="3500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bɑ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4500720" y="3645000"/>
            <a:ext cx="1425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6516720" y="357336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yɑn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6948360" y="371592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1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295280" y="12193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  </a:t>
            </a:r>
            <a:r>
              <a:rPr b="0" lang="en-US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喜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讯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，人们不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同地涌上街头，北京立刻变成了欢乐的海洋 。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2120" y="556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371600" y="2819520"/>
            <a:ext cx="624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舞着国旗，在欢庆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鼓声中一遍遍高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476360" y="4797360"/>
            <a:ext cx="541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相互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互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拥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激动的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尽情流淌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23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143000" y="14479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喜讯传来，人们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不约而同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涌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街头，北京立刻变成了欢乐的海洋 。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120" y="556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3716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447920" y="48006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_995065202_01071441"/>
          <p:cNvPicPr/>
          <p:nvPr/>
        </p:nvPicPr>
        <p:blipFill>
          <a:blip r:embed="rId1"/>
          <a:stretch/>
        </p:blipFill>
        <p:spPr>
          <a:xfrm>
            <a:off x="0" y="0"/>
            <a:ext cx="342900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欢庆1"/>
          <p:cNvPicPr/>
          <p:nvPr/>
        </p:nvPicPr>
        <p:blipFill>
          <a:blip r:embed="rId2"/>
          <a:stretch/>
        </p:blipFill>
        <p:spPr>
          <a:xfrm>
            <a:off x="0" y="3276720"/>
            <a:ext cx="5181480" cy="358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欢庆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挥国旗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3276720"/>
            <a:ext cx="396252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欢庆"/>
          <p:cNvPicPr/>
          <p:nvPr/>
        </p:nvPicPr>
        <p:blipFill>
          <a:blip r:embed="rId7"/>
          <a:stretch/>
        </p:blipFill>
        <p:spPr>
          <a:xfrm>
            <a:off x="3429000" y="0"/>
            <a:ext cx="3581280" cy="32767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1"/>
          <p:cNvSpPr/>
          <p:nvPr/>
        </p:nvSpPr>
        <p:spPr>
          <a:xfrm>
            <a:off x="4140360" y="6597720"/>
            <a:ext cx="576000" cy="260280"/>
          </a:xfrm>
          <a:custGeom>
            <a:avLst/>
            <a:gdLst>
              <a:gd name="textAreaLeft" fmla="*/ 16200 w 576000"/>
              <a:gd name="textAreaRight" fmla="*/ 559800 w 57600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47765" h="21600">
                <a:moveTo>
                  <a:pt x="0" y="0"/>
                </a:moveTo>
                <a:lnTo>
                  <a:pt x="47765" y="0"/>
                </a:lnTo>
                <a:lnTo>
                  <a:pt x="47765" y="21600"/>
                </a:lnTo>
                <a:lnTo>
                  <a:pt x="0" y="21600"/>
                </a:lnTo>
                <a:close/>
              </a:path>
              <a:path fill="lightenLess" w="47765" h="21600">
                <a:moveTo>
                  <a:pt x="0" y="0"/>
                </a:moveTo>
                <a:lnTo>
                  <a:pt x="47765" y="0"/>
                </a:lnTo>
                <a:lnTo>
                  <a:pt x="46415" y="1350"/>
                </a:lnTo>
                <a:lnTo>
                  <a:pt x="1350" y="1350"/>
                </a:lnTo>
                <a:close/>
              </a:path>
              <a:path fill="darken" w="47765" h="21600">
                <a:moveTo>
                  <a:pt x="47765" y="0"/>
                </a:moveTo>
                <a:lnTo>
                  <a:pt x="47765" y="21600"/>
                </a:lnTo>
                <a:lnTo>
                  <a:pt x="46415" y="20250"/>
                </a:lnTo>
                <a:lnTo>
                  <a:pt x="46415" y="1350"/>
                </a:lnTo>
                <a:close/>
              </a:path>
              <a:path fill="darkenLess" w="47765" h="21600">
                <a:moveTo>
                  <a:pt x="4776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415" y="20250"/>
                </a:lnTo>
                <a:close/>
              </a:path>
              <a:path fill="lighten" w="4776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765" h="21600">
                <a:moveTo>
                  <a:pt x="23882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47765" h="21600">
                <a:moveTo>
                  <a:pt x="23882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47765" h="21600">
                <a:moveTo>
                  <a:pt x="21292" y="8210"/>
                </a:moveTo>
                <a:lnTo>
                  <a:pt x="25177" y="8210"/>
                </a:lnTo>
                <a:lnTo>
                  <a:pt x="25177" y="15245"/>
                </a:lnTo>
                <a:lnTo>
                  <a:pt x="26472" y="15245"/>
                </a:lnTo>
                <a:lnTo>
                  <a:pt x="26472" y="16173"/>
                </a:lnTo>
                <a:lnTo>
                  <a:pt x="21292" y="16173"/>
                </a:lnTo>
                <a:lnTo>
                  <a:pt x="21292" y="15245"/>
                </a:lnTo>
                <a:lnTo>
                  <a:pt x="22587" y="15245"/>
                </a:lnTo>
                <a:lnTo>
                  <a:pt x="22587" y="9120"/>
                </a:lnTo>
                <a:lnTo>
                  <a:pt x="21292" y="91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Img251030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8532720" y="6524640"/>
            <a:ext cx="360360" cy="217440"/>
          </a:xfrm>
          <a:custGeom>
            <a:avLst/>
            <a:gdLst>
              <a:gd name="textAreaLeft" fmla="*/ 13320 w 360360"/>
              <a:gd name="textAreaRight" fmla="*/ 347040 w 360360"/>
              <a:gd name="textAreaTop" fmla="*/ 13320 h 217440"/>
              <a:gd name="textAreaBottom" fmla="*/ 204120 h 217440"/>
            </a:gdLst>
            <a:ahLst/>
            <a:rect l="textAreaLeft" t="textAreaTop" r="textAreaRight" b="textAreaBottom"/>
            <a:pathLst>
              <a:path w="35774" h="21600">
                <a:moveTo>
                  <a:pt x="0" y="0"/>
                </a:moveTo>
                <a:lnTo>
                  <a:pt x="35774" y="0"/>
                </a:lnTo>
                <a:lnTo>
                  <a:pt x="35774" y="21600"/>
                </a:lnTo>
                <a:lnTo>
                  <a:pt x="0" y="21600"/>
                </a:lnTo>
                <a:close/>
              </a:path>
              <a:path fill="lightenLess" w="35774" h="21600">
                <a:moveTo>
                  <a:pt x="0" y="0"/>
                </a:moveTo>
                <a:lnTo>
                  <a:pt x="35774" y="0"/>
                </a:lnTo>
                <a:lnTo>
                  <a:pt x="34424" y="1350"/>
                </a:lnTo>
                <a:lnTo>
                  <a:pt x="1350" y="1350"/>
                </a:lnTo>
                <a:close/>
              </a:path>
              <a:path fill="darken" w="35774" h="21600">
                <a:moveTo>
                  <a:pt x="35774" y="0"/>
                </a:moveTo>
                <a:lnTo>
                  <a:pt x="35774" y="21600"/>
                </a:lnTo>
                <a:lnTo>
                  <a:pt x="34424" y="20250"/>
                </a:lnTo>
                <a:lnTo>
                  <a:pt x="34424" y="1350"/>
                </a:lnTo>
                <a:close/>
              </a:path>
              <a:path fill="darkenLess" w="35774" h="21600">
                <a:moveTo>
                  <a:pt x="3577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424" y="20250"/>
                </a:lnTo>
                <a:close/>
              </a:path>
              <a:path fill="lighten" w="3577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774" h="21600">
                <a:moveTo>
                  <a:pt x="17887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35774" h="21600">
                <a:moveTo>
                  <a:pt x="17887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35774" h="21600">
                <a:moveTo>
                  <a:pt x="15297" y="8210"/>
                </a:moveTo>
                <a:lnTo>
                  <a:pt x="19182" y="8210"/>
                </a:lnTo>
                <a:lnTo>
                  <a:pt x="19182" y="15245"/>
                </a:lnTo>
                <a:lnTo>
                  <a:pt x="20477" y="15245"/>
                </a:lnTo>
                <a:lnTo>
                  <a:pt x="20477" y="16173"/>
                </a:lnTo>
                <a:lnTo>
                  <a:pt x="15297" y="16173"/>
                </a:lnTo>
                <a:lnTo>
                  <a:pt x="15297" y="15245"/>
                </a:lnTo>
                <a:lnTo>
                  <a:pt x="16592" y="15245"/>
                </a:lnTo>
                <a:lnTo>
                  <a:pt x="16592" y="9120"/>
                </a:lnTo>
                <a:lnTo>
                  <a:pt x="15297" y="91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欢庆21"/>
          <p:cNvPicPr/>
          <p:nvPr/>
        </p:nvPicPr>
        <p:blipFill>
          <a:blip r:embed="rId1"/>
          <a:stretch/>
        </p:blipFill>
        <p:spPr>
          <a:xfrm>
            <a:off x="0" y="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世纪坛1"/>
          <p:cNvPicPr/>
          <p:nvPr/>
        </p:nvPicPr>
        <p:blipFill>
          <a:blip r:embed="rId2"/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江泽民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3962520"/>
            <a:ext cx="4038480" cy="275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欢庆3"/>
          <p:cNvPicPr/>
          <p:nvPr/>
        </p:nvPicPr>
        <p:blipFill>
          <a:blip r:embed="rId5"/>
          <a:stretch/>
        </p:blipFill>
        <p:spPr>
          <a:xfrm>
            <a:off x="4952880" y="182880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u=2729278720,2303449167&amp;gp=0"/>
          <p:cNvPicPr/>
          <p:nvPr/>
        </p:nvPicPr>
        <p:blipFill>
          <a:blip r:embed="rId6"/>
          <a:stretch/>
        </p:blipFill>
        <p:spPr>
          <a:xfrm>
            <a:off x="4572000" y="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u=3910801914,2952498741&amp;gp=1"/>
          <p:cNvPicPr/>
          <p:nvPr/>
        </p:nvPicPr>
        <p:blipFill>
          <a:blip r:embed="rId7"/>
          <a:stretch/>
        </p:blipFill>
        <p:spPr>
          <a:xfrm>
            <a:off x="7086600" y="228600"/>
            <a:ext cx="1905120" cy="13651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9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160 w 324000"/>
              <a:gd name="textAreaRight" fmla="*/ 303840 w 324000"/>
              <a:gd name="textAreaTop" fmla="*/ 20160 h 333360"/>
              <a:gd name="textAreaBottom" fmla="*/ 31320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50" y="20873"/>
                </a:lnTo>
                <a:lnTo>
                  <a:pt x="20250" y="135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350" y="20873"/>
                </a:lnTo>
                <a:lnTo>
                  <a:pt x="20250" y="2087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350" y="1350"/>
                </a:lnTo>
                <a:lnTo>
                  <a:pt x="1350" y="20873"/>
                </a:lnTo>
                <a:close/>
              </a:path>
              <a:path fill="darken" w="21600" h="22223">
                <a:moveTo>
                  <a:pt x="10800" y="4068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2223">
                <a:moveTo>
                  <a:pt x="10800" y="4444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2223">
                <a:moveTo>
                  <a:pt x="8210" y="8522"/>
                </a:moveTo>
                <a:lnTo>
                  <a:pt x="12095" y="8522"/>
                </a:lnTo>
                <a:lnTo>
                  <a:pt x="12095" y="15557"/>
                </a:lnTo>
                <a:lnTo>
                  <a:pt x="13390" y="15557"/>
                </a:lnTo>
                <a:lnTo>
                  <a:pt x="13390" y="16484"/>
                </a:lnTo>
                <a:lnTo>
                  <a:pt x="8210" y="16484"/>
                </a:lnTo>
                <a:lnTo>
                  <a:pt x="8210" y="15557"/>
                </a:lnTo>
                <a:lnTo>
                  <a:pt x="9505" y="15557"/>
                </a:lnTo>
                <a:lnTo>
                  <a:pt x="9505" y="9432"/>
                </a:lnTo>
                <a:lnTo>
                  <a:pt x="8210" y="943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051" descr="欢庆1"/>
          <p:cNvPicPr/>
          <p:nvPr/>
        </p:nvPicPr>
        <p:blipFill>
          <a:blip r:embed="rId1"/>
          <a:stretch/>
        </p:blipFill>
        <p:spPr>
          <a:xfrm>
            <a:off x="0" y="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53" descr="挥国旗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2056">
            <a:hlinkClick r:id="" action="ppaction://hlinkshowjump?jump=nextslide"/>
          </p:cNvPr>
          <p:cNvSpPr/>
          <p:nvPr/>
        </p:nvSpPr>
        <p:spPr>
          <a:xfrm>
            <a:off x="8381880" y="6400800"/>
            <a:ext cx="576360" cy="304920"/>
          </a:xfrm>
          <a:custGeom>
            <a:avLst/>
            <a:gdLst>
              <a:gd name="textAreaLeft" fmla="*/ 19080 w 576360"/>
              <a:gd name="textAreaRight" fmla="*/ 557640 w 57636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40806" h="21600">
                <a:moveTo>
                  <a:pt x="0" y="0"/>
                </a:moveTo>
                <a:lnTo>
                  <a:pt x="40806" y="0"/>
                </a:lnTo>
                <a:lnTo>
                  <a:pt x="40806" y="21600"/>
                </a:lnTo>
                <a:lnTo>
                  <a:pt x="0" y="21600"/>
                </a:lnTo>
                <a:close/>
              </a:path>
              <a:path fill="lightenLess" w="40806" h="21600">
                <a:moveTo>
                  <a:pt x="0" y="0"/>
                </a:moveTo>
                <a:lnTo>
                  <a:pt x="40806" y="0"/>
                </a:lnTo>
                <a:lnTo>
                  <a:pt x="39456" y="1350"/>
                </a:lnTo>
                <a:lnTo>
                  <a:pt x="1350" y="1350"/>
                </a:lnTo>
                <a:close/>
              </a:path>
              <a:path fill="darken" w="40806" h="21600">
                <a:moveTo>
                  <a:pt x="40806" y="0"/>
                </a:moveTo>
                <a:lnTo>
                  <a:pt x="40806" y="21600"/>
                </a:lnTo>
                <a:lnTo>
                  <a:pt x="39456" y="20250"/>
                </a:lnTo>
                <a:lnTo>
                  <a:pt x="39456" y="1350"/>
                </a:lnTo>
                <a:close/>
              </a:path>
              <a:path fill="darkenLess" w="40806" h="21600">
                <a:moveTo>
                  <a:pt x="408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9456" y="20250"/>
                </a:lnTo>
                <a:close/>
              </a:path>
              <a:path fill="lighten" w="408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0806" h="21600">
                <a:moveTo>
                  <a:pt x="23920" y="10800"/>
                </a:moveTo>
                <a:lnTo>
                  <a:pt x="13359" y="17844"/>
                </a:lnTo>
                <a:lnTo>
                  <a:pt x="13359" y="3756"/>
                </a:lnTo>
                <a:close/>
              </a:path>
              <a:path fill="darken" w="40806" h="21600">
                <a:moveTo>
                  <a:pt x="25775" y="3756"/>
                </a:moveTo>
                <a:lnTo>
                  <a:pt x="25775" y="17844"/>
                </a:lnTo>
                <a:lnTo>
                  <a:pt x="27447" y="17844"/>
                </a:lnTo>
                <a:lnTo>
                  <a:pt x="27447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58"/>
          <p:cNvSpPr/>
          <p:nvPr/>
        </p:nvSpPr>
        <p:spPr>
          <a:xfrm>
            <a:off x="0" y="4114800"/>
            <a:ext cx="91440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挥舞着国旗，在欢庆的锣鼓声中一遍遍高呼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57200" y="260280"/>
            <a:ext cx="86868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挥舞着国旗，在欢庆的锣鼓声中一遍遍高呼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24000" y="3789360"/>
            <a:ext cx="85341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世纪坛人如海，歌如潮。人们相互击掌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互拥抱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激动的泪水尽情流淌 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>
            <a:hlinkClick r:id="" action="ppaction://hlinkshowjump?jump=nextslide"/>
          </p:cNvPr>
          <p:cNvSpPr/>
          <p:nvPr/>
        </p:nvSpPr>
        <p:spPr>
          <a:xfrm>
            <a:off x="7956720" y="6093000"/>
            <a:ext cx="576000" cy="360360"/>
          </a:xfrm>
          <a:custGeom>
            <a:avLst/>
            <a:gdLst>
              <a:gd name="textAreaLeft" fmla="*/ 22320 w 576000"/>
              <a:gd name="textAreaRight" fmla="*/ 553680 w 57600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63" y="1350"/>
                </a:lnTo>
                <a:lnTo>
                  <a:pt x="1350" y="135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63" y="20250"/>
                </a:lnTo>
                <a:lnTo>
                  <a:pt x="33163" y="135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63" y="2025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13" h="21600">
                <a:moveTo>
                  <a:pt x="20774" y="10800"/>
                </a:moveTo>
                <a:lnTo>
                  <a:pt x="10213" y="17844"/>
                </a:lnTo>
                <a:lnTo>
                  <a:pt x="10213" y="3756"/>
                </a:lnTo>
                <a:close/>
              </a:path>
              <a:path fill="darken" w="34513" h="21600">
                <a:moveTo>
                  <a:pt x="22629" y="3756"/>
                </a:moveTo>
                <a:lnTo>
                  <a:pt x="22629" y="17844"/>
                </a:lnTo>
                <a:lnTo>
                  <a:pt x="24300" y="17844"/>
                </a:lnTo>
                <a:lnTo>
                  <a:pt x="24300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">
            <a:hlinkClick r:id="" action="ppaction://hlinkshowjump?jump=previousslide"/>
          </p:cNvPr>
          <p:cNvSpPr/>
          <p:nvPr/>
        </p:nvSpPr>
        <p:spPr>
          <a:xfrm>
            <a:off x="7308720" y="609300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11562" y="10800"/>
                </a:moveTo>
                <a:lnTo>
                  <a:pt x="22123" y="3756"/>
                </a:lnTo>
                <a:lnTo>
                  <a:pt x="22123" y="17844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9707" y="3756"/>
                </a:lnTo>
                <a:lnTo>
                  <a:pt x="9707" y="17844"/>
                </a:lnTo>
                <a:lnTo>
                  <a:pt x="8035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礼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-6039720" y="3046320"/>
            <a:ext cx="449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讯  传  约    聚  挥  锣  呼    击  拥  抱   泪   泽            克  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欢庆21"/>
          <p:cNvPicPr/>
          <p:nvPr/>
        </p:nvPicPr>
        <p:blipFill>
          <a:blip r:embed="rId3"/>
          <a:stretch/>
        </p:blipFill>
        <p:spPr>
          <a:xfrm>
            <a:off x="0" y="0"/>
            <a:ext cx="4191120" cy="2766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世纪坛1"/>
          <p:cNvPicPr/>
          <p:nvPr/>
        </p:nvPicPr>
        <p:blipFill>
          <a:blip r:embed="rId4"/>
          <a:stretch/>
        </p:blipFill>
        <p:spPr>
          <a:xfrm>
            <a:off x="0" y="2819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u=2729278720,2303449167&amp;gp=0"/>
          <p:cNvPicPr/>
          <p:nvPr/>
        </p:nvPicPr>
        <p:blipFill>
          <a:blip r:embed="rId5"/>
          <a:stretch/>
        </p:blipFill>
        <p:spPr>
          <a:xfrm>
            <a:off x="4572000" y="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u=3910801914,2952498741&amp;gp=1"/>
          <p:cNvPicPr/>
          <p:nvPr/>
        </p:nvPicPr>
        <p:blipFill>
          <a:blip r:embed="rId6"/>
          <a:stretch/>
        </p:blipFill>
        <p:spPr>
          <a:xfrm>
            <a:off x="7086600" y="228600"/>
            <a:ext cx="1905120" cy="136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欢庆3"/>
          <p:cNvPicPr/>
          <p:nvPr/>
        </p:nvPicPr>
        <p:blipFill>
          <a:blip r:embed="rId7"/>
          <a:stretch/>
        </p:blipFill>
        <p:spPr>
          <a:xfrm>
            <a:off x="5029200" y="167652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江泽民"/>
          <p:cNvPicPr/>
          <p:nvPr/>
        </p:nvPicPr>
        <p:blipFill>
          <a:blip r:embed="rId8"/>
          <a:stretch/>
        </p:blipFill>
        <p:spPr>
          <a:xfrm>
            <a:off x="4572000" y="3733920"/>
            <a:ext cx="4038480" cy="27590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1">
            <a:hlinkClick r:id="" action="ppaction://hlinkshowjump?jump=nextslide"/>
          </p:cNvPr>
          <p:cNvSpPr/>
          <p:nvPr/>
        </p:nvSpPr>
        <p:spPr>
          <a:xfrm>
            <a:off x="8153280" y="649764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20785" y="10800"/>
                </a:moveTo>
                <a:lnTo>
                  <a:pt x="10223" y="17844"/>
                </a:lnTo>
                <a:lnTo>
                  <a:pt x="10223" y="3756"/>
                </a:lnTo>
                <a:close/>
              </a:path>
              <a:path fill="darken" w="34534" h="21600">
                <a:moveTo>
                  <a:pt x="22640" y="3756"/>
                </a:moveTo>
                <a:lnTo>
                  <a:pt x="22640" y="17844"/>
                </a:lnTo>
                <a:lnTo>
                  <a:pt x="24311" y="17844"/>
                </a:lnTo>
                <a:lnTo>
                  <a:pt x="24311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3">
            <a:hlinkClick r:id="" action="ppaction://hlinkshowjump?jump=previousslide"/>
          </p:cNvPr>
          <p:cNvSpPr/>
          <p:nvPr/>
        </p:nvSpPr>
        <p:spPr>
          <a:xfrm>
            <a:off x="7467480" y="6497640"/>
            <a:ext cx="503280" cy="36036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808" y="1350"/>
                </a:lnTo>
                <a:lnTo>
                  <a:pt x="1350" y="135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808" y="20250"/>
                </a:lnTo>
                <a:lnTo>
                  <a:pt x="28808" y="135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08" y="2025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158" h="21600">
                <a:moveTo>
                  <a:pt x="11562" y="10800"/>
                </a:moveTo>
                <a:lnTo>
                  <a:pt x="22123" y="3756"/>
                </a:lnTo>
                <a:lnTo>
                  <a:pt x="22123" y="17844"/>
                </a:lnTo>
                <a:close/>
              </a:path>
              <a:path fill="darken" w="30158" h="21600">
                <a:moveTo>
                  <a:pt x="8035" y="3756"/>
                </a:moveTo>
                <a:lnTo>
                  <a:pt x="9707" y="3756"/>
                </a:lnTo>
                <a:lnTo>
                  <a:pt x="9707" y="17844"/>
                </a:lnTo>
                <a:lnTo>
                  <a:pt x="8035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五环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奥林  匹克旗帜将在中国北京高高飘扬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6" descr="jing"/>
          <p:cNvPicPr/>
          <p:nvPr/>
        </p:nvPicPr>
        <p:blipFill>
          <a:blip r:embed="rId1"/>
          <a:stretch/>
        </p:blipFill>
        <p:spPr>
          <a:xfrm>
            <a:off x="228600" y="373392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五环旗"/>
          <p:cNvPicPr/>
          <p:nvPr/>
        </p:nvPicPr>
        <p:blipFill>
          <a:blip r:embed="rId2"/>
          <a:stretch/>
        </p:blipFill>
        <p:spPr>
          <a:xfrm>
            <a:off x="4495680" y="3733920"/>
            <a:ext cx="4206960" cy="283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，，"/>
          <p:cNvPicPr/>
          <p:nvPr/>
        </p:nvPicPr>
        <p:blipFill>
          <a:blip r:embed="rId1"/>
          <a:stretch/>
        </p:blipFill>
        <p:spPr>
          <a:xfrm>
            <a:off x="-36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971800" y="2133720"/>
            <a:ext cx="38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809880" y="2209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581280" y="16002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留言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066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2720" y="5877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BCA-5949-4341-8628-21515E058831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WordArt 1027" descr=""/>
          <p:cNvPicPr/>
          <p:nvPr/>
        </p:nvPicPr>
        <p:blipFill>
          <a:blip r:embed="rId1"/>
          <a:stretch/>
        </p:blipFill>
        <p:spPr>
          <a:xfrm>
            <a:off x="993600" y="987480"/>
            <a:ext cx="6656400" cy="2243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29"/>
          <p:cNvSpPr/>
          <p:nvPr/>
        </p:nvSpPr>
        <p:spPr>
          <a:xfrm>
            <a:off x="762120" y="762120"/>
            <a:ext cx="73911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的夜晚，北京申办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奥运会成功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30" descr="33333"/>
          <p:cNvPicPr/>
          <p:nvPr/>
        </p:nvPicPr>
        <p:blipFill>
          <a:blip r:embed="rId2"/>
          <a:stretch/>
        </p:blipFill>
        <p:spPr>
          <a:xfrm>
            <a:off x="533520" y="5105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31" descr="33333"/>
          <p:cNvPicPr/>
          <p:nvPr/>
        </p:nvPicPr>
        <p:blipFill>
          <a:blip r:embed="rId3"/>
          <a:stretch/>
        </p:blipFill>
        <p:spPr>
          <a:xfrm>
            <a:off x="1676520" y="58672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32" descr="33333"/>
          <p:cNvPicPr/>
          <p:nvPr/>
        </p:nvPicPr>
        <p:blipFill>
          <a:blip r:embed="rId4"/>
          <a:stretch/>
        </p:blipFill>
        <p:spPr>
          <a:xfrm>
            <a:off x="274320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33" descr="33333"/>
          <p:cNvPicPr/>
          <p:nvPr/>
        </p:nvPicPr>
        <p:blipFill>
          <a:blip r:embed="rId5"/>
          <a:stretch/>
        </p:blipFill>
        <p:spPr>
          <a:xfrm>
            <a:off x="4952880" y="54100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4" descr="33333"/>
          <p:cNvPicPr/>
          <p:nvPr/>
        </p:nvPicPr>
        <p:blipFill>
          <a:blip r:embed="rId6"/>
          <a:stretch/>
        </p:blipFill>
        <p:spPr>
          <a:xfrm>
            <a:off x="6095880" y="49528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5" descr="33333"/>
          <p:cNvPicPr/>
          <p:nvPr/>
        </p:nvPicPr>
        <p:blipFill>
          <a:blip r:embed="rId7"/>
          <a:stretch/>
        </p:blipFill>
        <p:spPr>
          <a:xfrm>
            <a:off x="7620120" y="57150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36" descr="33333"/>
          <p:cNvPicPr/>
          <p:nvPr/>
        </p:nvPicPr>
        <p:blipFill>
          <a:blip r:embed="rId8"/>
          <a:stretch/>
        </p:blipFill>
        <p:spPr>
          <a:xfrm>
            <a:off x="3505320" y="5715000"/>
            <a:ext cx="1074600" cy="388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39">
            <a:hlinkClick r:id="" action="ppaction://hlinkshowjump?jump=nextslide"/>
          </p:cNvPr>
          <p:cNvSpPr/>
          <p:nvPr/>
        </p:nvSpPr>
        <p:spPr>
          <a:xfrm>
            <a:off x="7885080" y="6237360"/>
            <a:ext cx="576360" cy="360360"/>
          </a:xfrm>
          <a:custGeom>
            <a:avLst/>
            <a:gdLst>
              <a:gd name="textAreaLeft" fmla="*/ 22320 w 576360"/>
              <a:gd name="textAreaRight" fmla="*/ 554040 w 5763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84" y="1350"/>
                </a:lnTo>
                <a:lnTo>
                  <a:pt x="1350" y="135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84" y="20250"/>
                </a:lnTo>
                <a:lnTo>
                  <a:pt x="33184" y="135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84" y="2025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34" h="21600">
                <a:moveTo>
                  <a:pt x="20785" y="10800"/>
                </a:moveTo>
                <a:lnTo>
                  <a:pt x="10223" y="17844"/>
                </a:lnTo>
                <a:lnTo>
                  <a:pt x="10223" y="3756"/>
                </a:lnTo>
                <a:close/>
              </a:path>
              <a:path fill="darken" w="34534" h="21600">
                <a:moveTo>
                  <a:pt x="22640" y="3756"/>
                </a:moveTo>
                <a:lnTo>
                  <a:pt x="22640" y="17844"/>
                </a:lnTo>
                <a:lnTo>
                  <a:pt x="24311" y="17844"/>
                </a:lnTo>
                <a:lnTo>
                  <a:pt x="24311" y="37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大萨"/>
          <p:cNvPicPr/>
          <p:nvPr/>
        </p:nvPicPr>
        <p:blipFill>
          <a:blip r:embed="rId1"/>
          <a:stretch/>
        </p:blipFill>
        <p:spPr>
          <a:xfrm>
            <a:off x="0" y="0"/>
            <a:ext cx="28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代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0"/>
            <a:ext cx="4319640" cy="350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达标"/>
          <p:cNvPicPr/>
          <p:nvPr/>
        </p:nvPicPr>
        <p:blipFill>
          <a:blip r:embed="rId4"/>
          <a:stretch/>
        </p:blipFill>
        <p:spPr>
          <a:xfrm>
            <a:off x="0" y="3573360"/>
            <a:ext cx="3816360" cy="304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实际谈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7280" y="3645000"/>
            <a:ext cx="2035080" cy="321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_995065202_01071441"/>
          <p:cNvPicPr/>
          <p:nvPr/>
        </p:nvPicPr>
        <p:blipFill>
          <a:blip r:embed="rId7"/>
          <a:stretch/>
        </p:blipFill>
        <p:spPr>
          <a:xfrm>
            <a:off x="6300720" y="3500280"/>
            <a:ext cx="2843280" cy="335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欢庆3"/>
          <p:cNvPicPr/>
          <p:nvPr/>
        </p:nvPicPr>
        <p:blipFill>
          <a:blip r:embed="rId8"/>
          <a:stretch/>
        </p:blipFill>
        <p:spPr>
          <a:xfrm>
            <a:off x="7308720" y="0"/>
            <a:ext cx="1835280" cy="3398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28"/>
          <p:cNvSpPr/>
          <p:nvPr/>
        </p:nvSpPr>
        <p:spPr>
          <a:xfrm>
            <a:off x="324000" y="223920"/>
            <a:ext cx="8820000" cy="75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成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功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奥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运  喜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讯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传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说 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约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定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聚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集  </a:t>
            </a: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挥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舞   </a:t>
            </a: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锣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鼓    欢</a:t>
            </a:r>
            <a:r>
              <a:rPr b="1" lang="zh-CN" sz="66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呼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打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击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拥抱  任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何  眼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泪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流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淌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光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泽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克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服 奥林匹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克</a:t>
            </a: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飘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2743200"/>
            <a:ext cx="7991640" cy="41148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００１年７月１３日的夜晚，北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京申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办２００８年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奥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会成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功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喜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讯传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，人们不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同地涌上街头，北京立刻变成了欢乐的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u=3910801914,2952498741&amp;gp=1"/>
          <p:cNvPicPr/>
          <p:nvPr/>
        </p:nvPicPr>
        <p:blipFill>
          <a:blip r:embed="rId1"/>
          <a:stretch/>
        </p:blipFill>
        <p:spPr>
          <a:xfrm>
            <a:off x="5580000" y="228600"/>
            <a:ext cx="3411720" cy="24447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8675640" y="5300640"/>
            <a:ext cx="217440" cy="289080"/>
          </a:xfrm>
          <a:custGeom>
            <a:avLst/>
            <a:gdLst>
              <a:gd name="textAreaLeft" fmla="*/ 13320 w 217440"/>
              <a:gd name="textAreaRight" fmla="*/ 204120 w 217440"/>
              <a:gd name="textAreaTop" fmla="*/ 13320 h 289080"/>
              <a:gd name="textAreaBottom" fmla="*/ 275760 h 289080"/>
            </a:gdLst>
            <a:ahLst/>
            <a:rect l="textAreaLeft" t="textAreaTop" r="textAreaRight" b="textAreaBottom"/>
            <a:pathLst>
              <a:path w="21600" h="28705">
                <a:moveTo>
                  <a:pt x="0" y="0"/>
                </a:moveTo>
                <a:lnTo>
                  <a:pt x="21600" y="0"/>
                </a:lnTo>
                <a:lnTo>
                  <a:pt x="21600" y="28705"/>
                </a:lnTo>
                <a:lnTo>
                  <a:pt x="0" y="28705"/>
                </a:lnTo>
                <a:close/>
              </a:path>
              <a:path fill="lightenLess" w="21600" h="2870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705">
                <a:moveTo>
                  <a:pt x="21600" y="0"/>
                </a:moveTo>
                <a:lnTo>
                  <a:pt x="21600" y="28705"/>
                </a:lnTo>
                <a:lnTo>
                  <a:pt x="20250" y="27355"/>
                </a:lnTo>
                <a:lnTo>
                  <a:pt x="20250" y="1350"/>
                </a:lnTo>
                <a:close/>
              </a:path>
              <a:path fill="darkenLess" w="21600" h="28705">
                <a:moveTo>
                  <a:pt x="21600" y="28705"/>
                </a:moveTo>
                <a:lnTo>
                  <a:pt x="0" y="28705"/>
                </a:lnTo>
                <a:lnTo>
                  <a:pt x="1350" y="27355"/>
                </a:lnTo>
                <a:lnTo>
                  <a:pt x="20250" y="27355"/>
                </a:lnTo>
                <a:close/>
              </a:path>
              <a:path fill="lighten" w="21600" h="28705">
                <a:moveTo>
                  <a:pt x="0" y="28705"/>
                </a:moveTo>
                <a:lnTo>
                  <a:pt x="0" y="0"/>
                </a:lnTo>
                <a:lnTo>
                  <a:pt x="1350" y="1350"/>
                </a:lnTo>
                <a:lnTo>
                  <a:pt x="1350" y="27355"/>
                </a:lnTo>
                <a:close/>
              </a:path>
              <a:path fill="darken" w="21600" h="28705">
                <a:moveTo>
                  <a:pt x="10800" y="7309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8705">
                <a:moveTo>
                  <a:pt x="10800" y="7685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8705">
                <a:moveTo>
                  <a:pt x="8210" y="11762"/>
                </a:moveTo>
                <a:lnTo>
                  <a:pt x="12095" y="11762"/>
                </a:lnTo>
                <a:lnTo>
                  <a:pt x="12095" y="18797"/>
                </a:lnTo>
                <a:lnTo>
                  <a:pt x="13390" y="18797"/>
                </a:lnTo>
                <a:lnTo>
                  <a:pt x="13390" y="19725"/>
                </a:lnTo>
                <a:lnTo>
                  <a:pt x="8210" y="19725"/>
                </a:lnTo>
                <a:lnTo>
                  <a:pt x="8210" y="18797"/>
                </a:lnTo>
                <a:lnTo>
                  <a:pt x="9505" y="18797"/>
                </a:lnTo>
                <a:lnTo>
                  <a:pt x="9505" y="12672"/>
                </a:lnTo>
                <a:lnTo>
                  <a:pt x="8210" y="12672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284720" y="765000"/>
            <a:ext cx="4248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天安门广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聚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了几十万群众。人们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挥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舞着国旗，在欢庆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声中一遍遍高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成功了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爱北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国万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挥国旗"/>
          <p:cNvPicPr/>
          <p:nvPr/>
        </p:nvPicPr>
        <p:blipFill>
          <a:blip r:embed="rId1"/>
          <a:stretch/>
        </p:blipFill>
        <p:spPr>
          <a:xfrm>
            <a:off x="0" y="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8101080" y="6237360"/>
            <a:ext cx="358560" cy="360360"/>
          </a:xfrm>
          <a:custGeom>
            <a:avLst/>
            <a:gdLst>
              <a:gd name="textAreaLeft" fmla="*/ 22320 w 358560"/>
              <a:gd name="textAreaRight" fmla="*/ 336240 w 3585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50" y="20358"/>
                </a:lnTo>
                <a:lnTo>
                  <a:pt x="20250" y="135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350" y="20358"/>
                </a:lnTo>
                <a:lnTo>
                  <a:pt x="20250" y="2035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58"/>
                </a:lnTo>
                <a:close/>
              </a:path>
              <a:path fill="darken" w="21600" h="21708">
                <a:moveTo>
                  <a:pt x="10800" y="3810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708">
                <a:moveTo>
                  <a:pt x="10800" y="4187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708">
                <a:moveTo>
                  <a:pt x="8210" y="8264"/>
                </a:moveTo>
                <a:lnTo>
                  <a:pt x="12095" y="8264"/>
                </a:lnTo>
                <a:lnTo>
                  <a:pt x="12095" y="15299"/>
                </a:lnTo>
                <a:lnTo>
                  <a:pt x="13390" y="15299"/>
                </a:lnTo>
                <a:lnTo>
                  <a:pt x="13390" y="16227"/>
                </a:lnTo>
                <a:lnTo>
                  <a:pt x="8210" y="16227"/>
                </a:lnTo>
                <a:lnTo>
                  <a:pt x="8210" y="15299"/>
                </a:lnTo>
                <a:lnTo>
                  <a:pt x="9505" y="15299"/>
                </a:lnTo>
                <a:lnTo>
                  <a:pt x="9505" y="9174"/>
                </a:lnTo>
                <a:lnTo>
                  <a:pt x="8210" y="917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中华世纪坛人如海，歌如潮。人们相互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互拥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激动的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尽情流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江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主席等国家领导人来到欢乐的人群中，与大家同欢呼，共歌唱，把庆祝活动推向高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欢庆1"/>
          <p:cNvPicPr/>
          <p:nvPr/>
        </p:nvPicPr>
        <p:blipFill>
          <a:blip r:embed="rId1"/>
          <a:stretch/>
        </p:blipFill>
        <p:spPr>
          <a:xfrm>
            <a:off x="0" y="3276720"/>
            <a:ext cx="5181480" cy="35812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8"/>
          <p:cNvSpPr/>
          <p:nvPr/>
        </p:nvSpPr>
        <p:spPr>
          <a:xfrm>
            <a:off x="7885080" y="5373720"/>
            <a:ext cx="216000" cy="216000"/>
          </a:xfrm>
          <a:custGeom>
            <a:avLst/>
            <a:gdLst>
              <a:gd name="textAreaLeft" fmla="*/ 13320 w 216000"/>
              <a:gd name="textAreaRight" fmla="*/ 202680 w 21600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11:53Z</dcterms:created>
  <dc:creator>An</dc:creator>
  <dc:description/>
  <cp:keywords>幻灯片之家 http:/www.eeppt.com</cp:keywords>
  <dc:language>en-US</dc:language>
  <cp:lastModifiedBy/>
  <dcterms:modified xsi:type="dcterms:W3CDTF">2015-07-14T03:13:22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