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7F440-0788-4BEA-8EA6-AFB914C4B65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E2D3E-02DD-459D-8759-E94B31E80A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E3CBD3-8BA0-47E7-9850-35A7427893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68378-A09D-4393-9D15-BC44631BC2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88E5-FD04-4868-B1DB-2B68911C1C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F40EE-98BE-4FD7-BD3A-5E5303D2CCC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8A9D1E-ACDB-415C-A3B3-866313833B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3E77C-92EE-4905-9B50-5B425BB5E88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EC9E7F-2F89-4AA1-AF1A-E078CF76075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B2231C-64DF-422E-B6EE-12D4C4B4FB7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DE470-4E69-49FE-A8F5-CD7D4B4953F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A4503-B7DD-47D4-B8AE-FFCA40D54BE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ED328-5B77-45DE-BC67-C5FBCB99796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E4534-24CD-472A-8077-2C33B9DDFA9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D9520-4EEF-4932-9600-BBCE903125C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9944B-B083-4D73-9CBE-E7C92709135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3C142-DFD6-4D4E-A262-F0A475991EB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D67F50-0650-4C20-B03B-4D0231694E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FCF8A3-8BF1-4B8D-A44C-26DFCDFEA1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E5C5D-5BF5-4545-81C3-8A52753000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BB32A1-3908-4BCB-97B9-DFA456B1439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260699-03FA-49D4-B537-F3C2354C31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2B7D4-15FB-4B26-825F-7A5D2A528E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B1254E-E39E-463A-9AFD-FBA14EBD16C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5BE17-CC3F-4555-85CF-C469B3B71566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1FAFC-8717-42D1-A0D2-9F0ED797667E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79280" y="1557000"/>
            <a:ext cx="662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99"/>
                </a:solidFill>
                <a:latin typeface="Arial"/>
              </a:rPr>
              <a:t>《教育心理学》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564000" y="3068640"/>
            <a:ext cx="4929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   </a:t>
            </a:r>
            <a:r>
              <a:rPr b="1" lang="zh-CN" sz="7200" spc="-1" strike="noStrike">
                <a:solidFill>
                  <a:srgbClr val="007a77"/>
                </a:solidFill>
                <a:latin typeface="Arial"/>
              </a:rPr>
              <a:t>导学策略</a:t>
            </a:r>
            <a:endParaRPr b="0" lang="en-US" sz="7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03480" y="4835520"/>
            <a:ext cx="4124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908000" y="5084640"/>
            <a:ext cx="439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          </a:t>
            </a:r>
            <a:r>
              <a:rPr b="0" lang="zh-CN" sz="3200" spc="-1" strike="noStrike">
                <a:solidFill>
                  <a:srgbClr val="dc5900"/>
                </a:solidFill>
                <a:latin typeface="Arial"/>
              </a:rPr>
              <a:t>作者：</a:t>
            </a:r>
            <a:r>
              <a:rPr b="0" lang="en-US" sz="3200" spc="-1" strike="noStrike">
                <a:solidFill>
                  <a:srgbClr val="dc5900"/>
                </a:solidFill>
                <a:latin typeface="Arial"/>
              </a:rPr>
              <a:t>XXX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四、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方法分析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二）建议采用的学习方法：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以自学为主，认真钻研教材，理解学习内容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；这一点一定要落到实处，否则“以自学为主”就是一句空话；不过按照“三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L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教学模式”的设想，这里的“自学”有更为丰富的含义：除了同学自己钻研教材外，还应借助其它媒体的教材，如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PPT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课件、电子教案等，以求收到事半功倍之效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以参加面授为辅。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首先，以下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三节课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必须参加——开学第一课、期中考试、期末复习课。因为这三节课在整个学习过程中起着至关重要的关键作用；其次，在学习中遇到难题时，应随时到校与老师当面交流；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24839-5C4A-4331-9B96-FA7086DD95E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0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01680" y="1052640"/>
            <a:ext cx="8540640" cy="504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充分利用多媒体教材及远程教育的优势。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如通过网络平台与老师、同学及时交流，以弥补不能到校上课的不足；另外，对每一章的教学内容，面授教师都会将重点、难点提炼出来，制成电子教案在校园网上发布，以帮助那些不能到校上课的同学跟上教学进度；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本课程兼具理论性、实用性，是一门基础理论与应用学科。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因此，同学们在教学实践中应做个有心人，理论联系实际，在做中学，这样的学习才是更有效、更扎实的学习，效果也一定更好。比如，同一单位的同学，可以组成学习小组，在教学中遇到问题及时讨论，加深对理论知识的理解，促进教育教学工作；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、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在学习中，既要学习知识，更要注重正确运用学习策略，以提高学习效率。</a:t>
            </a:r>
            <a:r>
              <a:rPr b="0" lang="zh-CN" sz="2000" spc="-1" strike="noStrike">
                <a:solidFill>
                  <a:srgbClr val="007a77"/>
                </a:solidFill>
                <a:latin typeface="Arial"/>
              </a:rPr>
              <a:t>如可根据不同的学习材料选用不同的认知策略。如“案例分析”这种题型，就应该采取“理解策略”，即不必强记每个案例的具体答案，而是要掌握答题的基本方法、步骤，这样才能举一反三，一通百通。</a:t>
            </a:r>
            <a:endParaRPr b="0" lang="en-US" sz="2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FF6DE7-F1A4-4675-86DB-EE18E9CF8B1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5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5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五、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应试指导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平时不能坚持自学或从不到校上课的同学，一定要上好复习课，临阵磨枪也许还来得及；而平时能坚持学习的同学，也要下功夫认真复习；不管属于哪一种情况，同学们都应采用“获取与编码”的学习策略，即根据知识的特征和类别进行整理、归纳，将所学的知识条理化、有序化、意义化，在此基础上融会贯通，全面记忆、理解、把握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由于是中央电大命题，所以复习范围可能会比较大，平时学习不够扎实的同学可能需要付出更多的努力，才能通过考试；对此要有足够的心理准备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考试时充分发挥职业优势，即理解力强、语言表达能力强的特点，在案例分析、论述题这两个题型上拿到足够的分数，以确保及格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1690FA-CF92-4609-A252-7CB87B4E5E5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0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4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8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53964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一言以蔽之，教育心理学不仅仅是一门必考课目，更是指导我们教育教学实践的有力武器。作为一个学生，应该学好这门课程，以求通过考试；作为一个教师，更应该学好这门课程，这样才能掌握教学过程中的心理规律及特点，有的放矢地教与学；以自己心中的教育情怀，春风化雨般地滋润着学生渴望知识的心灵，让学生的智慧因学习而丰沛，生命因教育而充盈。让我们以此共勉！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53367-F236-41AC-A9B9-2063DBA2DC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fill="hold">
                      <p:stCondLst>
                        <p:cond delay="0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autoRev="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4" dur="2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7a77"/>
                </a:solidFill>
                <a:latin typeface="Arial"/>
              </a:rPr>
              <a:t>             </a:t>
            </a:r>
            <a:r>
              <a:rPr b="0" lang="zh-CN" sz="6600" spc="-1" strike="noStrike">
                <a:solidFill>
                  <a:srgbClr val="007a77"/>
                </a:solidFill>
                <a:latin typeface="黑体"/>
                <a:ea typeface="黑体"/>
              </a:rPr>
              <a:t>谢 谢</a:t>
            </a:r>
            <a:endParaRPr b="0" lang="en-US" sz="66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                 </a:t>
            </a:r>
            <a:r>
              <a:rPr b="0" lang="zh-CN" sz="2400" spc="-1" strike="noStrike">
                <a:solidFill>
                  <a:srgbClr val="dc5900"/>
                </a:solidFill>
                <a:latin typeface="Arial"/>
              </a:rPr>
              <a:t>《教育心理学》辅导教师 </a:t>
            </a:r>
            <a:r>
              <a:rPr b="0" lang="en-US" sz="2400" spc="-1" strike="noStrike">
                <a:solidFill>
                  <a:srgbClr val="dc5900"/>
                </a:solidFill>
                <a:latin typeface="Arial"/>
              </a:rPr>
              <a:t>XXX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                                       </a:t>
            </a:r>
            <a:r>
              <a:rPr b="0" lang="en-US" sz="2400" spc="-1" strike="noStrike">
                <a:solidFill>
                  <a:srgbClr val="dc5900"/>
                </a:solidFill>
                <a:latin typeface="Arial"/>
              </a:rPr>
              <a:t>20XX</a:t>
            </a:r>
            <a:r>
              <a:rPr b="0" lang="zh-CN" sz="2400" spc="-1" strike="noStrike">
                <a:solidFill>
                  <a:srgbClr val="dc5900"/>
                </a:solidFill>
                <a:latin typeface="Arial"/>
              </a:rPr>
              <a:t>年</a:t>
            </a:r>
            <a:r>
              <a:rPr b="0" lang="en-US" sz="2400" spc="-1" strike="noStrike">
                <a:solidFill>
                  <a:srgbClr val="dc5900"/>
                </a:solidFill>
                <a:latin typeface="Arial"/>
              </a:rPr>
              <a:t>XX</a:t>
            </a:r>
            <a:r>
              <a:rPr b="0" lang="zh-CN" sz="2400" spc="-1" strike="noStrike">
                <a:solidFill>
                  <a:srgbClr val="dc5900"/>
                </a:solidFill>
                <a:latin typeface="Arial"/>
              </a:rPr>
              <a:t>月</a:t>
            </a:r>
            <a:r>
              <a:rPr b="0" lang="en-US" sz="2400" spc="-1" strike="noStrike">
                <a:solidFill>
                  <a:srgbClr val="dc5900"/>
                </a:solidFill>
                <a:latin typeface="Arial"/>
              </a:rPr>
              <a:t>XX</a:t>
            </a:r>
            <a:r>
              <a:rPr b="0" lang="zh-CN" sz="2400" spc="-1" strike="noStrike">
                <a:solidFill>
                  <a:srgbClr val="dc5900"/>
                </a:solidFill>
                <a:latin typeface="Arial"/>
              </a:rPr>
              <a:t>日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F49D-27C9-4FE5-BE2F-19249570D3AF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180" dur="2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一、课程简介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二、学习目标陈述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三、学习内容分析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四、学习方法分析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五、应试指导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97BB8-F46B-495C-851B-33CEB16B567E}" type="slidenum">
              <a:t>2</a:t>
            </a:fld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00"/>
                            </p:stCondLst>
                            <p:childTnLst>
                              <p:par>
                                <p:cTn id="4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一、课程简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一）课程性质、特点、教材：《教育心理学》是中央广播电视大学“人才培养模式改革和开放教育试点”教育管理专业（本科）开设的一门必修课。它既具有一定的理论性，又具有很强的应用性。本课程的教学媒体包括：文字教材（《教育心理学》 张向葵主编，）、录像教材（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18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讲，张向葵、路海东、刘晓民老师主讲。）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I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课程（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7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讲，张向葵老师主讲）。其中以文字教材为主，录像教材和</a:t>
            </a:r>
            <a:r>
              <a:rPr b="0" lang="en-US" sz="2800" spc="-1" strike="noStrike">
                <a:solidFill>
                  <a:srgbClr val="007a77"/>
                </a:solidFill>
                <a:latin typeface="Arial"/>
              </a:rPr>
              <a:t>IP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课件为辅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C6533-043B-4678-A8ED-76846B3CC1D9}" type="slidenum">
              <a:t>3</a:t>
            </a:fld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0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一、课程简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二）教学方法：本课程总体的教学设计思想与特点是体现开放教育特征，以学员为本，把握专业要求，立足学员实际，满足不同需求，提供全程学习支持。在教学方法上强调以自学为主，面授为辅，同时充分利用多种教学媒体，以提高学习效果。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84AE2-612E-4E76-95CA-BF7910599508}" type="slidenum">
              <a:t>4</a:t>
            </a:fld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一、课程简介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557360"/>
            <a:ext cx="8540640" cy="454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（三）考核方式及成绩计算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形成性考核成绩占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20%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包括记分平时作业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60%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、网上测试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0%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、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BBS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专题讨论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0%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、期中考试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0%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共四项；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期末终结性考核成绩占</a:t>
            </a:r>
            <a:r>
              <a:rPr b="1" lang="en-US" sz="2400" spc="-1" strike="noStrike">
                <a:solidFill>
                  <a:srgbClr val="dc5900"/>
                </a:solidFill>
                <a:latin typeface="Arial"/>
              </a:rPr>
              <a:t>80%</a:t>
            </a:r>
            <a:r>
              <a:rPr b="1" lang="zh-CN" sz="2400" spc="-1" strike="noStrike">
                <a:solidFill>
                  <a:srgbClr val="dc5900"/>
                </a:solidFill>
                <a:latin typeface="Arial"/>
              </a:rPr>
              <a:t>，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由中央电大命题，闭卷，考试时间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2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钟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题型及分值：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选择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小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（包括单选、多选）、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名词解释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小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、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判断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小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（要求改错）、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简答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4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小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、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5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案例分析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小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、（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6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）论述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小题</a:t>
            </a: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0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分。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EBFB9-71A0-410C-AD79-23E4459DD3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4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8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0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6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二、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目标陈述</a:t>
            </a: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学习教育心理学基础知识，掌握教学过程中的心理规律及特点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为更新教育观念、树立先进教育理念，提供理论基础；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、学以致用，用现代教育心理观念指导教育教学实践，提高教育教学效率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98BBC5-4300-44B3-8681-884BF0BB245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3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1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三、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内容分析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28640"/>
            <a:ext cx="8540640" cy="447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从整体上看，本课程全面介绍了教育心理学发展概况和新趋势，根据这一学科的发展实际，又以西方的各理论流派为主；同时也着重阐释了本学科的最新研究成果；并对教学心理及教学评价作了专章介绍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本课程始终强调理论联系实际，在介绍各流派基本概念、基本原理、基本理论、的基础上，特别注重指出它们对教育实践的指导意义；同时还详尽地介绍了极具实践意义的多种培养策略，而这也是学习的重点内容；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0" lang="zh-CN" sz="2400" spc="-1" strike="noStrike">
                <a:solidFill>
                  <a:srgbClr val="007a77"/>
                </a:solidFill>
                <a:latin typeface="Arial"/>
              </a:rPr>
              <a:t>、学习重点是了解各流派的理论要点，并能联系实际加深理解；难点则是在教育实践中能够应用基本原理分析教育教学案例，灵活运用各种培养策略，促进学生心理的健康发展，从而凸显本课程的应用性。 </a:t>
            </a:r>
            <a:endParaRPr b="0" lang="en-US" sz="2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69E7C-BD06-4094-B0D4-D804514D8DD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6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dc59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26450-1668-444B-B19D-9A50D1DA943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四、</a:t>
            </a:r>
            <a:r>
              <a:rPr b="1" lang="zh-CN" sz="4400" spc="-1" strike="noStrike">
                <a:solidFill>
                  <a:srgbClr val="003399"/>
                </a:solidFill>
                <a:latin typeface="Arial"/>
              </a:rPr>
              <a:t>学习方法分析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（一）学习者特点：作为本科生，而且全是教师，同学们的文化素养、专业素质均较高，自学能力极强；又修过“普通心理学”、“社会心理学”等课程，并具有较为丰富的教育教学经验；同时，为了今后的发展，还有学习本课程的强烈欲望——应该说具备了学好本课程的主、客观条件；但是突出的工学矛盾，又给学习造成了不小的实际困难，这一点应予以正视。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CAE231-4FAC-43E2-8590-00CB01FFA55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14:27:39Z</dcterms:created>
  <dc:creator/>
  <dc:description/>
  <cp:keywords>幻灯片之家 http:/www.eeppt.com</cp:keywords>
  <dc:language>en-US</dc:language>
  <cp:lastModifiedBy/>
  <dcterms:modified xsi:type="dcterms:W3CDTF">2015-07-13T09:21:09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