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cashreg.wav" ContentType="audio/x-wav"/>
  <Override PartName="/ppt/media/camera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10947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3226-BC3F-4281-AAB8-121706F0D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0160" y="38203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1C89-9E40-4585-84B2-D894FF28C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9440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AAE7-C83D-4504-8DEA-BF1486C2C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188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0396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016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188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0396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CAF4-ECDC-4000-AA4E-B1539049E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35C1A-CBA5-4E16-B15C-52E8D54722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B190-D874-4BF4-BBA1-5162856CFC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A5744-2B34-45A5-8D0D-D1D3CFB996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EBEE-C42A-4DB9-B808-2DA9246B54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90CE7-C610-4B9A-A72D-6047CD122E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03440" y="404280"/>
            <a:ext cx="69818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AFBB0-67ED-4693-9194-716898B803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84AE8-BCDE-4352-B6A9-B08BAFC544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FA9B-01AD-4641-BCEC-54DBDE8AA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9440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987B9-0104-4F3A-8D65-06AD24C5D4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E151D-B072-40EE-BAC1-990C51A313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0160" y="38203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8B44F-73DE-4154-A434-3ADAF4A973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9440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27BA0-8091-4EC0-A611-DE2D909B18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8188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0396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016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8188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0396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0AEAC-C275-40CC-89FA-B5262E39ACC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834-FD95-4D89-B5FB-6418CC906A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94C-4771-4033-A08B-D87485C044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55BC-1103-411D-BEC9-E988967FB7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BF31-8957-4CD7-A640-2491324048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CCA1-C074-42E4-8998-4B2D172081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75C6-B5EB-4845-A54C-26B5806347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403440" y="404280"/>
            <a:ext cx="69818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D2F-FB62-455D-8678-A4CC8057D1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AB8B-A005-474C-B940-B85D56E355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9440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EC26-7D69-4667-8882-348846BE61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E611-8A02-4899-999F-6357E5A28B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60160" y="38203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934-2334-4684-B94D-567BB73607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9440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832A-5D2C-4542-9451-5EEB1B8F3F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8188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20396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6016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88188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20396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85B-27E8-4DD0-A21A-BFA39CE5AF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F65D-B513-43D0-BF93-D83453F557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403440" y="404280"/>
            <a:ext cx="69818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59440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60160" y="38203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59440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8188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20396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6016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88188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720396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5A12-5A49-4F0B-A69D-AFFE95173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03440" y="404280"/>
            <a:ext cx="69818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63D3-25D0-42C0-B3FB-3926C3FFD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212D-A014-409B-A0BC-DAA93633D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9440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FB17-7619-4BA0-A9E1-68B82EA7A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CD51-956E-4121-ABAF-E40940D98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g2"/>
          <p:cNvPicPr/>
          <p:nvPr/>
        </p:nvPicPr>
        <p:blipFill>
          <a:blip r:embed="rId2"/>
          <a:stretch/>
        </p:blipFill>
        <p:spPr>
          <a:xfrm>
            <a:off x="-11160" y="0"/>
            <a:ext cx="109569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660880" y="6401880"/>
            <a:ext cx="17240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ACE373F-16B6-43CC-B64B-DB9B91C7A071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logo"/>
          <p:cNvPicPr/>
          <p:nvPr/>
        </p:nvPicPr>
        <p:blipFill>
          <a:blip r:embed="rId3"/>
          <a:srcRect l="5396" t="5349" r="74912" b="80615"/>
          <a:stretch/>
        </p:blipFill>
        <p:spPr>
          <a:xfrm>
            <a:off x="560520" y="219240"/>
            <a:ext cx="2165040" cy="96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g2"/>
          <p:cNvPicPr/>
          <p:nvPr/>
        </p:nvPicPr>
        <p:blipFill>
          <a:blip r:embed="rId2"/>
          <a:stretch/>
        </p:blipFill>
        <p:spPr>
          <a:xfrm>
            <a:off x="-11160" y="0"/>
            <a:ext cx="1095552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8660880" y="6401880"/>
            <a:ext cx="17240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53C4942-6285-473D-BA21-EAD79FF61788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logo"/>
          <p:cNvPicPr/>
          <p:nvPr/>
        </p:nvPicPr>
        <p:blipFill>
          <a:blip r:embed="rId3"/>
          <a:srcRect l="5396" t="5349" r="74912" b="80615"/>
          <a:stretch/>
        </p:blipFill>
        <p:spPr>
          <a:xfrm>
            <a:off x="560520" y="219240"/>
            <a:ext cx="2165040" cy="96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g2"/>
          <p:cNvPicPr/>
          <p:nvPr/>
        </p:nvPicPr>
        <p:blipFill>
          <a:blip r:embed="rId2"/>
          <a:stretch/>
        </p:blipFill>
        <p:spPr>
          <a:xfrm>
            <a:off x="-11160" y="0"/>
            <a:ext cx="10955520" cy="688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3"/>
          </p:nvPr>
        </p:nvSpPr>
        <p:spPr>
          <a:xfrm>
            <a:off x="8660880" y="6401880"/>
            <a:ext cx="17240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B228785-2BF0-43F4-B546-95D27A79517C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logo"/>
          <p:cNvPicPr/>
          <p:nvPr/>
        </p:nvPicPr>
        <p:blipFill>
          <a:blip r:embed="rId3"/>
          <a:srcRect l="5396" t="5349" r="74912" b="80615"/>
          <a:stretch/>
        </p:blipFill>
        <p:spPr>
          <a:xfrm>
            <a:off x="560520" y="219240"/>
            <a:ext cx="2165040" cy="96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bg1"/>
          <p:cNvPicPr/>
          <p:nvPr/>
        </p:nvPicPr>
        <p:blipFill>
          <a:blip r:embed="rId2"/>
          <a:stretch/>
        </p:blipFill>
        <p:spPr>
          <a:xfrm>
            <a:off x="0" y="0"/>
            <a:ext cx="10945800" cy="6885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720440" y="3325320"/>
            <a:ext cx="6921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46280" y="1055520"/>
            <a:ext cx="8107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762280" y="1968480"/>
            <a:ext cx="501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9900"/>
                </a:solidFill>
                <a:latin typeface="Arial"/>
                <a:ea typeface="黑体"/>
              </a:rPr>
              <a:t> 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7280" y="65325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</a:t>
            </a:r>
            <a:r>
              <a:rPr b="1" i="1" lang="zh-CN" sz="1600" spc="-1" strike="noStrike">
                <a:solidFill>
                  <a:srgbClr val="1c1c1c"/>
                </a:solidFill>
                <a:latin typeface="Arial"/>
              </a:rPr>
              <a:t>://www.eeppt.com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1360" y="10126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学语文习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下载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B48D214-5844-4298-A81F-BCC34E887B5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 rot="180000">
            <a:off x="1285560" y="988920"/>
            <a:ext cx="8481960" cy="5315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1480680" y="166320"/>
            <a:ext cx="8481240" cy="6355800"/>
            <a:chOff x="1480680" y="166320"/>
            <a:chExt cx="8481240" cy="6355800"/>
          </a:xfrm>
        </p:grpSpPr>
        <p:sp>
          <p:nvSpPr>
            <p:cNvPr id="226" name="Rectangle 5"/>
            <p:cNvSpPr/>
            <p:nvPr/>
          </p:nvSpPr>
          <p:spPr>
            <a:xfrm rot="300000">
              <a:off x="1712880" y="504720"/>
              <a:ext cx="8016840" cy="567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6" descr=""/>
            <p:cNvPicPr/>
            <p:nvPr/>
          </p:nvPicPr>
          <p:blipFill>
            <a:blip r:embed="rId1"/>
            <a:stretch/>
          </p:blipFill>
          <p:spPr>
            <a:xfrm rot="300000">
              <a:off x="1920960" y="755280"/>
              <a:ext cx="7591680" cy="5272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grpSp>
        <p:nvGrpSpPr>
          <p:cNvPr id="228" name="Group 7"/>
          <p:cNvGrpSpPr/>
          <p:nvPr/>
        </p:nvGrpSpPr>
        <p:grpSpPr>
          <a:xfrm>
            <a:off x="834120" y="446040"/>
            <a:ext cx="8555400" cy="6018120"/>
            <a:chOff x="834120" y="446040"/>
            <a:chExt cx="8555400" cy="6018120"/>
          </a:xfrm>
        </p:grpSpPr>
        <p:sp>
          <p:nvSpPr>
            <p:cNvPr id="229" name="Rectangle 8"/>
            <p:cNvSpPr/>
            <p:nvPr/>
          </p:nvSpPr>
          <p:spPr>
            <a:xfrm rot="21420000">
              <a:off x="974520" y="658440"/>
              <a:ext cx="8273880" cy="559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Picture 9" descr="2010310111050322"/>
            <p:cNvPicPr/>
            <p:nvPr/>
          </p:nvPicPr>
          <p:blipFill>
            <a:blip r:embed="rId2">
              <a:grayscl/>
            </a:blip>
            <a:srcRect l="3177" t="12945" r="0" b="3055"/>
            <a:stretch/>
          </p:blipFill>
          <p:spPr>
            <a:xfrm rot="21420000">
              <a:off x="1271880" y="955080"/>
              <a:ext cx="7668000" cy="49921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pic>
        <p:nvPicPr>
          <p:cNvPr id="231" name="Picture 10" descr="1253944134_Favorites"/>
          <p:cNvPicPr/>
          <p:nvPr/>
        </p:nvPicPr>
        <p:blipFill>
          <a:blip r:embed="rId3"/>
          <a:stretch/>
        </p:blipFill>
        <p:spPr>
          <a:xfrm rot="960000">
            <a:off x="8483760" y="5176440"/>
            <a:ext cx="1724040" cy="143352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1"/>
          <p:cNvSpPr/>
          <p:nvPr/>
        </p:nvSpPr>
        <p:spPr>
          <a:xfrm>
            <a:off x="5219640" y="69840"/>
            <a:ext cx="2863800" cy="1015920"/>
          </a:xfrm>
          <a:prstGeom prst="cloudCallout">
            <a:avLst>
              <a:gd name="adj1" fmla="val -46962"/>
              <a:gd name="adj2" fmla="val 926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6835680" y="1500120"/>
            <a:ext cx="1800360" cy="1154160"/>
          </a:xfrm>
          <a:prstGeom prst="wedgeEllipseCallout">
            <a:avLst>
              <a:gd name="adj1" fmla="val -77041"/>
              <a:gd name="adj2" fmla="val 17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1455840" y="2124000"/>
            <a:ext cx="2377800" cy="1270080"/>
          </a:xfrm>
          <a:prstGeom prst="wedgeEllipseCallout">
            <a:avLst>
              <a:gd name="adj1" fmla="val 59185"/>
              <a:gd name="adj2" fmla="val -408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 rot="21240000">
            <a:off x="4915800" y="487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动作描写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 rot="21240000">
            <a:off x="2294280" y="4576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语言描写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 rot="21060000">
            <a:off x="7292520" y="4079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心理描写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450B3CE-67D6-4F70-B40D-88522D2DABFC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39480" y="404280"/>
            <a:ext cx="40338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语言描写片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0160" y="1955880"/>
            <a:ext cx="982476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奶奶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390B677E-2934-4A33-8949-9055BAEC201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5526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动作描写片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2030400"/>
            <a:ext cx="9825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奶奶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——————————————————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俩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—————————————————————————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2EBAB4A-823B-4FE1-BE9B-E67D7DC18B77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1032120" y="506520"/>
            <a:ext cx="84992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理 片段描写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0160" y="1907640"/>
            <a:ext cx="982476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 flipV="1">
            <a:off x="2216160" y="2899440"/>
            <a:ext cx="39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——————————————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---------------------------------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EFA60B0-0C79-4835-ADC5-0F826EF37295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 rot="180000">
            <a:off x="1285560" y="988920"/>
            <a:ext cx="8481960" cy="5315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1480680" y="166320"/>
            <a:ext cx="8481240" cy="6355800"/>
            <a:chOff x="1480680" y="166320"/>
            <a:chExt cx="8481240" cy="6355800"/>
          </a:xfrm>
        </p:grpSpPr>
        <p:sp>
          <p:nvSpPr>
            <p:cNvPr id="252" name="Rectangle 5"/>
            <p:cNvSpPr/>
            <p:nvPr/>
          </p:nvSpPr>
          <p:spPr>
            <a:xfrm rot="300000">
              <a:off x="1712880" y="504720"/>
              <a:ext cx="8016840" cy="567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" descr=""/>
            <p:cNvPicPr/>
            <p:nvPr/>
          </p:nvPicPr>
          <p:blipFill>
            <a:blip r:embed="rId1"/>
            <a:stretch/>
          </p:blipFill>
          <p:spPr>
            <a:xfrm rot="300000">
              <a:off x="1920960" y="755280"/>
              <a:ext cx="7591680" cy="5272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grpSp>
        <p:nvGrpSpPr>
          <p:cNvPr id="254" name="Group 7"/>
          <p:cNvGrpSpPr/>
          <p:nvPr/>
        </p:nvGrpSpPr>
        <p:grpSpPr>
          <a:xfrm>
            <a:off x="834120" y="179280"/>
            <a:ext cx="8555400" cy="6018480"/>
            <a:chOff x="834120" y="179280"/>
            <a:chExt cx="8555400" cy="6018480"/>
          </a:xfrm>
        </p:grpSpPr>
        <p:sp>
          <p:nvSpPr>
            <p:cNvPr id="255" name="Rectangle 8"/>
            <p:cNvSpPr/>
            <p:nvPr/>
          </p:nvSpPr>
          <p:spPr>
            <a:xfrm rot="21420000">
              <a:off x="974520" y="391680"/>
              <a:ext cx="8273880" cy="55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Picture 9" descr="2010310111050322"/>
            <p:cNvPicPr/>
            <p:nvPr/>
          </p:nvPicPr>
          <p:blipFill>
            <a:blip r:embed="rId2"/>
            <a:srcRect l="3177" t="12945" r="0" b="3055"/>
            <a:stretch/>
          </p:blipFill>
          <p:spPr>
            <a:xfrm rot="21420000">
              <a:off x="1271880" y="688320"/>
              <a:ext cx="7668000" cy="49924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pic>
        <p:nvPicPr>
          <p:cNvPr id="257" name="Picture 10" descr="1253944134_Favorites"/>
          <p:cNvPicPr/>
          <p:nvPr/>
        </p:nvPicPr>
        <p:blipFill>
          <a:blip r:embed="rId3"/>
          <a:stretch/>
        </p:blipFill>
        <p:spPr>
          <a:xfrm rot="960000">
            <a:off x="8483760" y="5176440"/>
            <a:ext cx="1724040" cy="143352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11"/>
          <p:cNvGrpSpPr/>
          <p:nvPr/>
        </p:nvGrpSpPr>
        <p:grpSpPr>
          <a:xfrm>
            <a:off x="1455840" y="69840"/>
            <a:ext cx="7179840" cy="3324240"/>
            <a:chOff x="1455840" y="69840"/>
            <a:chExt cx="7179840" cy="3324240"/>
          </a:xfrm>
        </p:grpSpPr>
        <p:sp>
          <p:nvSpPr>
            <p:cNvPr id="259" name="AutoShape 12"/>
            <p:cNvSpPr/>
            <p:nvPr/>
          </p:nvSpPr>
          <p:spPr>
            <a:xfrm>
              <a:off x="5219640" y="69840"/>
              <a:ext cx="2862720" cy="1015920"/>
            </a:xfrm>
            <a:prstGeom prst="cloudCallout">
              <a:avLst>
                <a:gd name="adj1" fmla="val -46962"/>
                <a:gd name="adj2" fmla="val 926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13"/>
            <p:cNvSpPr/>
            <p:nvPr/>
          </p:nvSpPr>
          <p:spPr>
            <a:xfrm>
              <a:off x="6835320" y="1500840"/>
              <a:ext cx="1800360" cy="1154160"/>
            </a:xfrm>
            <a:prstGeom prst="wedgeEllipseCallout">
              <a:avLst>
                <a:gd name="adj1" fmla="val -77041"/>
                <a:gd name="adj2" fmla="val 1798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14"/>
            <p:cNvSpPr/>
            <p:nvPr/>
          </p:nvSpPr>
          <p:spPr>
            <a:xfrm>
              <a:off x="1455840" y="2124360"/>
              <a:ext cx="2377440" cy="1269720"/>
            </a:xfrm>
            <a:prstGeom prst="wedgeEllipseCallout">
              <a:avLst>
                <a:gd name="adj1" fmla="val 59185"/>
                <a:gd name="adj2" fmla="val -408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 Box 15"/>
          <p:cNvSpPr/>
          <p:nvPr/>
        </p:nvSpPr>
        <p:spPr>
          <a:xfrm rot="21240000">
            <a:off x="4915800" y="487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动作描写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6"/>
          <p:cNvSpPr/>
          <p:nvPr/>
        </p:nvSpPr>
        <p:spPr>
          <a:xfrm rot="21240000">
            <a:off x="2294280" y="4576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语言描写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7"/>
          <p:cNvSpPr/>
          <p:nvPr/>
        </p:nvSpPr>
        <p:spPr>
          <a:xfrm rot="21060000">
            <a:off x="7292520" y="4079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心理描写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0C7909A-B536-4437-932E-DEB915BCB51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787320" y="835200"/>
            <a:ext cx="1925640" cy="48708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743040" y="801720"/>
            <a:ext cx="22730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教师范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214200" y="2422440"/>
            <a:ext cx="10518840" cy="23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晴朗的天空下，操场上同学们在玩游戏，吵吵嚷嚷的，现在是上午第二节课的大课间。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 rot="20760000">
            <a:off x="5361120" y="460080"/>
            <a:ext cx="830160" cy="7063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8100000" blurRad="0" rotWithShape="0">
              <a:srgbClr val="004d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5295600" y="407520"/>
            <a:ext cx="103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 rot="480000">
            <a:off x="6550200" y="460080"/>
            <a:ext cx="830160" cy="7063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99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 rot="960000">
            <a:off x="6482880" y="41436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爱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 rot="20460000">
            <a:off x="7656120" y="530280"/>
            <a:ext cx="830160" cy="7063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5c7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7589880" y="48420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无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 rot="20460000">
            <a:off x="8893080" y="420480"/>
            <a:ext cx="831960" cy="706320"/>
          </a:xfrm>
          <a:prstGeom prst="rect">
            <a:avLst/>
          </a:prstGeom>
          <a:solidFill>
            <a:srgbClr val="3366fd"/>
          </a:solidFill>
          <a:ln w="0">
            <a:noFill/>
          </a:ln>
          <a:effectLst>
            <a:outerShdw dist="107932" dir="8100000" blurRad="0" rotWithShape="0">
              <a:srgbClr val="1f3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8827920" y="374760"/>
            <a:ext cx="9986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限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DB69E83-2B9B-4735-BD4E-62DC8DBC641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787320" y="835200"/>
            <a:ext cx="1925640" cy="48708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743040" y="801720"/>
            <a:ext cx="22730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教师范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 rot="20760000">
            <a:off x="5361120" y="460080"/>
            <a:ext cx="830160" cy="7063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8100000" blurRad="0" rotWithShape="0">
              <a:srgbClr val="004d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5295600" y="407520"/>
            <a:ext cx="103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 rot="480000">
            <a:off x="6550200" y="460080"/>
            <a:ext cx="830160" cy="7063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99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 rot="960000">
            <a:off x="6482880" y="41436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爱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 rot="20460000">
            <a:off x="7656120" y="530280"/>
            <a:ext cx="830160" cy="7063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5c7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7589880" y="48420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无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 rot="20460000">
            <a:off x="8893080" y="420480"/>
            <a:ext cx="831960" cy="706320"/>
          </a:xfrm>
          <a:prstGeom prst="rect">
            <a:avLst/>
          </a:prstGeom>
          <a:solidFill>
            <a:srgbClr val="3366fd"/>
          </a:solidFill>
          <a:ln w="0">
            <a:noFill/>
          </a:ln>
          <a:effectLst>
            <a:outerShdw dist="107932" dir="8100000" blurRad="0" rotWithShape="0">
              <a:srgbClr val="1f3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8827920" y="374760"/>
            <a:ext cx="9986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限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523800" y="1670040"/>
            <a:ext cx="101235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几个同学在打乒乓球，突然来了一个高球，罗文一拍子下去，没打着球，却打上了我的眼睛。我痛得大喊，使劲地跺脚。我不敢睁开眼睛。同学们马上跑过来问我：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没事吧！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_GB2312"/>
              </a:rPr>
              <a:t>”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痛不痛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            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605BA4F-EA54-4FB0-BA21-032D7372404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787320" y="835200"/>
            <a:ext cx="1925640" cy="48708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743040" y="801720"/>
            <a:ext cx="22730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教师范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 rot="20760000">
            <a:off x="5361120" y="460080"/>
            <a:ext cx="830160" cy="7063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8100000" blurRad="0" rotWithShape="0">
              <a:srgbClr val="004d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5295600" y="407520"/>
            <a:ext cx="103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 rot="480000">
            <a:off x="6550200" y="460080"/>
            <a:ext cx="830160" cy="7063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99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 rot="960000">
            <a:off x="6482880" y="41436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爱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 rot="20460000">
            <a:off x="7656120" y="530280"/>
            <a:ext cx="830160" cy="7063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5c7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7589880" y="48420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无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 rot="20460000">
            <a:off x="8893080" y="420480"/>
            <a:ext cx="831960" cy="706320"/>
          </a:xfrm>
          <a:prstGeom prst="rect">
            <a:avLst/>
          </a:prstGeom>
          <a:solidFill>
            <a:srgbClr val="3366fd"/>
          </a:solidFill>
          <a:ln w="0">
            <a:noFill/>
          </a:ln>
          <a:effectLst>
            <a:outerShdw dist="107932" dir="8100000" blurRad="0" rotWithShape="0">
              <a:srgbClr val="1f3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8827920" y="374760"/>
            <a:ext cx="9986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限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382680" y="1789200"/>
            <a:ext cx="1013616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感觉到眼睛热热的，心想：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坏了，眼睛流血了！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果然。当我把手拿开时，同学们惊叫了起来：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眼睛流血了！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听后心里咯噔一下，心里直冒冷汗。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班主任李老师去。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文说着跑去找班主任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60160" y="189000"/>
            <a:ext cx="98247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0320" y="1269720"/>
            <a:ext cx="106869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8723160" y="333360"/>
            <a:ext cx="166212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4A55-7545-4958-A6E5-44C261B698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5F571C9-7F82-4BCE-829C-0F8A7F7A256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787320" y="835200"/>
            <a:ext cx="1925640" cy="48708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743040" y="801720"/>
            <a:ext cx="22730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教师范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 rot="20760000">
            <a:off x="5361120" y="460080"/>
            <a:ext cx="830160" cy="7063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8100000" blurRad="0" rotWithShape="0">
              <a:srgbClr val="004d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5295600" y="407520"/>
            <a:ext cx="103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 rot="480000">
            <a:off x="6550200" y="460080"/>
            <a:ext cx="830160" cy="7063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99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 rot="960000">
            <a:off x="6482880" y="41436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爱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 rot="20460000">
            <a:off x="7656120" y="530280"/>
            <a:ext cx="830160" cy="7063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5c7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7589880" y="48420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无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 rot="20460000">
            <a:off x="8893080" y="420480"/>
            <a:ext cx="831960" cy="706320"/>
          </a:xfrm>
          <a:prstGeom prst="rect">
            <a:avLst/>
          </a:prstGeom>
          <a:solidFill>
            <a:srgbClr val="3366fd"/>
          </a:solidFill>
          <a:ln w="0">
            <a:noFill/>
          </a:ln>
          <a:effectLst>
            <a:outerShdw dist="107932" dir="8100000" blurRad="0" rotWithShape="0">
              <a:srgbClr val="1f3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8827920" y="374760"/>
            <a:ext cx="9986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限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304920" y="1722600"/>
            <a:ext cx="103424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时，我心里七上八下的，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常害怕。很快，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老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了，看到我的眼睛，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惊得嘴巴张开成了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型。他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上给我妈妈打了电话，然后一边安慰我一边陪我去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卫生院。我心里忐忑不安，不知道妈妈会说什么呢。我们到医院时，妈妈也心急如焚地赶到了。医生说：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事，就擦破了点皮儿。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和李老师这才松了口气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63920" y="1988640"/>
            <a:ext cx="6921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63920" y="3069720"/>
            <a:ext cx="692136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dy"/>
          <p:cNvPicPr/>
          <p:nvPr/>
        </p:nvPicPr>
        <p:blipFill>
          <a:blip r:embed="rId1"/>
          <a:srcRect l="0" t="3408" r="6985" b="1016"/>
          <a:stretch/>
        </p:blipFill>
        <p:spPr>
          <a:xfrm>
            <a:off x="-60480" y="-30240"/>
            <a:ext cx="11103120" cy="6932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8996040" y="614052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天堂的勺子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5B75E37-7419-4F61-A2A9-778C6B123C8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787320" y="835200"/>
            <a:ext cx="1925640" cy="48708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743040" y="801720"/>
            <a:ext cx="22730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教师范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 rot="20760000">
            <a:off x="5361120" y="460080"/>
            <a:ext cx="830160" cy="7063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8100000" blurRad="0" rotWithShape="0">
              <a:srgbClr val="004d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5295600" y="407520"/>
            <a:ext cx="103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 rot="480000">
            <a:off x="6550200" y="460080"/>
            <a:ext cx="830160" cy="7063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99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 rot="960000">
            <a:off x="6482880" y="41436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爱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 rot="20460000">
            <a:off x="7656120" y="530280"/>
            <a:ext cx="830160" cy="7063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5c7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7589880" y="48420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无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 rot="20460000">
            <a:off x="8893080" y="420480"/>
            <a:ext cx="831960" cy="706320"/>
          </a:xfrm>
          <a:prstGeom prst="rect">
            <a:avLst/>
          </a:prstGeom>
          <a:solidFill>
            <a:srgbClr val="3366fd"/>
          </a:solidFill>
          <a:ln w="0">
            <a:noFill/>
          </a:ln>
          <a:effectLst>
            <a:outerShdw dist="107932" dir="8100000" blurRad="0" rotWithShape="0">
              <a:srgbClr val="1f3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8827920" y="374760"/>
            <a:ext cx="9986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限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411120" y="1442880"/>
            <a:ext cx="1012824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午，我去学校继续上课。同学们看到我的伤时，喧闹的教室很快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静了下来，同学们都过来安慰我：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疼吗？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_GB2312"/>
              </a:rPr>
              <a:t>”“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会好起来的！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_GB2312"/>
              </a:rPr>
              <a:t>”……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罗文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拉着我的手说：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不起，都怪我不小心。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说：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关系，我不怪你。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F4FB339-BCB2-44C7-953E-E13F4D98F8A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787320" y="835200"/>
            <a:ext cx="1925640" cy="48708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743040" y="801720"/>
            <a:ext cx="22730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教师范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 rot="20760000">
            <a:off x="5361120" y="460080"/>
            <a:ext cx="830160" cy="7063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8100000" blurRad="0" rotWithShape="0">
              <a:srgbClr val="004d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5295600" y="407520"/>
            <a:ext cx="103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 rot="480000">
            <a:off x="6550200" y="460080"/>
            <a:ext cx="830160" cy="7063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99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 rot="960000">
            <a:off x="6482880" y="41436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爱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 rot="20460000">
            <a:off x="7656120" y="530280"/>
            <a:ext cx="830160" cy="7063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5c7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7589880" y="48420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无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 rot="20460000">
            <a:off x="8893080" y="420480"/>
            <a:ext cx="831960" cy="706320"/>
          </a:xfrm>
          <a:prstGeom prst="rect">
            <a:avLst/>
          </a:prstGeom>
          <a:solidFill>
            <a:srgbClr val="3366fd"/>
          </a:solidFill>
          <a:ln w="0">
            <a:noFill/>
          </a:ln>
          <a:effectLst>
            <a:outerShdw dist="107932" dir="8100000" blurRad="0" rotWithShape="0">
              <a:srgbClr val="1f3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8827920" y="374760"/>
            <a:ext cx="9986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限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2"/>
          <p:cNvSpPr/>
          <p:nvPr/>
        </p:nvSpPr>
        <p:spPr>
          <a:xfrm>
            <a:off x="485640" y="2006640"/>
            <a:ext cx="984096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大家这么关心我，我心里暖暖的，有一种从未有过的感觉，这种感觉一直荡漾在我的心田。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28720" y="4581360"/>
            <a:ext cx="6111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cc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33F6888-F431-4F25-8FE9-D8CA4C81055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3720" y="199800"/>
            <a:ext cx="66643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人为我， 我为人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tt"/>
          <p:cNvPicPr/>
          <p:nvPr/>
        </p:nvPicPr>
        <p:blipFill>
          <a:blip r:embed="rId1"/>
          <a:srcRect l="0" t="0" r="0" b="1504"/>
          <a:stretch/>
        </p:blipFill>
        <p:spPr>
          <a:xfrm>
            <a:off x="-30240" y="835200"/>
            <a:ext cx="10976040" cy="6102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8996040" y="614052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天堂的勺子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2449440" y="2433600"/>
            <a:ext cx="617400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相互关爱</a:t>
            </a:r>
            <a:endParaRPr b="0" i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76" name="Picture 3" descr="01"/>
          <p:cNvPicPr/>
          <p:nvPr/>
        </p:nvPicPr>
        <p:blipFill>
          <a:blip r:embed="rId1"/>
          <a:stretch/>
        </p:blipFill>
        <p:spPr>
          <a:xfrm>
            <a:off x="-1111320" y="2251080"/>
            <a:ext cx="114480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1597 -0.000926 E">
                                      <p:cBhvr>
                                        <p:cTn id="6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441 -0.017407 C 0.061933 -0.017407 0.066791 -0.016852 0.069399 -0.017407 C 0.072006 -0.017963 0.073488 -0.019059 0.076086 -0.020741 C 0.078683 -0.022423 0.081638 -0.025818 0.084981 -0.0275 C 0.088325 -0.029182 0.092793 -0.029707 0.096147 -0.030833 C 0.099501 -0.03196 0.101751 -0.032006 0.105104 -0.034259 C 0.108458 -0.036512 0.113295 -0.042114 0.11627 -0.044352 C 0.119246 -0.04659 0.120361 -0.046574 0.122957 -0.047685 C 0.125554 -0.048796 0.128878 -0.049336 0.131853 -0.051019 C 0.134829 -0.052701 0.137467 -0.05608 0.140811 -0.057778 C 0.144154 -0.059475 0.147825 -0.059522 0.151915 -0.061204 C 0.156005 -0.062886 0.161629 -0.066188 0.165351 -0.06787 C 0.169073 -0.069552 0.171271 -0.069614 0.174247 -0.071296 C 0.177222 -0.072978 0.17986 -0.076281 0.183204 -0.077963 C 0.186547 -0.079645 0.191343 -0.079707 0.194309 -0.081389 C 0.197274 -0.083071 0.19802 -0.086374 0.200996 -0.088056 C 0.203971 -0.089738 0.209186 -0.090911 0.212162 -0.091481 C 0.215137 -0.092052 0.215874 -0.090926 0.218849 -0.091481 C 0.221825 -0.092037 0.226661 -0.093688 0.230014 -0.094815 C 0.233369 -0.095941 0.235628 -0.09767 0.238972 -0.098241 C 0.242316 -0.098812 0.246732 -0.097685 0.250077 -0.098241 C 0.253421 -0.098796 0.256058 -0.101019 0.259034 -0.101574 C 0.262009 -0.10213 0.264954 -0.100448 0.267929 -0.101574 C 0.270905 -0.102701 0.273533 -0.107207 0.276887 -0.108333 C 0.28024 -0.10946 0.285078 -0.108333 0.288053 -0.108333 C 0.291029 -0.108333 0.29251 -0.10946 0.29474 -0.108333 C 0.296969 -0.107207 0.299945 -0.104383 0.301428 -0.101574 C 0.302909 -0.098765 0.302153 -0.094846 0.303636 -0.091481 C 0.305119 -0.088117 0.308094 -0.085324 0.310323 -0.081389 C 0.312552 -0.077454 0.31515 -0.071806 0.31701 -0.06787 C 0.318871 -0.063935 0.320374 -0.061698 0.321489 -0.057778 C 0.322603 -0.053858 0.322583 -0.048272 0.323698 -0.044352 C 0.324812 -0.040432 0.327051 -0.03875 0.328176 -0.034259 C 0.329301 -0.029769 0.329332 -0.022469 0.330446 -0.017407 C 0.331561 -0.012346 0.333749 -0.007824 0.334864 -0.003889 C 0.335978 4.6E-005 0.336019 0.002284 0.337133 0.006204 C 0.338248 0.010123 0.340436 0.01571 0.341551 0.01963 C 0.342665 0.023549 0.342706 0.026358 0.34382 0.029722 C 0.344935 0.033086 0.346376 0.03588 0.348238 0.039815 C 0.350099 0.04375 0.352747 0.048843 0.354986 0.053333 C 0.357226 0.057824 0.359077 0.063395 0.361674 0.066759 C 0.36427 0.070123 0.367226 0.07071 0.370569 0.073519 C 0.373913 0.076327 0.378014 0.080802 0.381735 0.083611 C 0.385458 0.08642 0.389558 0.088133 0.392901 0.09037 C 0.396245 0.092608 0.3992 0.095355 0.401797 0.097037 C 0.404394 0.098719 0.406256 0.099892 0.408484 0.100463 C 0.410713 0.101034 0.412943 0.100463 0.415172 0.100463 C 0.4174 0.100463 0.41963 0.100463 0.421859 0.100463 C 0.424089 0.100463 0.425939 0.100463 0.428546 0.100463 C 0.431153 0.100463 0.434528 0.101589 0.437504 0.100463 C 0.440479 0.099336 0.443803 0.095957 0.446399 0.093704 C 0.448996 0.091451 0.450479 0.089182 0.453087 0.086944 C 0.455694 0.084707 0.459069 0.082515 0.462044 0.080278 C 0.465019 0.07804 0.468342 0.076327 0.47094 0.073519 C 0.473537 0.07071 0.47502 0.06679 0.477627 0.063426 C 0.480235 0.060062 0.484344 0.056697 0.486584 0.053333 C 0.488823 0.049969 0.489202 0.046605 0.491063 0.043241 C 0.492923 0.039876 0.495521 0.035957 0.49775 0.033148 C 0.49998 0.030339 0.502208 0.029198 0.504437 0.026389 C 0.506666 0.02358 0.508896 0.01966 0.511124 0.016296 C 0.513353 0.012932 0.515951 0.009568 0.517812 0.006204 C 0.519672 0.002839 0.520807 -0.000525 0.52229 -0.003889 C 0.523773 -0.007253 0.524847 -0.010602 0.526707 -0.013981 C 0.528569 -0.017361 0.531217 -0.020787 0.533457 -0.024167 C 0.535696 -0.027546 0.537914 -0.03034 0.540144 -0.034259 C 0.542372 -0.038179 0.544601 -0.043765 0.546831 -0.047685 C 0.54906 -0.051605 0.551288 -0.054969 0.553518 -0.057778 C 0.555747 -0.060586 0.557976 -0.062284 0.560206 -0.064537 C 0.562434 -0.06679 0.564663 -0.069614 0.566893 -0.071296 C 0.569121 -0.072978 0.57135 -0.073519 0.57358 -0.07463 C 0.575809 -0.075741 0.578037 -0.077407 0.580267 -0.077963 C 0.582496 -0.078519 0.584347 -0.077963 0.586954 -0.077963 C 0.589562 -0.077963 0.592937 -0.077963 0.595911 -0.077963 C 0.598887 -0.077963 0.60221 -0.078519 0.604808 -0.077963 C 0.607405 -0.077407 0.609265 -0.075741 0.611495 -0.07463 C 0.613724 -0.073519 0.615952 -0.072978 0.618182 -0.071296 C 0.620411 -0.069614 0.62263 -0.067346 0.624869 -0.064537 C 0.627109 -0.061728 0.629757 -0.057809 0.631618 -0.054444 C 0.633478 -0.05108 0.634553 -0.047716 0.636036 -0.044352 C 0.637517 -0.040988 0.639398 -0.037624 0.640513 -0.034259 C 0.641628 -0.030895 0.641976 -0.027546 0.642722 -0.024167 C 0.643469 -0.020787 0.643877 -0.017917 0.644992 -0.013981 C 0.646107 -0.010046 0.648295 -0.004475 0.649409 -0.000556 C 0.650524 0.003364 0.651301 0.006173 0.651679 0.009537 C 0.652058 0.012901 0.651311 0.015694 0.651679 0.01963 C 0.652047 0.023565 0.653142 0.029213 0.653888 0.033148 C 0.654635 0.037083 0.655411 0.039876 0.656158 0.043241 C 0.656904 0.046605 0.657252 0.049969 0.658367 0.053333 C 0.659482 0.056697 0.660984 0.060062 0.662846 0.063426 C 0.664706 0.06679 0.667672 0.070154 0.669533 0.073519 C 0.671393 0.076883 0.67215 0.080247 0.674012 0.083611 C 0.675872 0.086975 0.678469 0.091466 0.680699 0.093704 C 0.682927 0.095941 0.684788 0.095355 0.687386 0.097037 C 0.689983 0.098719 0.693684 0.102099 0.696282 0.103796 C 0.698878 0.105494 0.70074 0.106651 0.702969 0.107222 C 0.705198 0.107793 0.707427 0.107222 0.709656 0.107222 C 0.711885 0.107222 0.714104 0.107222 0.716343 0.107222 C 0.718583 0.107222 0.720852 0.107222 0.723092 0.107222 C 0.725331 0.107222 0.727182 0.108349 0.729779 0.107222 C 0.732377 0.106096 0.736078 0.10216 0.738675 0.100463 C 0.741272 0.098765 0.742755 0.098719 0.745362 0.097037 C 0.747969 0.095355 0.751344 0.092608 0.754319 0.09037 C 0.757295 0.088133 0.76024 0.085864 0.763215 0.083611 C 0.766191 0.081358 0.769565 0.079089 0.772173 0.076852 C 0.77478 0.074614 0.77663 0.072423 0.77886 0.070185 C 0.781089 0.067947 0.783317 0.065679 0.785547 0.063426 C 0.787776 0.061173 0.790006 0.059475 0.792234 0.056667 C 0.794463 0.053858 0.796692 0.048812 0.798922 0.046574 C 0.80115 0.044336 0.80338 0.044923 0.805609 0.043241 C 0.807838 0.041559 0.810066 0.038735 0.812296 0.036481 C 0.814525 0.034228 0.816754 0.031975 0.818983 0.029722 C 0.821212 0.027469 0.823442 0.025772 0.825671 0.022963 C 0.827899 0.020154 0.82975 0.016235 0.832358 0.01287 C 0.834965 0.009506 0.838708 0.005571 0.841316 0.002778 C 0.843922 -1.49999999999998E-005 0.845405 -0.001651 0.848002 -0.003889 C 0.8506 -0.006127 0.854301 -0.008966 0.856898 -0.010648 C 0.859495 -0.01233 0.861346 -0.012855 0.863586 -0.013981 C 0.865825 -0.015108 0.868095 -0.016281 0.870334 -0.017407 C 0.872573 -0.018534 0.874792 -0.019614 0.877021 -0.020741 C 0.87925 -0.021867 0.881112 -0.02304 0.883708 -0.024167 C 0.886305 -0.025293 0.88926 -0.026945 0.892604 -0.0275 C 0.895948 -0.028056 0.900795 -0.0275 0.90377 -0.0275 C 0.906746 -0.0275 0.908229 -0.0275 0.910457 -0.0275 C 0.912686 -0.0275 0.914537 -0.0275 0.917145 -0.0275 C 0.919752 -0.0275 0.923495 -0.028056 0.926102 -0.0275 C 0.92871 -0.026945 0.930192 -0.025293 0.932789 -0.024167 C 0.935386 -0.02304 0.939087 -0.022438 0.941685 -0.020741 C 0.944282 -0.019043 0.946144 -0.015664 0.948372 -0.013981 C 0.950601 -0.012299 0.952831 -0.011759 0.95506 -0.010648 C 0.957288 -0.009537 0.959139 -0.009552 0.961747 -0.007315 C 0.964354 -0.005077 0.967729 -3.10000000000002E-005 0.970704 0.002778 C 0.973679 0.005586 0.97737 0.006728 0.9796 0.009537 C 0.981829 0.012346 0.982217 0.016821 0.984079 0.01963 C 0.98594 0.022438 0.989651 0.025262 0.990765 0.026389 E">
                                      <p:cBhvr>
                                        <p:cTn id="9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E950CC3-52E5-4799-A964-B9CD5320E50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1765440" y="1378080"/>
            <a:ext cx="8592840" cy="428148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787320" y="835200"/>
            <a:ext cx="1925640" cy="48708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43040" y="801720"/>
            <a:ext cx="22730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习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2016000" y="1731960"/>
            <a:ext cx="80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生活中，人与人之间需要相互关心、帮助。这次习作，我们就来写一写体现人们相互关爱的事情。写之前先想一想，事情发生在怎样的环境里，是怎样发生的，事情发展变化的过程怎样。写时注意人物的语言、动作、心理活动等，要表达真情实感。写完后可以和同学交换意见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7115912-7CF1-4B17-86A6-D26AA5D2E7B6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787320" y="835200"/>
            <a:ext cx="1925640" cy="48708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90400" y="1728360"/>
            <a:ext cx="98251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体现人们相互关爱的事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注意环境描写，把事情的经过写清楚；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注意人物的语言、动作、心理活动的描写，要表达真情实感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743040" y="801720"/>
            <a:ext cx="22730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习作要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1131840" y="1825560"/>
            <a:ext cx="5808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27120" y="2589120"/>
            <a:ext cx="687852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912960" y="3948120"/>
            <a:ext cx="60958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D9F2F078-AE85-422C-80A8-862CFFBA5D2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 rot="180000">
            <a:off x="1285560" y="988920"/>
            <a:ext cx="8481960" cy="5315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834120" y="179280"/>
            <a:ext cx="8555400" cy="6018480"/>
            <a:chOff x="834120" y="179280"/>
            <a:chExt cx="8555400" cy="6018480"/>
          </a:xfrm>
        </p:grpSpPr>
        <p:sp>
          <p:nvSpPr>
            <p:cNvPr id="193" name="Rectangle 5"/>
            <p:cNvSpPr/>
            <p:nvPr/>
          </p:nvSpPr>
          <p:spPr>
            <a:xfrm rot="21420000">
              <a:off x="974520" y="391680"/>
              <a:ext cx="8273880" cy="55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6" descr="2010310111050322"/>
            <p:cNvPicPr/>
            <p:nvPr/>
          </p:nvPicPr>
          <p:blipFill>
            <a:blip r:embed="rId1">
              <a:grayscl/>
            </a:blip>
            <a:srcRect l="3177" t="12945" r="0" b="3055"/>
            <a:stretch/>
          </p:blipFill>
          <p:spPr>
            <a:xfrm rot="21420000">
              <a:off x="1271160" y="688320"/>
              <a:ext cx="7668000" cy="49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Group 7"/>
          <p:cNvGrpSpPr/>
          <p:nvPr/>
        </p:nvGrpSpPr>
        <p:grpSpPr>
          <a:xfrm>
            <a:off x="1480680" y="166320"/>
            <a:ext cx="8481240" cy="6355800"/>
            <a:chOff x="1480680" y="166320"/>
            <a:chExt cx="8481240" cy="6355800"/>
          </a:xfrm>
        </p:grpSpPr>
        <p:sp>
          <p:nvSpPr>
            <p:cNvPr id="196" name="Rectangle 8"/>
            <p:cNvSpPr/>
            <p:nvPr/>
          </p:nvSpPr>
          <p:spPr>
            <a:xfrm rot="300000">
              <a:off x="1712880" y="504720"/>
              <a:ext cx="8016840" cy="567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9" descr=""/>
            <p:cNvPicPr/>
            <p:nvPr/>
          </p:nvPicPr>
          <p:blipFill>
            <a:blip r:embed="rId2"/>
            <a:stretch/>
          </p:blipFill>
          <p:spPr>
            <a:xfrm rot="300000">
              <a:off x="1920960" y="755280"/>
              <a:ext cx="7591680" cy="527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Picture 10" descr="1253944134_Favorites"/>
          <p:cNvPicPr/>
          <p:nvPr/>
        </p:nvPicPr>
        <p:blipFill>
          <a:blip r:embed="rId3"/>
          <a:stretch/>
        </p:blipFill>
        <p:spPr>
          <a:xfrm rot="960000">
            <a:off x="8483760" y="5176440"/>
            <a:ext cx="172404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D6BDA8A-9E27-4061-BF11-8E7AB2493CE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 rot="180000">
            <a:off x="1285560" y="988920"/>
            <a:ext cx="8481960" cy="5315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1480680" y="166320"/>
            <a:ext cx="8481240" cy="6355800"/>
            <a:chOff x="1480680" y="166320"/>
            <a:chExt cx="8481240" cy="6355800"/>
          </a:xfrm>
        </p:grpSpPr>
        <p:sp>
          <p:nvSpPr>
            <p:cNvPr id="203" name="Rectangle 5"/>
            <p:cNvSpPr/>
            <p:nvPr/>
          </p:nvSpPr>
          <p:spPr>
            <a:xfrm rot="300000">
              <a:off x="1712880" y="504720"/>
              <a:ext cx="8016840" cy="567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Picture 6" descr=""/>
            <p:cNvPicPr/>
            <p:nvPr/>
          </p:nvPicPr>
          <p:blipFill>
            <a:blip r:embed="rId1"/>
            <a:stretch/>
          </p:blipFill>
          <p:spPr>
            <a:xfrm rot="300000">
              <a:off x="1920960" y="755280"/>
              <a:ext cx="7591680" cy="5272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grpSp>
        <p:nvGrpSpPr>
          <p:cNvPr id="205" name="Group 7"/>
          <p:cNvGrpSpPr/>
          <p:nvPr/>
        </p:nvGrpSpPr>
        <p:grpSpPr>
          <a:xfrm>
            <a:off x="834120" y="179280"/>
            <a:ext cx="8555400" cy="6018480"/>
            <a:chOff x="834120" y="179280"/>
            <a:chExt cx="8555400" cy="6018480"/>
          </a:xfrm>
        </p:grpSpPr>
        <p:sp>
          <p:nvSpPr>
            <p:cNvPr id="206" name="Rectangle 8"/>
            <p:cNvSpPr/>
            <p:nvPr/>
          </p:nvSpPr>
          <p:spPr>
            <a:xfrm rot="21420000">
              <a:off x="974520" y="391680"/>
              <a:ext cx="8273880" cy="55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9" descr="2010310111050322"/>
            <p:cNvPicPr/>
            <p:nvPr/>
          </p:nvPicPr>
          <p:blipFill>
            <a:blip r:embed="rId2">
              <a:grayscl/>
            </a:blip>
            <a:srcRect l="3177" t="12945" r="0" b="3055"/>
            <a:stretch/>
          </p:blipFill>
          <p:spPr>
            <a:xfrm rot="21420000">
              <a:off x="1271880" y="688320"/>
              <a:ext cx="7668000" cy="49924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pic>
        <p:nvPicPr>
          <p:cNvPr id="208" name="Picture 10" descr="1253944134_Favorites"/>
          <p:cNvPicPr/>
          <p:nvPr/>
        </p:nvPicPr>
        <p:blipFill>
          <a:blip r:embed="rId3"/>
          <a:stretch/>
        </p:blipFill>
        <p:spPr>
          <a:xfrm rot="960000">
            <a:off x="8483760" y="5176440"/>
            <a:ext cx="172404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56CC4DF-ADF5-4982-9C79-F29B4FE4DBE1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5480" y="544680"/>
            <a:ext cx="32608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作</a:t>
            </a:r>
            <a:r>
              <a:rPr b="0" lang="zh-CN" sz="4400" spc="-1" strike="noStrike">
                <a:solidFill>
                  <a:srgbClr val="6600ff"/>
                </a:solidFill>
                <a:latin typeface="Arial"/>
                <a:ea typeface="黑体"/>
              </a:rPr>
              <a:t>文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黑体"/>
              </a:rPr>
              <a:t>六</a:t>
            </a:r>
            <a:r>
              <a:rPr b="0" lang="zh-CN" sz="4400" spc="-1" strike="noStrike">
                <a:solidFill>
                  <a:srgbClr val="0066cc"/>
                </a:solidFill>
                <a:latin typeface="Arial"/>
                <a:ea typeface="黑体"/>
              </a:rPr>
              <a:t>要</a:t>
            </a:r>
            <a:r>
              <a:rPr b="0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-10407240" y="484560"/>
            <a:ext cx="8546040" cy="6017400"/>
            <a:chOff x="-10407240" y="484560"/>
            <a:chExt cx="8546040" cy="6017400"/>
          </a:xfrm>
        </p:grpSpPr>
        <p:sp>
          <p:nvSpPr>
            <p:cNvPr id="212" name="Rectangle 4"/>
            <p:cNvSpPr/>
            <p:nvPr/>
          </p:nvSpPr>
          <p:spPr>
            <a:xfrm rot="21420000">
              <a:off x="-10266480" y="696600"/>
              <a:ext cx="8264520" cy="559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5" descr="2010310111050322"/>
            <p:cNvPicPr/>
            <p:nvPr/>
          </p:nvPicPr>
          <p:blipFill>
            <a:blip r:embed="rId1">
              <a:grayscl/>
            </a:blip>
            <a:srcRect l="3177" t="12945" r="0" b="3055"/>
            <a:stretch/>
          </p:blipFill>
          <p:spPr>
            <a:xfrm rot="21420000">
              <a:off x="-9969120" y="992880"/>
              <a:ext cx="7659360" cy="49921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graphicFrame>
        <p:nvGraphicFramePr>
          <p:cNvPr id="214" name=""/>
          <p:cNvGraphicFramePr/>
          <p:nvPr/>
        </p:nvGraphicFramePr>
        <p:xfrm>
          <a:off x="2530440" y="1386000"/>
          <a:ext cx="5864400" cy="5173200"/>
        </p:xfrm>
        <a:graphic>
          <a:graphicData uri="http://schemas.openxmlformats.org/drawingml/2006/table">
            <a:tbl>
              <a:tblPr/>
              <a:tblGrid>
                <a:gridCol w="1633680"/>
                <a:gridCol w="423072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时间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地点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>
                        <a:alpha val="60000"/>
                      </a:srgbClr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人物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起因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>
                        <a:alpha val="60000"/>
                      </a:srgbClr>
                    </a:solidFill>
                  </a:tcPr>
                </a:tc>
              </a:tr>
              <a:tr h="170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经过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结果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5" name="Text Box 29"/>
          <p:cNvSpPr/>
          <p:nvPr/>
        </p:nvSpPr>
        <p:spPr>
          <a:xfrm>
            <a:off x="5383800" y="14223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学的时候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5195880" y="2259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路人行道上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5079240" y="31240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奶奶 两个女同学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2"/>
          <p:cNvSpPr/>
          <p:nvPr/>
        </p:nvSpPr>
        <p:spPr>
          <a:xfrm>
            <a:off x="5276520" y="39434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奶奶要过马路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3"/>
          <p:cNvSpPr/>
          <p:nvPr/>
        </p:nvSpPr>
        <p:spPr>
          <a:xfrm>
            <a:off x="4962240" y="458964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女同学扶老奶奶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马路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4"/>
          <p:cNvSpPr/>
          <p:nvPr/>
        </p:nvSpPr>
        <p:spPr>
          <a:xfrm>
            <a:off x="4940280" y="58104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奶奶安全通过马路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35"/>
          <p:cNvSpPr/>
          <p:nvPr/>
        </p:nvSpPr>
        <p:spPr>
          <a:xfrm>
            <a:off x="520560" y="270000"/>
            <a:ext cx="2205000" cy="1050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644 -0.003426 L 0.199356 -0.003426 E">
                                      <p:cBhvr>
                                        <p:cTn id="42" dur="5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5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 0 L 0.767954 0.002407 E">
                                      <p:cBhvr>
                                        <p:cTn id="48" dur="1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>幻灯片之家 http:/www.eeppt.com</cp:keywords>
  <dc:language>en-US</dc:language>
  <cp:lastModifiedBy/>
  <dcterms:modified xsi:type="dcterms:W3CDTF">2015-07-13T09:16:27Z</dcterms:modified>
  <cp:revision>1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