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3FC-8E60-4E93-A0A6-8E1E18C2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2BB-6639-429D-BC9C-1F9CC840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B45-5CCC-4B47-B773-6D4ACC2A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E8C-43BD-487C-8E03-E7487F93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2203-CB44-4608-99A9-37CF0D91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0A99-7F81-4FDE-AC73-4B5EE7C9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55DB-6DD1-4287-9640-BEE3A283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671D-B06F-41A2-84E2-96F78515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8C47-8AEC-4004-8CDD-B6BF3A08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744B-A95E-4ECE-83E5-2BBDBF47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438C-CF1C-408C-8676-D0CEAD43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421-878F-4579-9514-0571D2AA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72EE-18C0-4299-9D62-61C5F073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DDFF-2A4A-4A69-BDC7-B9FA14E1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6838-A5B9-4659-BE2C-3326A1D0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080A-8657-4607-9033-D13CB4DC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8D4C-B66A-4CE8-9D46-98B312C6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3F7-0633-4B62-9F53-E0F3CC6E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5FB-C826-464E-894B-ED10DFEE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599-A036-4AE9-9A71-0B00204B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B24-465F-4C3C-A82C-05150280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2DA-F033-4E7E-99B5-358AFD24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6A8-B95C-48AD-89E8-4CF5EDCD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57B-DACA-466A-BE90-B8716D02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3434-2858-463F-ADE5-F12EEEE84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02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>
            <a:hlinkClick r:id="" action="ppaction://hlinkshowjump?jump=endshow"/>
          </p:cNvPr>
          <p:cNvSpPr/>
          <p:nvPr/>
        </p:nvSpPr>
        <p:spPr>
          <a:xfrm>
            <a:off x="0" y="6093000"/>
            <a:ext cx="611280" cy="765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10"/>
          <p:cNvSpPr/>
          <p:nvPr/>
        </p:nvSpPr>
        <p:spPr>
          <a:xfrm>
            <a:off x="179280" y="260280"/>
            <a:ext cx="647640" cy="576360"/>
          </a:xfrm>
          <a:custGeom>
            <a:avLst/>
            <a:gdLst>
              <a:gd name="textAreaLeft" fmla="*/ 36000 w 647640"/>
              <a:gd name="textAreaRight" fmla="*/ 611640 w 64764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920" y="1350"/>
                </a:lnTo>
                <a:lnTo>
                  <a:pt x="1350" y="135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920" y="20250"/>
                </a:lnTo>
                <a:lnTo>
                  <a:pt x="22920" y="135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920" y="2025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270" h="21600">
                <a:moveTo>
                  <a:pt x="12135" y="3800"/>
                </a:moveTo>
                <a:lnTo>
                  <a:pt x="14725" y="6425"/>
                </a:lnTo>
                <a:lnTo>
                  <a:pt x="14725" y="4675"/>
                </a:lnTo>
                <a:lnTo>
                  <a:pt x="16510" y="4675"/>
                </a:lnTo>
                <a:lnTo>
                  <a:pt x="16510" y="8210"/>
                </a:lnTo>
                <a:lnTo>
                  <a:pt x="19135" y="10800"/>
                </a:lnTo>
                <a:lnTo>
                  <a:pt x="17472" y="10800"/>
                </a:lnTo>
                <a:lnTo>
                  <a:pt x="17472" y="18028"/>
                </a:lnTo>
                <a:lnTo>
                  <a:pt x="6797" y="18028"/>
                </a:lnTo>
                <a:lnTo>
                  <a:pt x="6797" y="10800"/>
                </a:lnTo>
                <a:lnTo>
                  <a:pt x="5135" y="10800"/>
                </a:lnTo>
                <a:close/>
              </a:path>
              <a:path fill="darkenLess" w="24270" h="21600">
                <a:moveTo>
                  <a:pt x="14725" y="6425"/>
                </a:moveTo>
                <a:lnTo>
                  <a:pt x="14725" y="4675"/>
                </a:lnTo>
                <a:lnTo>
                  <a:pt x="16510" y="4675"/>
                </a:lnTo>
                <a:lnTo>
                  <a:pt x="16510" y="8210"/>
                </a:lnTo>
                <a:close/>
              </a:path>
              <a:path fill="darkenLess" w="24270" h="21600">
                <a:moveTo>
                  <a:pt x="11207" y="14318"/>
                </a:moveTo>
                <a:lnTo>
                  <a:pt x="13062" y="14318"/>
                </a:lnTo>
                <a:lnTo>
                  <a:pt x="13062" y="18028"/>
                </a:lnTo>
                <a:lnTo>
                  <a:pt x="17472" y="18028"/>
                </a:lnTo>
                <a:lnTo>
                  <a:pt x="17472" y="10800"/>
                </a:lnTo>
                <a:lnTo>
                  <a:pt x="6797" y="10800"/>
                </a:lnTo>
                <a:lnTo>
                  <a:pt x="6797" y="18028"/>
                </a:lnTo>
                <a:lnTo>
                  <a:pt x="11207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5" descr="5"/>
          <p:cNvPicPr/>
          <p:nvPr/>
        </p:nvPicPr>
        <p:blipFill>
          <a:blip r:embed="rId3"/>
          <a:stretch/>
        </p:blipFill>
        <p:spPr>
          <a:xfrm>
            <a:off x="8244000" y="142920"/>
            <a:ext cx="715680" cy="71604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6948360" y="765000"/>
            <a:ext cx="2664000" cy="4680000"/>
            <a:chOff x="6948360" y="765000"/>
            <a:chExt cx="2664000" cy="4680000"/>
          </a:xfrm>
        </p:grpSpPr>
        <p:grpSp>
          <p:nvGrpSpPr>
            <p:cNvPr id="10" name=""/>
            <p:cNvGrpSpPr/>
            <p:nvPr/>
          </p:nvGrpSpPr>
          <p:grpSpPr>
            <a:xfrm>
              <a:off x="6948360" y="765000"/>
              <a:ext cx="2664000" cy="4680000"/>
              <a:chOff x="6948360" y="765000"/>
              <a:chExt cx="2664000" cy="4680000"/>
            </a:xfrm>
          </p:grpSpPr>
          <p:pic>
            <p:nvPicPr>
              <p:cNvPr id="11" name="Picture 12" descr="027"/>
              <p:cNvPicPr/>
              <p:nvPr/>
            </p:nvPicPr>
            <p:blipFill>
              <a:blip r:embed="rId4"/>
              <a:stretch/>
            </p:blipFill>
            <p:spPr>
              <a:xfrm>
                <a:off x="6948360" y="765000"/>
                <a:ext cx="2664000" cy="468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" name="Picture 13" descr="小学语文（散文）02-1"/>
              <p:cNvPicPr/>
              <p:nvPr/>
            </p:nvPicPr>
            <p:blipFill>
              <a:blip r:embed="rId5"/>
              <a:stretch/>
            </p:blipFill>
            <p:spPr>
              <a:xfrm>
                <a:off x="7894440" y="1196640"/>
                <a:ext cx="1035000" cy="43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Picture 14" descr="小学语文（散文）02-2"/>
              <p:cNvPicPr/>
              <p:nvPr/>
            </p:nvPicPr>
            <p:blipFill>
              <a:blip r:embed="rId6"/>
              <a:stretch/>
            </p:blipFill>
            <p:spPr>
              <a:xfrm>
                <a:off x="7894440" y="1757160"/>
                <a:ext cx="1066320" cy="31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Picture 15" descr="小学语文（散文）02-3"/>
              <p:cNvPicPr/>
              <p:nvPr/>
            </p:nvPicPr>
            <p:blipFill>
              <a:blip r:embed="rId7"/>
              <a:stretch/>
            </p:blipFill>
            <p:spPr>
              <a:xfrm>
                <a:off x="7846200" y="2205000"/>
                <a:ext cx="1054440" cy="431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" name=""/>
              <p:cNvGrpSpPr/>
              <p:nvPr/>
            </p:nvGrpSpPr>
            <p:grpSpPr>
              <a:xfrm>
                <a:off x="7777080" y="2709720"/>
                <a:ext cx="1183320" cy="372960"/>
                <a:chOff x="7777080" y="2709720"/>
                <a:chExt cx="1183320" cy="372960"/>
              </a:xfrm>
            </p:grpSpPr>
            <p:pic>
              <p:nvPicPr>
                <p:cNvPr id="16" name="Picture 17" descr="小学语文（散文）02-4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777080" y="2709720"/>
                  <a:ext cx="1064520" cy="372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" name="WordArt 18"/>
                <p:cNvSpPr txBox="1"/>
                <p:nvPr/>
              </p:nvSpPr>
              <p:spPr>
                <a:xfrm>
                  <a:off x="8901720" y="2781000"/>
                  <a:ext cx="58680" cy="216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0">
                        <a:noFill/>
                      </a:ln>
                      <a:solidFill>
                        <a:srgbClr val="99cc00"/>
                      </a:solidFill>
                      <a:effectLst>
                        <a:outerShdw dist="17819" dir="2700000" blurRad="0" rotWithShape="0">
                          <a:srgbClr val="c0c0c0">
                            <a:alpha val="76000"/>
                          </a:srgbClr>
                        </a:outerShdw>
                      </a:effectLst>
                      <a:latin typeface="华文行楷"/>
                    </a:rPr>
                    <a:t>1</a:t>
                  </a:r>
                  <a:endParaRPr b="1" lang="en-US" sz="1800" spc="-1" strike="noStrike">
                    <a:ln w="0">
                      <a:noFill/>
                    </a:ln>
                    <a:solidFill>
                      <a:srgbClr val="99cc00"/>
                    </a:solidFill>
                    <a:effectLst>
                      <a:outerShdw dist="17819" dir="2700000" blurRad="0" rotWithShape="0">
                        <a:srgbClr val="c0c0c0">
                          <a:alpha val="76000"/>
                        </a:srgbClr>
                      </a:outerShdw>
                    </a:effectLst>
                    <a:latin typeface="华文行楷"/>
                    <a:ea typeface="华文行楷"/>
                  </a:endParaRPr>
                </a:p>
              </p:txBody>
            </p:sp>
          </p:grpSp>
          <p:grpSp>
            <p:nvGrpSpPr>
              <p:cNvPr id="18" name=""/>
              <p:cNvGrpSpPr/>
              <p:nvPr/>
            </p:nvGrpSpPr>
            <p:grpSpPr>
              <a:xfrm>
                <a:off x="7718400" y="3213000"/>
                <a:ext cx="1242000" cy="372960"/>
                <a:chOff x="7718400" y="3213000"/>
                <a:chExt cx="1242000" cy="372960"/>
              </a:xfrm>
            </p:grpSpPr>
            <p:sp>
              <p:nvSpPr>
                <p:cNvPr id="19" name="WordArt 20"/>
                <p:cNvSpPr txBox="1"/>
                <p:nvPr/>
              </p:nvSpPr>
              <p:spPr>
                <a:xfrm>
                  <a:off x="8902080" y="3286080"/>
                  <a:ext cx="58320" cy="216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ln w="0">
                        <a:noFill/>
                      </a:ln>
                      <a:solidFill>
                        <a:srgbClr val="99cc00"/>
                      </a:solidFill>
                      <a:effectLst>
                        <a:outerShdw dist="17819" dir="2700000" blurRad="0" rotWithShape="0">
                          <a:srgbClr val="c0c0c0">
                            <a:alpha val="76000"/>
                          </a:srgbClr>
                        </a:outerShdw>
                      </a:effectLst>
                      <a:latin typeface="华文行楷"/>
                    </a:rPr>
                    <a:t>2</a:t>
                  </a:r>
                  <a:endParaRPr b="1" lang="en-US" sz="1800" spc="-1" strike="noStrike">
                    <a:ln w="0">
                      <a:noFill/>
                    </a:ln>
                    <a:solidFill>
                      <a:srgbClr val="99cc00"/>
                    </a:solidFill>
                    <a:effectLst>
                      <a:outerShdw dist="17819" dir="2700000" blurRad="0" rotWithShape="0">
                        <a:srgbClr val="c0c0c0">
                          <a:alpha val="76000"/>
                        </a:srgbClr>
                      </a:outerShdw>
                    </a:effectLst>
                    <a:latin typeface="华文行楷"/>
                    <a:ea typeface="华文行楷"/>
                  </a:endParaRPr>
                </a:p>
              </p:txBody>
            </p:sp>
            <p:pic>
              <p:nvPicPr>
                <p:cNvPr id="20" name="Picture 21" descr="小学语文（散文）02-4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718400" y="3213000"/>
                  <a:ext cx="1064520" cy="372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1" name="Picture 22" descr="dyd"/>
              <p:cNvPicPr/>
              <p:nvPr/>
            </p:nvPicPr>
            <p:blipFill>
              <a:blip r:embed="rId10"/>
              <a:stretch/>
            </p:blipFill>
            <p:spPr>
              <a:xfrm>
                <a:off x="7658280" y="3644640"/>
                <a:ext cx="112500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Picture 23" descr="xyx"/>
              <p:cNvPicPr/>
              <p:nvPr/>
            </p:nvPicPr>
            <p:blipFill>
              <a:blip r:embed="rId11"/>
              <a:stretch/>
            </p:blipFill>
            <p:spPr>
              <a:xfrm>
                <a:off x="7658280" y="4149720"/>
                <a:ext cx="106632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Picture 24" descr="zyz"/>
              <p:cNvPicPr/>
              <p:nvPr/>
            </p:nvPicPr>
            <p:blipFill>
              <a:blip r:embed="rId12"/>
              <a:stretch/>
            </p:blipFill>
            <p:spPr>
              <a:xfrm>
                <a:off x="7835760" y="4584600"/>
                <a:ext cx="10648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" name="Rectangle 26"/>
            <p:cNvSpPr/>
            <p:nvPr/>
          </p:nvSpPr>
          <p:spPr>
            <a:xfrm>
              <a:off x="7885080" y="1773000"/>
              <a:ext cx="1079280" cy="287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AutoShape 28"/>
          <p:cNvSpPr/>
          <p:nvPr/>
        </p:nvSpPr>
        <p:spPr>
          <a:xfrm>
            <a:off x="8532720" y="6237360"/>
            <a:ext cx="611280" cy="620640"/>
          </a:xfrm>
          <a:prstGeom prst="upArrow">
            <a:avLst>
              <a:gd name="adj1" fmla="val 54806"/>
              <a:gd name="adj2" fmla="val 61022"/>
            </a:avLst>
          </a:pr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课件_Scene 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468360" y="476280"/>
            <a:ext cx="3382920" cy="1512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0" y="2205000"/>
            <a:ext cx="2627280" cy="1513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2268360" y="3500280"/>
            <a:ext cx="2303640" cy="1224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68360" y="5013360"/>
            <a:ext cx="3382920" cy="1440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5796000" y="5300640"/>
            <a:ext cx="2303280" cy="1224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5724360" y="4076640"/>
            <a:ext cx="2303640" cy="1224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5076720" y="2637000"/>
            <a:ext cx="2303640" cy="1223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6588000" y="1341360"/>
            <a:ext cx="2303640" cy="1224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>
            <a:hlinkClick r:id="" action="ppaction://hlinkshowjump?jump=endshow"/>
          </p:cNvPr>
          <p:cNvSpPr/>
          <p:nvPr/>
        </p:nvSpPr>
        <p:spPr>
          <a:xfrm>
            <a:off x="7596360" y="2708280"/>
            <a:ext cx="1330200" cy="1512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B134-FB7E-4A29-8A8D-25B67861E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8000" y="64548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46040" y="170172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幼儿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zyz"/>
          <p:cNvPicPr/>
          <p:nvPr/>
        </p:nvPicPr>
        <p:blipFill>
          <a:blip r:embed="rId1"/>
          <a:stretch/>
        </p:blipFill>
        <p:spPr>
          <a:xfrm>
            <a:off x="826920" y="1052640"/>
            <a:ext cx="1932120" cy="582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246-766B-4450-87B4-8412159F3875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0:45:22Z</dcterms:created>
  <dc:creator/>
  <dc:description/>
  <cp:keywords>幻灯片之家 http:/www.eeppt.com</cp:keywords>
  <dc:language>en-US</dc:language>
  <cp:lastModifiedBy/>
  <dcterms:modified xsi:type="dcterms:W3CDTF">2015-07-13T08:57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