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E77-597D-41EC-944F-EC53F0F8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47A-EA6C-4B5C-A557-A44569AB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4C3-E87C-48E0-AA9F-77AD3318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7F4-ACD2-4753-A241-304B994C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F3E-B87E-4A5E-8F0A-DC005754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0FE-AE59-4D5D-BC34-8453C49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9F9-91B4-48F2-82C1-37D3363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A25-7C35-4906-BAD1-0007E652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8F8-5249-4DFB-BB10-5899B67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5CA-B7F1-4D76-B420-575ACF6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143-2962-4BAD-A3E0-0257EE2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B3E-3B4A-4A09-966B-8118AA7C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2ED1-6197-4ECA-A33E-61A7313D0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200911171817542968"/>
          <p:cNvPicPr/>
          <p:nvPr/>
        </p:nvPicPr>
        <p:blipFill>
          <a:blip r:embed="rId2"/>
          <a:stretch/>
        </p:blipFill>
        <p:spPr>
          <a:xfrm>
            <a:off x="10800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755640" y="2349360"/>
            <a:ext cx="775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887480" y="40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200560" y="40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43800" y="234936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一个小村庄的故事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200949011477373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自然环境的破坏"/>
          <p:cNvPicPr/>
          <p:nvPr/>
        </p:nvPicPr>
        <p:blipFill>
          <a:blip r:embed="rId3"/>
          <a:stretch/>
        </p:blipFill>
        <p:spPr>
          <a:xfrm>
            <a:off x="0" y="0"/>
            <a:ext cx="6084720" cy="4564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6227640" y="6922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什么都没有了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所有靠斧头得到的一切，包括那些锋利的斧头。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98320" y="479736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用斧头砍的树盖的房子、做成的各式各样的工具，应有尽有的家具，还有那些锋利的斧头，全都没有了。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白桦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林海——白桦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林海——丛林"/>
          <p:cNvPicPr/>
          <p:nvPr/>
        </p:nvPicPr>
        <p:blipFill>
          <a:blip r:embed="rId3"/>
          <a:stretch/>
        </p:blipFill>
        <p:spPr>
          <a:xfrm>
            <a:off x="4572000" y="3436920"/>
            <a:ext cx="4572000" cy="342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林海——红松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小兴安岭图片4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456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127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128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" descr="200912261751980761"/>
          <p:cNvPicPr/>
          <p:nvPr/>
        </p:nvPicPr>
        <p:blipFill>
          <a:blip r:embed="rId2"/>
          <a:stretch/>
        </p:blipFill>
        <p:spPr>
          <a:xfrm>
            <a:off x="10800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3276720" y="17002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968400" y="42559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638680" y="4183200"/>
            <a:ext cx="2667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" name="一个小村庄的故事.wav" descr=""/>
          <p:cNvPicPr/>
          <p:nvPr/>
        </p:nvPicPr>
        <p:blipFill>
          <a:blip r:embed="rId3"/>
          <a:stretch/>
        </p:blipFill>
        <p:spPr>
          <a:xfrm>
            <a:off x="4140360" y="316692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button106"/>
          <p:cNvPicPr/>
          <p:nvPr/>
        </p:nvPicPr>
        <p:blipFill>
          <a:blip r:embed="rId4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7164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C48-6904-4A8C-9B03-62F760B8E6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3" descr="200962923364870508"/>
          <p:cNvPicPr/>
          <p:nvPr/>
        </p:nvPicPr>
        <p:blipFill>
          <a:blip r:embed="rId2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button106"/>
          <p:cNvPicPr/>
          <p:nvPr/>
        </p:nvPicPr>
        <p:blipFill>
          <a:blip r:embed="rId3"/>
          <a:stretch/>
        </p:blipFill>
        <p:spPr>
          <a:xfrm>
            <a:off x="8458200" y="61722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7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小村庄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152280" y="3092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树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9"/>
          <p:cNvSpPr/>
          <p:nvPr/>
        </p:nvSpPr>
        <p:spPr>
          <a:xfrm>
            <a:off x="3124080" y="1523880"/>
            <a:ext cx="152640" cy="3810240"/>
          </a:xfrm>
          <a:custGeom>
            <a:avLst/>
            <a:gdLst>
              <a:gd name="textAreaLeft" fmla="*/ 97560 w 152640"/>
              <a:gd name="textAreaRight" fmla="*/ 153000 w 1526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32004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房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3352680" y="2558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3352680" y="3701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3352680" y="4768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7620120" y="2847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都没有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121932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1447920" y="2863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0"/>
          <p:cNvSpPr/>
          <p:nvPr/>
        </p:nvSpPr>
        <p:spPr>
          <a:xfrm>
            <a:off x="4419720" y="342900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5181480" y="2863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减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038480" y="33973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666699"/>
                </a:solidFill>
                <a:latin typeface="Times New Roman"/>
                <a:ea typeface="楷体_GB2312"/>
              </a:rPr>
              <a:t>一年年、一代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8" descr="2009102420316515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371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f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斧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盖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房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断      减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5812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g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79132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z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94836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l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90512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du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350532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iǎ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5943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2009119192922310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2057400" y="7621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dò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栋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具      冒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烟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明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956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943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m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952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ch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á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809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l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8672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h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ó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200912291857445112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95280" y="141300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何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button106"/>
          <p:cNvPicPr/>
          <p:nvPr/>
        </p:nvPicPr>
        <p:blipFill>
          <a:blip r:embed="rId3"/>
          <a:stretch/>
        </p:blipFill>
        <p:spPr>
          <a:xfrm>
            <a:off x="80773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76720" y="1905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h</a:t>
            </a:r>
            <a:r>
              <a:rPr b="0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867280" y="1905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200911202258245234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324000" y="1413000"/>
            <a:ext cx="712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量的树木随着屋顶冒出的柴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消失在天空中。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4920" y="30686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量的树木被当作柴草烧掉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《一个小村庄的故事》课文插图二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16000" y="621648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大雨没喘气儿。大雨一直下个不停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/>
  <dc:description/>
  <cp:keywords>幻灯片之家 http:/www.eeppt.com</cp:keywords>
  <dc:language>en-US</dc:language>
  <cp:lastModifiedBy/>
  <dcterms:modified xsi:type="dcterms:W3CDTF">2015-07-03T14:19:30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