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5D-E2C6-412B-B197-E1DBCA4A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98A-1396-4C02-969F-C1CD967B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40E-A02A-45B7-B933-FAF59F92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0B6-F775-4A8E-A5B5-C251FDCA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237C-EE8D-477E-B21A-5DA6E997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280-C781-4442-B615-EE8F33F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A3F-8A2D-440E-B034-5003665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2F6-9174-4BCA-84AB-C1FF55CA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CC1-E49F-4876-927A-B93F25C4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50C0-5617-4B97-A60D-C605382A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E3CA-614F-4712-BB68-BCD73B64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A9C-AAA7-4C03-BA5A-B19FAAF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B311-34FC-4D2B-A256-0FE3014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8C2-4476-4F5F-8459-2E1644C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8B90-4E78-4587-91B2-410A0654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826-BD95-4410-A850-DB97161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1BF-235A-4ED4-8BAF-383D6B47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88B-55F1-4947-942E-865FE82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85A-4C5B-463D-BA4C-82DD27FF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D32-203F-4E4B-B645-25941AA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DBD-F82E-4E3C-878E-78F0FCB5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6D6-5CBF-48AB-B3EE-2E3A0F9A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C2D-5F9C-4C3C-8CAF-9BA2448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BD3-4BCD-4252-92EE-3D9D020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2B6-FD24-457E-9C07-00B6D5395A32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30D-5D52-418E-AD2D-33CA2F22357B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艺术抽象创意</a:t>
            </a: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PPT</a:t>
            </a:r>
            <a:r>
              <a:rPr b="1" lang="zh-CN" sz="6000" spc="-1" strike="noStrike">
                <a:solidFill>
                  <a:srgbClr val="b2b2b2"/>
                </a:solidFill>
                <a:latin typeface="Impact"/>
                <a:ea typeface="宋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219320"/>
            <a:ext cx="4724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Impact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16002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940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0942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6944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294680" y="89856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1:23:40Z</dcterms:created>
  <dc:creator/>
  <dc:description/>
  <cp:keywords>幻灯片之家 http:/www.eeppt.com</cp:keywords>
  <dc:language>en-US</dc:language>
  <cp:lastModifiedBy/>
  <dcterms:modified xsi:type="dcterms:W3CDTF">2015-07-05T07:32:5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