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BE61-AC5C-4E84-8EDB-2EF62A4C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1DD6-0614-4F88-AA94-35B6EB32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895E-7AED-4394-AF7B-5E64B7F2D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C89C-AA21-45A3-9396-ECEA1D60D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C1E3-D1C7-4356-ADA5-C04C5CE8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C461-AD4B-48D3-AAB4-F8DF64DC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7A97-E3B1-4FB3-8FDC-8D2917F8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2636-458B-4A35-B826-6215623C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B22A-5A08-433E-8757-C73BFDCC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2539-AE3B-4F54-8140-BC688C92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5357-5E27-400D-ADEE-D3B40169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6A10-201C-4AF8-B4C3-50217C12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6F23-087C-4190-89FF-2F1E88705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yaoxiayu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3124080" y="40384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cc99"/>
                </a:solidFill>
                <a:latin typeface="Times New Roman"/>
              </a:rPr>
              <a:t>                  </a:t>
            </a:r>
            <a:r>
              <a:rPr b="0" lang="zh-CN" sz="3600" spc="-1" strike="noStrike">
                <a:solidFill>
                  <a:srgbClr val="00cc99"/>
                </a:solidFill>
                <a:latin typeface="Times New Roman"/>
              </a:rPr>
              <a:t>制作者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——</a:t>
            </a:r>
            <a:r>
              <a:rPr b="0" lang="zh-CN" sz="3600" spc="-1" strike="noStrike">
                <a:solidFill>
                  <a:srgbClr val="00cc99"/>
                </a:solidFill>
                <a:latin typeface="Times New Roman"/>
              </a:rPr>
              <a:t>李振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460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6600" y="836640"/>
            <a:ext cx="253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要下雨了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课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10008"/>
          <p:cNvPicPr/>
          <p:nvPr/>
        </p:nvPicPr>
        <p:blipFill>
          <a:blip r:embed="rId1"/>
          <a:stretch/>
        </p:blipFill>
        <p:spPr>
          <a:xfrm>
            <a:off x="-838080" y="-1066680"/>
            <a:ext cx="10820160" cy="102106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990720" y="838080"/>
            <a:ext cx="59436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一、学习生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5050"/>
                </a:solidFill>
                <a:latin typeface="Times New Roman"/>
              </a:rPr>
              <a:t>奇    怪    今    闷很    低    为    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4221000"/>
            <a:ext cx="611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" descr="9995"/>
          <p:cNvPicPr/>
          <p:nvPr/>
        </p:nvPicPr>
        <p:blipFill>
          <a:blip r:embed="rId1"/>
          <a:stretch/>
        </p:blipFill>
        <p:spPr>
          <a:xfrm>
            <a:off x="-304920" y="-19080"/>
            <a:ext cx="9448920" cy="6877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457200" y="685800"/>
            <a:ext cx="80773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二、比一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怪（           ）很（            ）低（           ）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轻（           ）根（            ）纸（  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为（           ）闷（            ）今（  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力（           ）间（           ）冷（  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371600" y="1523880"/>
            <a:ext cx="121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奇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499040" y="2362320"/>
            <a:ext cx="9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轻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4191480" y="1447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很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4223160" y="2286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树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010640" y="1447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很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6966360" y="2254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白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1676880" y="3124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为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1600560" y="3962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力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4207320" y="31082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很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4223160" y="3886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中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6966360" y="3124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今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6934680" y="3962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冷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4964-FDFA-469F-A54B-D40FB8BB10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9" descr="10044"/>
          <p:cNvPicPr/>
          <p:nvPr/>
        </p:nvPicPr>
        <p:blipFill>
          <a:blip r:embed="rId1"/>
          <a:stretch/>
        </p:blipFill>
        <p:spPr>
          <a:xfrm>
            <a:off x="-533520" y="-819000"/>
            <a:ext cx="9982440" cy="88963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685800" y="990720"/>
            <a:ext cx="419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5050"/>
                </a:solidFill>
                <a:latin typeface="Times New Roman"/>
              </a:rPr>
              <a:t>三、说一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762120" y="2209680"/>
            <a:ext cx="807696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因为要下雨了，所 以 （                      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因为空气很潮湿，所以（                                                          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因为（                ），所以燕子低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因为（                ），所以（              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174000" y="21337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空气很潮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2714400" y="358128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小虫的翅膀上沾了许多小水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3" descr="10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2"/>
          <p:cNvSpPr/>
          <p:nvPr/>
        </p:nvSpPr>
        <p:spPr>
          <a:xfrm>
            <a:off x="1447920" y="106668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四、填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066680" y="1905120"/>
            <a:ext cx="7848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下雨前，小鱼在水里觉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（          ），游 到（            ）来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下雨前，燕子要飞得（        ），才能（               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957320" y="28195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Times New Roman"/>
              </a:rPr>
              <a:t>很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5792760" y="28195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Times New Roman"/>
              </a:rPr>
              <a:t>水面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7062840" y="3733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Times New Roman"/>
              </a:rPr>
              <a:t>很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2922480" y="43434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Times New Roman"/>
              </a:rPr>
              <a:t>捉到虫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8T11:21:28Z</dcterms:created>
  <dc:creator/>
  <dc:description/>
  <cp:keywords>幻灯片之家 http:/www.eeppt.com</cp:keywords>
  <dc:language>en-US</dc:language>
  <cp:lastModifiedBy/>
  <dcterms:modified xsi:type="dcterms:W3CDTF">2015-07-10T13:24:12Z</dcterms:modified>
  <cp:revision>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