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6D9-0B88-491B-9396-414F660E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B28-C864-4277-BF33-DE255EA9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7703-6A43-48E8-A06D-E8A31AF1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DD06-33F5-459D-B489-97A0FFCD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42E0-6AB2-4762-8D1A-9F969466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D653-4B0A-4D4F-BF9F-5FD24BD5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AEC3A-6A36-4054-84D7-1432CED0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6154-7E72-438E-A9B7-CF337E07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A213-A7FB-4810-95F6-FB9850E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4AB8-BF52-47DF-A481-81D0FEF0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E6D0-43B8-4613-8EA6-EACF4A72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CA62-2B73-4973-A338-90ECE4DA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7A76-B2F1-4C2F-BD24-B96CC279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BB10-2B07-4983-AF60-2A6DCEA2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B19-665E-4636-BC00-11E8C42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67AB-ED52-4AA0-8F77-82E7D72F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1D1F-6532-46B6-B286-2397DE0B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19A2-7DE3-47B6-8EFF-6BD4C3D0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34E8-C223-483B-B2C2-7B25C721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26BE-7BDD-4CBC-A337-09C2E994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3F2-7B7C-40B4-81C2-433BAD78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545D-A3F6-4A66-97DF-6ACBCF38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47B2-611A-480C-90C5-46BDC8F5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C233-B9CC-4796-B546-A23F217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76BC-1D1F-4B0C-BEDE-1E3E3A903F9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112-5213-45AF-A65D-B9000CBB95CE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ye.wav" TargetMode="External"/><Relationship Id="rId4" Type="http://schemas.openxmlformats.org/officeDocument/2006/relationships/hyperlink" Target="ke.wav" TargetMode="External"/><Relationship Id="rId5" Type="http://schemas.openxmlformats.org/officeDocument/2006/relationships/hyperlink" Target="dao.wav" TargetMode="External"/><Relationship Id="rId6" Type="http://schemas.openxmlformats.org/officeDocument/2006/relationships/hyperlink" Target="gei.wav" TargetMode="External"/><Relationship Id="rId7" Type="http://schemas.openxmlformats.org/officeDocument/2006/relationships/hyperlink" Target="chuan01.wav" TargetMode="External"/><Relationship Id="rId8" Type="http://schemas.openxmlformats.org/officeDocument/2006/relationships/hyperlink" Target="nuang.wav" TargetMode="External"/><Relationship Id="rId9" Type="http://schemas.openxmlformats.org/officeDocument/2006/relationships/hyperlink" Target="leng.wav" TargetMode="External"/><Relationship Id="rId10" Type="http://schemas.openxmlformats.org/officeDocument/2006/relationships/hyperlink" Target="kai.wav" TargetMode="External"/><Relationship Id="rId11" Type="http://schemas.openxmlformats.org/officeDocument/2006/relationships/hyperlink" Target="san.wav" TargetMode="External"/><Relationship Id="rId12" Type="http://schemas.openxmlformats.org/officeDocument/2006/relationships/hyperlink" Target="re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71640" y="472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8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65720" y="2276640"/>
            <a:ext cx="28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爷爷和小树课件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ppt</a:t>
            </a:r>
            <a:endParaRPr b="0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9297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403280" y="1847880"/>
            <a:ext cx="6208920" cy="4389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666880" y="1600200"/>
            <a:ext cx="35416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C5BD-CC22-45EE-9BAB-B9A88D96D9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619280" y="1628640"/>
            <a:ext cx="6095880" cy="4800600"/>
            <a:chOff x="1619280" y="1628640"/>
            <a:chExt cx="6095880" cy="4800600"/>
          </a:xfrm>
        </p:grpSpPr>
        <p:sp>
          <p:nvSpPr>
            <p:cNvPr id="134" name=""/>
            <p:cNvSpPr/>
            <p:nvPr/>
          </p:nvSpPr>
          <p:spPr>
            <a:xfrm>
              <a:off x="1619280" y="1628640"/>
              <a:ext cx="3962520" cy="1828800"/>
            </a:xfrm>
            <a:prstGeom prst="cloudCallout">
              <a:avLst>
                <a:gd name="adj1" fmla="val 26722"/>
                <a:gd name="adj2" fmla="val 92796"/>
              </a:avLst>
            </a:prstGeom>
            <a:solidFill>
              <a:srgbClr val="ffffff"/>
            </a:solidFill>
            <a:ln w="1908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  <a:ea typeface="楷体_GB2312"/>
                </a:rPr>
                <a:t>我们应该怎样帮助小树？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3"/>
            <a:stretch/>
          </p:blipFill>
          <p:spPr>
            <a:xfrm>
              <a:off x="4133880" y="3076560"/>
              <a:ext cx="3581280" cy="335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"/>
          <p:cNvSpPr/>
          <p:nvPr/>
        </p:nvSpPr>
        <p:spPr>
          <a:xfrm>
            <a:off x="755640" y="4581360"/>
            <a:ext cx="611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66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22680" y="18525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读读说说 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: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05480" y="2438280"/>
            <a:ext cx="5790600" cy="2652840"/>
            <a:chOff x="1905480" y="2438280"/>
            <a:chExt cx="5790600" cy="2652840"/>
          </a:xfrm>
        </p:grpSpPr>
        <p:sp>
          <p:nvSpPr>
            <p:cNvPr id="140" name=""/>
            <p:cNvSpPr/>
            <p:nvPr/>
          </p:nvSpPr>
          <p:spPr>
            <a:xfrm>
              <a:off x="1905480" y="2438280"/>
              <a:ext cx="53013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暖和的衣裳    暖和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绿色的小伞    绿色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漂亮的衣服    漂亮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         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雪白的云朵    雪白的</a:t>
              </a:r>
              <a:r>
                <a:rPr b="1" lang="en-US" sz="2800" spc="-1" strike="noStrike" u="sng">
                  <a:solidFill>
                    <a:srgbClr val="0033cc"/>
                  </a:solidFill>
                  <a:uFillTx/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080" y="312408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0080" y="373356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0080" y="434340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10080" y="4952880"/>
              <a:ext cx="22860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44720" y="630864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952880" y="3105000"/>
            <a:ext cx="3276720" cy="3067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81080" y="1600200"/>
            <a:ext cx="3429000" cy="2286000"/>
          </a:xfrm>
          <a:prstGeom prst="cloudCallout">
            <a:avLst>
              <a:gd name="adj1" fmla="val 50092"/>
              <a:gd name="adj2" fmla="val 81388"/>
            </a:avLst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们为保护树木做了哪些事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63200" y="1928880"/>
            <a:ext cx="12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自读课文，读准字音，读通课文。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48800" y="2919240"/>
            <a:ext cx="18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会读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48040" y="3692520"/>
            <a:ext cx="4320000" cy="2123640"/>
            <a:chOff x="2048040" y="3692520"/>
            <a:chExt cx="4320000" cy="2123640"/>
          </a:xfrm>
        </p:grpSpPr>
        <p:sp>
          <p:nvSpPr>
            <p:cNvPr id="94" name=""/>
            <p:cNvSpPr/>
            <p:nvPr/>
          </p:nvSpPr>
          <p:spPr>
            <a:xfrm>
              <a:off x="2207520" y="3981600"/>
              <a:ext cx="3808080" cy="183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3"/>
                </a:rPr>
                <a:t>爷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4"/>
                </a:rPr>
                <a:t>棵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5"/>
                </a:rPr>
                <a:t>到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6"/>
                </a:rPr>
                <a:t>给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7"/>
                </a:rPr>
                <a:t>穿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8"/>
                </a:rPr>
                <a:t>暖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9"/>
                </a:rPr>
                <a:t>冷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0"/>
                </a:rPr>
                <a:t>开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1"/>
                </a:rPr>
                <a:t>伞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  </a:t>
              </a:r>
              <a:r>
                <a:rPr b="0" lang="zh-CN" sz="2800" spc="-1" strike="noStrike" u="sng">
                  <a:solidFill>
                    <a:srgbClr val="cc0066"/>
                  </a:solidFill>
                  <a:uFillTx/>
                  <a:latin typeface="楷体_GB2312"/>
                  <a:ea typeface="楷体_GB2312"/>
                  <a:hlinkClick r:id="rId12"/>
                </a:rPr>
                <a:t>热</a:t>
              </a:r>
              <a:r>
                <a:rPr b="1" lang="en-US" sz="2800" spc="-1" strike="noStrike">
                  <a:solidFill>
                    <a:srgbClr val="0033cc"/>
                  </a:solidFill>
                  <a:latin typeface="楷体_GB2312"/>
                  <a:ea typeface="楷体_GB2312"/>
                </a:rPr>
                <a:t> </a:t>
              </a:r>
              <a:endParaRPr b="0" lang="en-US" sz="2800" spc="-1" strike="noStrike">
                <a:solidFill>
                  <a:srgbClr val="0033cc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048040" y="3692520"/>
              <a:ext cx="4320000" cy="1567800"/>
              <a:chOff x="2048040" y="3692520"/>
              <a:chExt cx="4320000" cy="1567800"/>
            </a:xfrm>
          </p:grpSpPr>
          <p:sp>
            <p:nvSpPr>
              <p:cNvPr id="96" name=""/>
              <p:cNvSpPr/>
              <p:nvPr/>
            </p:nvSpPr>
            <p:spPr>
              <a:xfrm>
                <a:off x="2067840" y="3692520"/>
                <a:ext cx="43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yé     kē    d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Century Gothic"/>
                  </a:rPr>
                  <a:t>à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o   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ěi  chuān  nuǎn</a:t>
                </a: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048040" y="4800600"/>
                <a:ext cx="291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lěn</a:t>
                </a:r>
                <a:r>
                  <a:rPr b="1" lang="en-US" sz="2000" spc="-1" strike="noStrike">
                    <a:solidFill>
                      <a:srgbClr val="3399ff"/>
                    </a:solidFill>
                    <a:latin typeface="Arial"/>
                  </a:rPr>
                  <a:t>g</a:t>
                </a:r>
                <a:r>
                  <a:rPr b="1" lang="en-US" sz="2400" spc="-1" strike="noStrike">
                    <a:solidFill>
                      <a:srgbClr val="3399ff"/>
                    </a:solidFill>
                    <a:latin typeface="Times New Roman"/>
                  </a:rPr>
                  <a:t>    kāi   sǎn       rè</a:t>
                </a:r>
                <a:endParaRPr b="0" lang="en-US" sz="2400" spc="-1" strike="noStrike">
                  <a:solidFill>
                    <a:srgbClr val="0033cc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1763640" y="2205000"/>
            <a:ext cx="5619600" cy="4176720"/>
            <a:chOff x="1763640" y="2205000"/>
            <a:chExt cx="5619600" cy="417672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1763640" y="220500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4716360" y="220500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1763640" y="4381560"/>
              <a:ext cx="266688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4713120" y="4381560"/>
              <a:ext cx="2667240" cy="200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"/>
          <p:cNvSpPr/>
          <p:nvPr/>
        </p:nvSpPr>
        <p:spPr>
          <a:xfrm>
            <a:off x="1822680" y="1628640"/>
            <a:ext cx="18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◆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会写 </a:t>
            </a:r>
            <a:endParaRPr b="0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692360" y="1916280"/>
            <a:ext cx="5207040" cy="3870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580000" y="333360"/>
            <a:ext cx="3353040" cy="1909800"/>
          </a:xfrm>
          <a:prstGeom prst="cloudCallout">
            <a:avLst>
              <a:gd name="adj1" fmla="val -45074"/>
              <a:gd name="adj2" fmla="val 85662"/>
            </a:avLst>
          </a:prstGeom>
          <a:solidFill>
            <a:srgbClr val="ffffff"/>
          </a:solidFill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小树在寒风里会说些什么呢？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524720" y="198900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09300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22"/>
          <a:stretch/>
        </p:blipFill>
        <p:spPr>
          <a:xfrm>
            <a:off x="1981080" y="2209680"/>
            <a:ext cx="5257800" cy="3883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038480" y="990720"/>
            <a:ext cx="3505320" cy="1600200"/>
          </a:xfrm>
          <a:prstGeom prst="cloudCallout">
            <a:avLst>
              <a:gd name="adj1" fmla="val -34194"/>
              <a:gd name="adj2" fmla="val 75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暖和的衣裳”指什么？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990720"/>
            <a:ext cx="3657600" cy="1066680"/>
          </a:xfrm>
          <a:prstGeom prst="cloudCallout">
            <a:avLst>
              <a:gd name="adj1" fmla="val -34851"/>
              <a:gd name="adj2" fmla="val 1385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爷爷在做什么？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0" t="0" r="0" b="-69"/>
          <a:stretch/>
        </p:blipFill>
        <p:spPr>
          <a:xfrm>
            <a:off x="2050920" y="2205000"/>
            <a:ext cx="5181840" cy="37702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038480" y="838080"/>
            <a:ext cx="4191120" cy="1219320"/>
          </a:xfrm>
          <a:prstGeom prst="cloudCallout">
            <a:avLst>
              <a:gd name="adj1" fmla="val -36782"/>
              <a:gd name="adj2" fmla="val 127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想夸夸小树吗？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rcRect l="0" t="0" r="0" b="65"/>
          <a:stretch/>
        </p:blipFill>
        <p:spPr>
          <a:xfrm>
            <a:off x="1905120" y="2133720"/>
            <a:ext cx="5410080" cy="396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952880" y="380880"/>
            <a:ext cx="3810240" cy="1905120"/>
          </a:xfrm>
          <a:prstGeom prst="cloudCallout">
            <a:avLst>
              <a:gd name="adj1" fmla="val -34875"/>
              <a:gd name="adj2" fmla="val 7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讨论：小树为什么能长得那么好？</a:t>
            </a:r>
            <a:r>
              <a:rPr b="1" lang="en-US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7596360" y="2060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0" t="0" r="0" b="56"/>
          <a:stretch/>
        </p:blipFill>
        <p:spPr>
          <a:xfrm>
            <a:off x="1835280" y="2060640"/>
            <a:ext cx="5209920" cy="3851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451640" y="20606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/>
  <dc:description/>
  <cp:keywords>幻灯片之家 http:/www.eeppt.com</cp:keywords>
  <dc:language>en-US</dc:language>
  <cp:lastModifiedBy/>
  <dcterms:modified xsi:type="dcterms:W3CDTF">2015-07-11T01:50:21Z</dcterms:modified>
  <cp:revision>4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