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B99-0EE5-4D9C-BC16-867C7E84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8EEB-89B2-4FDA-A991-8FF62D01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563-208D-4AA9-AD94-864B66C9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3CB-F937-48E4-BA71-5E1A1FA7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51B-7034-4D42-B58C-745D19AE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67E-C3B0-48D0-8467-AC159BCA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E56C-A61B-4E77-999C-F0F07E75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180-3CA3-41D3-B78C-8C94721C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6DA-81EF-4782-9DF6-3C59157D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C10C-5BD9-4A57-9E8E-9B452B65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665-6156-42B8-A8C7-7AD2BE2C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74B-E7F2-482D-A845-A00074FB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B333-F676-4B10-BDF5-F83148AF1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camera.wav" TargetMode="External"/><Relationship Id="rId4" Type="http://schemas.microsoft.com/office/2007/relationships/media" Target="file:///tmp/home/.config/libreoffice/4/user/gallery/camera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04920" y="404640"/>
            <a:ext cx="49147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80000"/>
                  </a:outerShdw>
                </a:effectLst>
                <a:latin typeface="华文新魏"/>
              </a:rPr>
              <a:t>北师大版六年级数学（下）</a:t>
            </a:r>
            <a:endParaRPr b="1" lang="en-US" sz="32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8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32000" y="5300640"/>
            <a:ext cx="633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80000"/>
                  </a:outerShdw>
                </a:effectLst>
                <a:latin typeface="微软简隶书"/>
              </a:rPr>
              <a:t>孙家岔第一小学    王向荣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80000"/>
                </a:outerShdw>
              </a:effectLst>
              <a:latin typeface="微软简隶书"/>
              <a:ea typeface="微软简隶书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2421000"/>
            <a:ext cx="2016360" cy="2879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316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6240" y="6453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20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76440" y="134136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圆柱表面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0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9010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55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说一说：圆柱的特征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圆柱侧面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（               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圆柱表面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（       ）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87120" y="1989000"/>
            <a:ext cx="17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底面周长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99840" y="34290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侧面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19360" y="34290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两个底面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55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根据要求计算。（求圆柱的表面积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44080" y="1125360"/>
            <a:ext cx="2239200" cy="2302560"/>
            <a:chOff x="244080" y="1125360"/>
            <a:chExt cx="2239200" cy="2302560"/>
          </a:xfrm>
        </p:grpSpPr>
        <p:grpSp>
          <p:nvGrpSpPr>
            <p:cNvPr id="60" name=""/>
            <p:cNvGrpSpPr/>
            <p:nvPr/>
          </p:nvGrpSpPr>
          <p:grpSpPr>
            <a:xfrm>
              <a:off x="919800" y="1125360"/>
              <a:ext cx="1563480" cy="2302560"/>
              <a:chOff x="919800" y="1125360"/>
              <a:chExt cx="1563480" cy="230256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919800" y="1125360"/>
                <a:ext cx="1563120" cy="2302560"/>
                <a:chOff x="919800" y="1125360"/>
                <a:chExt cx="1563120" cy="230256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923400" y="1125360"/>
                  <a:ext cx="1559520" cy="2302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919800" y="2861280"/>
                  <a:ext cx="1559520" cy="56664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701360" y="3165120"/>
                <a:ext cx="7819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44080" y="2150280"/>
              <a:ext cx="83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zh-CN" sz="2000" spc="-1" strike="noStrike">
                  <a:solidFill>
                    <a:srgbClr val="000000"/>
                  </a:solidFill>
                  <a:latin typeface="Tahoma"/>
                </a:rPr>
                <a:t>分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45640" y="2607840"/>
              <a:ext cx="18468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7164360" y="2924280"/>
            <a:ext cx="144000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1268280"/>
            <a:ext cx="1440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4360" y="155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04360" y="162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380360" y="3357360"/>
            <a:ext cx="360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86440" y="4076640"/>
            <a:ext cx="164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=25.1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0720" y="1989000"/>
            <a:ext cx="46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0400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04000" y="32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162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948360" y="292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6720" y="3691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=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2123640" y="321300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0360" y="1125360"/>
            <a:ext cx="1655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2997360"/>
            <a:ext cx="1655640" cy="86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1628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6000" y="1628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29080" y="422100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=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3429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788000" y="3499920"/>
            <a:ext cx="21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1557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42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1989000"/>
            <a:ext cx="46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708360" y="299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155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55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、圆柱侧面积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339.12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平方厘米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高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厘米，圆柱的底面半径是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少厘米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、圆柱侧面积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339.12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平方厘米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高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厘米，圆柱的表面积是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少平方厘米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6240" y="6453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55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、圆柱的高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15.7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厘米，侧面展开是个正方形，圆柱的侧面积是多少平方厘米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、圆柱的高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15.7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厘米，侧面展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开是个正方形，圆柱的表面积是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少平方厘米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55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一个没有盖的圆柱形铁皮水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桶，高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厘米，底面直径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厘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米，做这个水桶要用铁皮多少平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厘米？（得数保留整百平方厘米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492280"/>
            <a:ext cx="9145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大厅里有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根圆柱形柱子，每根的底面直径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分米，高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米，如果每平方米需油漆费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元，漆这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根柱子约需要油漆费多少元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5FF6-64D0-4A23-AA78-82D4DD424F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55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把一个底面直径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分米，高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分米的圆柱，分成四个小圆柱，表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面积比原来增加了多少平方分米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89000"/>
            <a:ext cx="1944360" cy="1152360"/>
          </a:xfrm>
          <a:prstGeom prst="wedgeEllipseCallout">
            <a:avLst>
              <a:gd name="adj1" fmla="val 32365"/>
              <a:gd name="adj2" fmla="val 81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47628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92428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把一个底面半径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分米，高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分米的圆柱沿着垂直于底面分为两个半圆柱，表面积增加了多少平方分米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55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124000" y="2133720"/>
            <a:ext cx="4753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隶书"/>
              </a:rPr>
              <a:t>再 见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638172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8:40:41Z</dcterms:created>
  <dc:creator/>
  <dc:description/>
  <cp:keywords>幻灯片之家 http:/www.eeppt.com</cp:keywords>
  <dc:language>en-US</dc:language>
  <cp:lastModifiedBy/>
  <dcterms:modified xsi:type="dcterms:W3CDTF">2015-07-04T12:38:40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