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AA5-84BE-4D75-8AFF-C80108FB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B6B-B35E-424E-B10A-4C4A0594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B37-2416-40D2-9F12-BC70C500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08D-5C93-4A2F-9394-2B869B93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61E-169B-4767-95CE-0D6FEC91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8CC-A4E7-4700-B8D3-471EBADB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3D5-BBE4-4ABE-B676-2E74FB80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4F6-4E48-4862-9D35-FBA88F3B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427-34D3-4274-945A-C117180C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88A-23D1-4625-B41F-4E1D7B33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7B3-A00E-4D88-BE48-652BB539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318-BD16-4CCB-AFBF-995DD1EA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60D4-B635-4CB1-83FD-C8DDC769E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hyperlink" Target="270,14,&#24187;&#28783;&#29255; 14" TargetMode="External"/><Relationship Id="rId4" Type="http://schemas.openxmlformats.org/officeDocument/2006/relationships/hyperlink" Target="270,14,&#24187;&#28783;&#29255; 14" TargetMode="External"/><Relationship Id="rId5" Type="http://schemas.openxmlformats.org/officeDocument/2006/relationships/hyperlink" Target="270,14,&#24187;&#28783;&#29255; 14" TargetMode="External"/><Relationship Id="rId6" Type="http://schemas.openxmlformats.org/officeDocument/2006/relationships/hyperlink" Target="270,14,&#24187;&#28783;&#29255; 14" TargetMode="External"/><Relationship Id="rId7" Type="http://schemas.openxmlformats.org/officeDocument/2006/relationships/hyperlink" Target="270,14,&#24187;&#28783;&#29255; 14" TargetMode="External"/><Relationship Id="rId8" Type="http://schemas.openxmlformats.org/officeDocument/2006/relationships/hyperlink" Target="270,14,&#24187;&#28783;&#29255; 14" TargetMode="External"/><Relationship Id="rId9" Type="http://schemas.openxmlformats.org/officeDocument/2006/relationships/hyperlink" Target="266,15,&#24187;&#28783;&#29255; 15" TargetMode="External"/><Relationship Id="rId10" Type="http://schemas.openxmlformats.org/officeDocument/2006/relationships/hyperlink" Target="266,15,&#24187;&#28783;&#29255; 15" TargetMode="External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2,7,&#24187;&#28783;&#29255; 7" TargetMode="External"/><Relationship Id="rId3" Type="http://schemas.openxmlformats.org/officeDocument/2006/relationships/hyperlink" Target="272,7,&#24187;&#28783;&#29255; 7" TargetMode="External"/><Relationship Id="rId4" Type="http://schemas.openxmlformats.org/officeDocument/2006/relationships/hyperlink" Target="273,8,&#24187;&#28783;&#29255; 8" TargetMode="External"/><Relationship Id="rId5" Type="http://schemas.openxmlformats.org/officeDocument/2006/relationships/hyperlink" Target="273,8,&#24187;&#28783;&#29255; 8" TargetMode="External"/><Relationship Id="rId6" Type="http://schemas.openxmlformats.org/officeDocument/2006/relationships/hyperlink" Target="274,10,&#24187;&#28783;&#29255; 10" TargetMode="External"/><Relationship Id="rId7" Type="http://schemas.openxmlformats.org/officeDocument/2006/relationships/hyperlink" Target="274,10,&#24187;&#28783;&#29255; 10" TargetMode="External"/><Relationship Id="rId8" Type="http://schemas.openxmlformats.org/officeDocument/2006/relationships/hyperlink" Target="275,11,&#24187;&#28783;&#29255; 11" TargetMode="External"/><Relationship Id="rId9" Type="http://schemas.openxmlformats.org/officeDocument/2006/relationships/hyperlink" Target="275,11,&#24187;&#28783;&#29255; 11" TargetMode="External"/><Relationship Id="rId10" Type="http://schemas.openxmlformats.org/officeDocument/2006/relationships/hyperlink" Target="278,12,&#24187;&#28783;&#29255; 12" TargetMode="External"/><Relationship Id="rId11" Type="http://schemas.openxmlformats.org/officeDocument/2006/relationships/hyperlink" Target="278,12,&#24187;&#28783;&#29255; 12" TargetMode="External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934320" y="419112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25160" y="909720"/>
            <a:ext cx="36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夜莺的歌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课件下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27"/>
          <p:cNvSpPr/>
          <p:nvPr/>
        </p:nvSpPr>
        <p:spPr>
          <a:xfrm>
            <a:off x="1752480" y="1600200"/>
            <a:ext cx="6248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部分写了小夜莺引诱德国兵，并主动和敌人接近，巧妙地回答德国军官的盘问，让敌人取得对他的信任，让他带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028" descr="tn004"/>
          <p:cNvPicPr/>
          <p:nvPr/>
        </p:nvPicPr>
        <p:blipFill>
          <a:blip r:embed="rId2"/>
          <a:stretch/>
        </p:blipFill>
        <p:spPr>
          <a:xfrm>
            <a:off x="990720" y="609480"/>
            <a:ext cx="1676160" cy="1143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29"/>
          <p:cNvSpPr/>
          <p:nvPr/>
        </p:nvSpPr>
        <p:spPr>
          <a:xfrm>
            <a:off x="1219320" y="9144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3" name="chimes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6680" y="1066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676520" y="1143000"/>
            <a:ext cx="63244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带路时，小夜莺有时学夜莺唱，有时学杜鹃叫，是为了让德国兵知道，这是自己的习惯爱好，用来麻痹敌人，以后他用鸟声和游击队联系时就不会引起怀疑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夜莺边走边打路旁树枝，拾球果踢，回                                           答问话时就打岔说别的，也都是为了让德国兵认为他贪玩而不加警惕，从而顺利地跟着自己走进游击队的埋伏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080 w 380880"/>
              <a:gd name="textAreaRight" fmla="*/ 362160 w 38088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625" y="1350"/>
                </a:lnTo>
                <a:lnTo>
                  <a:pt x="1350" y="135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625" y="20250"/>
                </a:lnTo>
                <a:lnTo>
                  <a:pt x="25625" y="135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25" y="2025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75" h="21600">
                <a:moveTo>
                  <a:pt x="6444" y="10800"/>
                </a:moveTo>
                <a:lnTo>
                  <a:pt x="20531" y="3756"/>
                </a:lnTo>
                <a:lnTo>
                  <a:pt x="20531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00200" y="1219320"/>
            <a:ext cx="64008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游击队员听到小夜莺的叫声，知道他已经把敌人带来，通过有节奏的夜莺歌声知道了鬼子人数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，用两声杜鹃叫是报告有两挺机关枪。一声夜莺叫代表一个敌人，一声杜鹃叫代表一挺机枪，由此可以想到，小夜莺同游击队用这种方式联系，已经不止一次了，他曾多次协助游击队消灭敌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080 w 380880"/>
              <a:gd name="textAreaRight" fmla="*/ 362160 w 38088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625" y="1350"/>
                </a:lnTo>
                <a:lnTo>
                  <a:pt x="1350" y="135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625" y="20250"/>
                </a:lnTo>
                <a:lnTo>
                  <a:pt x="25625" y="135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25" y="2025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75" h="21600">
                <a:moveTo>
                  <a:pt x="6444" y="10800"/>
                </a:moveTo>
                <a:lnTo>
                  <a:pt x="20531" y="3756"/>
                </a:lnTo>
                <a:lnTo>
                  <a:pt x="20531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27"/>
          <p:cNvSpPr/>
          <p:nvPr/>
        </p:nvSpPr>
        <p:spPr>
          <a:xfrm>
            <a:off x="1676520" y="1295280"/>
            <a:ext cx="6172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课文的开头和结尾是相互照应，首尾连贯的。（即首尾呼应）都是说小男孩在发出夜莺的歌声，以便配合游击队歼灭敌人。这样更加突出了“小夜莺”的机智勇敢和爱国主义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28"/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3760 w 380880"/>
              <a:gd name="textAreaRight" fmla="*/ 357120 w 3808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tn005"/>
          <p:cNvPicPr/>
          <p:nvPr/>
        </p:nvPicPr>
        <p:blipFill>
          <a:blip r:embed="rId2"/>
          <a:stretch/>
        </p:blipFill>
        <p:spPr>
          <a:xfrm>
            <a:off x="2743200" y="914400"/>
            <a:ext cx="320040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276720" y="1143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总结课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33720" y="2514600"/>
            <a:ext cx="6248160" cy="176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3"/>
              </a:rPr>
              <a:t>1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4"/>
              </a:rPr>
              <a:t>课题为什么叫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5"/>
              </a:rPr>
              <a:t>“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6"/>
              </a:rPr>
              <a:t>夜莺的歌声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7"/>
              </a:rPr>
              <a:t>”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8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9"/>
              </a:rPr>
              <a:t>2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10"/>
              </a:rPr>
              <a:t>读了这篇课文后，小夜莺给你留下了怎样的印象？或者你喜欢、佩服小夜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1" name="chimes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295280" y="1219320"/>
            <a:ext cx="670572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含两个意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是孩子用夜莺的歌声向游击队报告情况，帮助游击队歼灭了德国兵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是孩子被游击队员亲切地称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夜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夜莺的歌声是动听的，美好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" action="ppaction://hlinkshowjump?jump=previous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080 w 380880"/>
              <a:gd name="textAreaRight" fmla="*/ 362160 w 38088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625" y="1350"/>
                </a:lnTo>
                <a:lnTo>
                  <a:pt x="1350" y="135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625" y="20250"/>
                </a:lnTo>
                <a:lnTo>
                  <a:pt x="25625" y="135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25" y="2025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75" h="21600">
                <a:moveTo>
                  <a:pt x="6444" y="10800"/>
                </a:moveTo>
                <a:lnTo>
                  <a:pt x="20531" y="3756"/>
                </a:lnTo>
                <a:lnTo>
                  <a:pt x="20531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DD8-10EE-4D2E-8A84-31196420705C}" type="slidenum">
              <a:t>16</a:t>
            </a:fld>
          </a:p>
        </p:txBody>
      </p:sp>
    </p:spTree>
  </p:cSld>
  <p:transition>
    <p:randomBar dir="vert"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66880" y="22096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机智、勇敢、热爱祖国。是个小英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080 w 380880"/>
              <a:gd name="textAreaRight" fmla="*/ 362160 w 38088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625" y="1350"/>
                </a:lnTo>
                <a:lnTo>
                  <a:pt x="1350" y="135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625" y="20250"/>
                </a:lnTo>
                <a:lnTo>
                  <a:pt x="25625" y="135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25" y="2025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75" h="21600">
                <a:moveTo>
                  <a:pt x="6444" y="10800"/>
                </a:moveTo>
                <a:lnTo>
                  <a:pt x="20531" y="3756"/>
                </a:lnTo>
                <a:lnTo>
                  <a:pt x="20531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6094440"/>
            <a:ext cx="770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3" name="chimes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523880" y="1371600"/>
            <a:ext cx="6019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划去下面括号里不正确的读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削木头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āo   xu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    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ōng   kò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哨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ào     sà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声        木  屑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āo     xi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在括号里填上适当的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）的小路                  （       ）地回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）的空地                  （       ）地站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）的焦木                  （       ）地唱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5435640" y="227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夜莺又名黄鸟，体长二十五厘米左右，它不但模样漂亮，且善鸣啭，歌喉清脆甜美，是鸟类中有名的歌唱家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27鸟"/>
          <p:cNvPicPr/>
          <p:nvPr/>
        </p:nvPicPr>
        <p:blipFill>
          <a:blip r:embed="rId2"/>
          <a:stretch/>
        </p:blipFill>
        <p:spPr>
          <a:xfrm>
            <a:off x="4764240" y="1981080"/>
            <a:ext cx="3578040" cy="3962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BANR003"/>
          <p:cNvPicPr/>
          <p:nvPr/>
        </p:nvPicPr>
        <p:blipFill>
          <a:blip r:embed="rId3"/>
          <a:stretch/>
        </p:blipFill>
        <p:spPr>
          <a:xfrm>
            <a:off x="1219320" y="609480"/>
            <a:ext cx="7086600" cy="1052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1981080" y="76212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夜     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4" name="chimes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250"/>
                            </p:stCondLst>
                            <p:childTnLst>
                              <p:par>
                                <p:cTn id="2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杜鹃又名布谷、郭公，属于夏候鸟，也就是说它们夏季在我国境内繁殖，秋季迁往印度和我国南方温暖地区越冬。杜鹃的体形有点像鸽子，只是更细长些。它们喜欢栖居在开阔的林地，常常隐在茂密的树上鸣叫，声音响亮，但很少会让人看见。可谓“不见其人，只闻其声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4" descr="28鸟"/>
          <p:cNvPicPr/>
          <p:nvPr/>
        </p:nvPicPr>
        <p:blipFill>
          <a:blip r:embed="rId2"/>
          <a:stretch/>
        </p:blipFill>
        <p:spPr>
          <a:xfrm>
            <a:off x="4648320" y="1828800"/>
            <a:ext cx="363384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BANR011"/>
          <p:cNvPicPr/>
          <p:nvPr/>
        </p:nvPicPr>
        <p:blipFill>
          <a:blip r:embed="rId3"/>
          <a:stretch/>
        </p:blipFill>
        <p:spPr>
          <a:xfrm>
            <a:off x="1143000" y="457200"/>
            <a:ext cx="701028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7"/>
          <p:cNvSpPr/>
          <p:nvPr/>
        </p:nvSpPr>
        <p:spPr>
          <a:xfrm>
            <a:off x="1600200" y="60948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杜       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4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teach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2438280" y="1905120"/>
            <a:ext cx="411480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41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，德国法西斯在已经占领了欧洲许多国家之后，突然进攻苏联。苏联人民在以斯大林为首的党和政府的领导下，开始了卫国战争。第二次世界大战进入了新的阶段，后来苏联军队经过在莫斯科和斯大林格勒的大会战，歼灭了德军主力，根本扭转了战局，转入反攻。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44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，苏联发起总反攻，全部收复沦陷的土地，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45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，苏军攻克柏林，迫使德国无条件投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BANR012"/>
          <p:cNvPicPr/>
          <p:nvPr/>
        </p:nvPicPr>
        <p:blipFill>
          <a:blip r:embed="rId3"/>
          <a:stretch/>
        </p:blipFill>
        <p:spPr>
          <a:xfrm>
            <a:off x="2057400" y="1219320"/>
            <a:ext cx="5257800" cy="609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2362320" y="12952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   代   背   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4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0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685800" y="10666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自学步骤方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9480" y="15238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914400" y="2133720"/>
            <a:ext cx="6477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初读，学字词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再读，知结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细读，明中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精读，表情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3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28" descr="2"/>
          <p:cNvPicPr/>
          <p:nvPr/>
        </p:nvPicPr>
        <p:blipFill>
          <a:blip r:embed="rId2"/>
          <a:stretch/>
        </p:blipFill>
        <p:spPr>
          <a:xfrm>
            <a:off x="611280" y="476280"/>
            <a:ext cx="7632720" cy="6048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3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27"/>
          <p:cNvSpPr/>
          <p:nvPr/>
        </p:nvSpPr>
        <p:spPr>
          <a:xfrm>
            <a:off x="5791320" y="3429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思考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30"/>
          <p:cNvSpPr/>
          <p:nvPr/>
        </p:nvSpPr>
        <p:spPr>
          <a:xfrm>
            <a:off x="685800" y="685800"/>
            <a:ext cx="7696080" cy="57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1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说说课文讲了一件什么事？分几部分写的？你是怎么分的？课文的重点部分写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32"/>
          <p:cNvSpPr/>
          <p:nvPr/>
        </p:nvSpPr>
        <p:spPr>
          <a:xfrm>
            <a:off x="685800" y="1600200"/>
            <a:ext cx="7696080" cy="57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2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找出小男孩回答德国兵的话，想想是什么意思？说明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33"/>
          <p:cNvSpPr/>
          <p:nvPr/>
        </p:nvSpPr>
        <p:spPr>
          <a:xfrm>
            <a:off x="685800" y="2514600"/>
            <a:ext cx="4495680" cy="100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3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在给敌人带路时，小男孩有哪些言行？你从中体会到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34"/>
          <p:cNvSpPr/>
          <p:nvPr/>
        </p:nvSpPr>
        <p:spPr>
          <a:xfrm>
            <a:off x="685800" y="3886200"/>
            <a:ext cx="4495680" cy="100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4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游击队员是怎么知道敌人情况的？说明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35"/>
          <p:cNvSpPr/>
          <p:nvPr/>
        </p:nvSpPr>
        <p:spPr>
          <a:xfrm>
            <a:off x="685800" y="4800600"/>
            <a:ext cx="4495680" cy="100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5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文的开头和结尾都写了夜莺的歌声，说说开头和结尾有什么联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2" name="chimes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09480" y="1066680"/>
            <a:ext cx="75438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篇课文写在苏联卫国战争时期，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小男孩帮助游击队消灭一伙德国法西斯强盗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事。文章是按照事情发展的顺序写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以按起因、经过、结果分为三部分，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课文的重点部分写小男孩是怎样帮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游击队歼灭德国兵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">
            <a:hlinkClick r:id="" action="ppaction://hlinkshowjump?jump=previousslide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219320" y="1295280"/>
            <a:ext cx="6705360" cy="28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回答德国兵的问话时，“怎么会剩下我一个？这里有麻雀、乌鸦、猫头鹰，多着呢。夜莺倒只有我一个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回答德国军官的盘问，“刚刚一开战，村子就着火了，大家都喊：‘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野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野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都跑了。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用这些话来戏弄敌人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说明他是个沉着机智的孩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8839080" y="6477120"/>
            <a:ext cx="304920" cy="38088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80880"/>
              <a:gd name="textAreaBottom" fmla="*/ 36216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50" y="25625"/>
                </a:lnTo>
                <a:lnTo>
                  <a:pt x="20250" y="135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350" y="25625"/>
                </a:lnTo>
                <a:lnTo>
                  <a:pt x="20250" y="2562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25"/>
                </a:lnTo>
                <a:close/>
              </a:path>
              <a:path fill="darken" w="21600" h="26975">
                <a:moveTo>
                  <a:pt x="3756" y="13487"/>
                </a:moveTo>
                <a:lnTo>
                  <a:pt x="17844" y="6444"/>
                </a:lnTo>
                <a:lnTo>
                  <a:pt x="17844" y="2053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9:19:32Z</dcterms:created>
  <dc:creator/>
  <dc:description/>
  <cp:keywords>幻灯片之家 http:/www.eeppt.com</cp:keywords>
  <dc:language>en-US</dc:language>
  <cp:lastModifiedBy/>
  <dcterms:modified xsi:type="dcterms:W3CDTF">2015-07-13T08:42:00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