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B39-28A2-48DE-A563-0E8FECDF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FA1-2015-40D7-9F19-080E099F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E5E-8A54-4067-975D-EADF8E60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8C1-18F1-43CD-8768-86CB464C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FF8-C550-44BD-8DA4-A70C4746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38D-F8E9-42FB-9551-09385EF2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5D8-0A71-4FEF-940C-5E50439A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B15-C6A7-4956-A605-82A8616B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B00-4D8F-4D11-9497-98855BE9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419-3E89-4B16-8280-6C39DBEC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9D2-9A70-480A-A30E-7F80E0FC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594-A3D9-4324-B708-F42A0B1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CFCF-2199-4380-9E22-3369E2060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264,11,&#24187;&#28783;&#29255; 11" TargetMode="External"/><Relationship Id="rId3" Type="http://schemas.openxmlformats.org/officeDocument/2006/relationships/hyperlink" Target="265,12,&#24187;&#28783;&#29255; 12" TargetMode="External"/><Relationship Id="rId4" Type="http://schemas.openxmlformats.org/officeDocument/2006/relationships/hyperlink" Target="266,13,&#24187;&#28783;&#29255; 13" TargetMode="External"/><Relationship Id="rId5" Type="http://schemas.openxmlformats.org/officeDocument/2006/relationships/hyperlink" Target="267,14,&#24187;&#28783;&#29255; 14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6,3,&#24187;&#28783;&#29255; 3" TargetMode="External"/><Relationship Id="rId2" Type="http://schemas.openxmlformats.org/officeDocument/2006/relationships/hyperlink" Target="258,5,&#24187;&#28783;&#29255; 5" TargetMode="External"/><Relationship Id="rId3" Type="http://schemas.openxmlformats.org/officeDocument/2006/relationships/hyperlink" Target="260,7,&#24187;&#28783;&#29255; 7" TargetMode="External"/><Relationship Id="rId4" Type="http://schemas.openxmlformats.org/officeDocument/2006/relationships/hyperlink" Target="269,11,&#24433;&#29255;&#27427;&#36175;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271,16,&#24187;&#28783;&#29255; 16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3.jpeg"/><Relationship Id="rId20" Type="http://schemas.openxmlformats.org/officeDocument/2006/relationships/image" Target="../media/image4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56,-1,NEXT" TargetMode="External"/><Relationship Id="rId2" Type="http://schemas.openxmlformats.org/officeDocument/2006/relationships/hyperlink" Target="262,8,&#24187;&#28783;&#29255; 8" TargetMode="External"/><Relationship Id="rId3" Type="http://schemas.openxmlformats.org/officeDocument/2006/relationships/hyperlink" Target="263,9,&#24187;&#28783;&#29255; 9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9"/>
          <p:cNvSpPr/>
          <p:nvPr/>
        </p:nvSpPr>
        <p:spPr>
          <a:xfrm>
            <a:off x="755640" y="2496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郑成功</a:t>
            </a:r>
            <a:endParaRPr b="0" lang="en-US" sz="1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C:\WINDOWS\Desktop\战争.jp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1722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3120 w 990720"/>
              <a:gd name="textAreaRight" fmla="*/ 957600 w 9907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748" y="1350"/>
                </a:lnTo>
                <a:lnTo>
                  <a:pt x="1350" y="135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748" y="20250"/>
                </a:lnTo>
                <a:lnTo>
                  <a:pt x="38748" y="135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748" y="2025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098" h="21600">
                <a:moveTo>
                  <a:pt x="13005" y="7475"/>
                </a:moveTo>
                <a:lnTo>
                  <a:pt x="16531" y="7475"/>
                </a:lnTo>
                <a:lnTo>
                  <a:pt x="16531" y="12839"/>
                </a:lnTo>
                <a:cubicBezTo>
                  <a:pt x="16531" y="13766"/>
                  <a:pt x="17336" y="14501"/>
                  <a:pt x="18378" y="14501"/>
                </a:cubicBezTo>
                <a:lnTo>
                  <a:pt x="20049" y="14501"/>
                </a:lnTo>
                <a:cubicBezTo>
                  <a:pt x="21090" y="14501"/>
                  <a:pt x="21895" y="13766"/>
                  <a:pt x="21895" y="12839"/>
                </a:cubicBezTo>
                <a:lnTo>
                  <a:pt x="21895" y="7475"/>
                </a:lnTo>
                <a:lnTo>
                  <a:pt x="20049" y="7475"/>
                </a:lnTo>
                <a:lnTo>
                  <a:pt x="23575" y="3949"/>
                </a:lnTo>
                <a:lnTo>
                  <a:pt x="27268" y="7475"/>
                </a:lnTo>
                <a:lnTo>
                  <a:pt x="25421" y="7475"/>
                </a:lnTo>
                <a:lnTo>
                  <a:pt x="25421" y="12839"/>
                </a:lnTo>
                <a:cubicBezTo>
                  <a:pt x="25421" y="15621"/>
                  <a:pt x="22831" y="18194"/>
                  <a:pt x="20049" y="18194"/>
                </a:cubicBezTo>
                <a:lnTo>
                  <a:pt x="18378" y="18194"/>
                </a:lnTo>
                <a:cubicBezTo>
                  <a:pt x="15595" y="18194"/>
                  <a:pt x="13005" y="15621"/>
                  <a:pt x="13005" y="128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C:\My Documents\wenzhou0114.jpg"/>
          <p:cNvPicPr/>
          <p:nvPr/>
        </p:nvPicPr>
        <p:blipFill>
          <a:blip r:embed="rId1">
            <a:lum contrast="-48000"/>
          </a:blip>
          <a:srcRect l="16848" t="0" r="0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66"/>
                </a:solidFill>
                <a:latin typeface="Times New Roman"/>
                <a:ea typeface="隶书"/>
              </a:rPr>
              <a:t>影片欣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2"/>
              </a:rPr>
              <a:t>片断（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/>
              </a:rPr>
              <a:t>片断（二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4"/>
              </a:rPr>
              <a:t>片断（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5"/>
              </a:rPr>
              <a:t>片断（四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8077320" y="6172200"/>
            <a:ext cx="1066680" cy="685800"/>
          </a:xfrm>
          <a:custGeom>
            <a:avLst/>
            <a:gdLst>
              <a:gd name="textAreaLeft" fmla="*/ 42840 w 1066680"/>
              <a:gd name="textAreaRight" fmla="*/ 1023840 w 106668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240" y="1350"/>
                </a:lnTo>
                <a:lnTo>
                  <a:pt x="1350" y="135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240" y="20250"/>
                </a:lnTo>
                <a:lnTo>
                  <a:pt x="32240" y="135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240" y="2025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590" h="21600">
                <a:moveTo>
                  <a:pt x="16795" y="3800"/>
                </a:moveTo>
                <a:lnTo>
                  <a:pt x="19385" y="6425"/>
                </a:lnTo>
                <a:lnTo>
                  <a:pt x="19385" y="4675"/>
                </a:lnTo>
                <a:lnTo>
                  <a:pt x="21170" y="4675"/>
                </a:lnTo>
                <a:lnTo>
                  <a:pt x="21170" y="8210"/>
                </a:lnTo>
                <a:lnTo>
                  <a:pt x="23795" y="10800"/>
                </a:lnTo>
                <a:lnTo>
                  <a:pt x="22132" y="10800"/>
                </a:lnTo>
                <a:lnTo>
                  <a:pt x="22132" y="18028"/>
                </a:lnTo>
                <a:lnTo>
                  <a:pt x="11457" y="18028"/>
                </a:lnTo>
                <a:lnTo>
                  <a:pt x="11457" y="10800"/>
                </a:lnTo>
                <a:lnTo>
                  <a:pt x="9795" y="10800"/>
                </a:lnTo>
                <a:close/>
              </a:path>
              <a:path fill="darkenLess" w="33590" h="21600">
                <a:moveTo>
                  <a:pt x="19385" y="6425"/>
                </a:moveTo>
                <a:lnTo>
                  <a:pt x="19385" y="4675"/>
                </a:lnTo>
                <a:lnTo>
                  <a:pt x="21170" y="4675"/>
                </a:lnTo>
                <a:lnTo>
                  <a:pt x="21170" y="8210"/>
                </a:lnTo>
                <a:close/>
              </a:path>
              <a:path fill="darkenLess" w="33590" h="21600">
                <a:moveTo>
                  <a:pt x="15867" y="14318"/>
                </a:moveTo>
                <a:lnTo>
                  <a:pt x="17722" y="14318"/>
                </a:lnTo>
                <a:lnTo>
                  <a:pt x="17722" y="18028"/>
                </a:lnTo>
                <a:lnTo>
                  <a:pt x="22132" y="18028"/>
                </a:lnTo>
                <a:lnTo>
                  <a:pt x="22132" y="10800"/>
                </a:lnTo>
                <a:lnTo>
                  <a:pt x="11457" y="10800"/>
                </a:lnTo>
                <a:lnTo>
                  <a:pt x="11457" y="18028"/>
                </a:lnTo>
                <a:lnTo>
                  <a:pt x="15867" y="1802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C:\My Documents\wenzhou0114.jpg"/>
          <p:cNvPicPr/>
          <p:nvPr/>
        </p:nvPicPr>
        <p:blipFill>
          <a:blip r:embed="rId1">
            <a:lum contrast="-72000"/>
          </a:blip>
          <a:srcRect l="16848" t="0" r="0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8001000" y="6324480"/>
            <a:ext cx="1143000" cy="533520"/>
          </a:xfrm>
          <a:custGeom>
            <a:avLst/>
            <a:gdLst>
              <a:gd name="textAreaLeft" fmla="*/ 33120 w 1143000"/>
              <a:gd name="textAreaRight" fmla="*/ 1109880 w 11430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909" y="1350"/>
                </a:lnTo>
                <a:lnTo>
                  <a:pt x="1350" y="135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909" y="20250"/>
                </a:lnTo>
                <a:lnTo>
                  <a:pt x="44909" y="135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4909" y="2025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.MPG" descr=""/>
          <p:cNvPicPr/>
          <p:nvPr/>
        </p:nvPicPr>
        <p:blipFill>
          <a:blip r:embed="rId2"/>
          <a:stretch/>
        </p:blipFill>
        <p:spPr>
          <a:xfrm>
            <a:off x="1371600" y="811080"/>
            <a:ext cx="6172200" cy="505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C:\My Documents\wenzhou0114.jpg"/>
          <p:cNvPicPr/>
          <p:nvPr/>
        </p:nvPicPr>
        <p:blipFill>
          <a:blip r:embed="rId1">
            <a:lum contrast="-72000"/>
          </a:blip>
          <a:srcRect l="16848" t="0" r="0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/>
          <p:cNvSpPr/>
          <p:nvPr/>
        </p:nvSpPr>
        <p:spPr>
          <a:xfrm>
            <a:off x="8001000" y="6315120"/>
            <a:ext cx="1143000" cy="533520"/>
          </a:xfrm>
          <a:custGeom>
            <a:avLst/>
            <a:gdLst>
              <a:gd name="textAreaLeft" fmla="*/ 33120 w 1143000"/>
              <a:gd name="textAreaRight" fmla="*/ 1109880 w 11430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909" y="1350"/>
                </a:lnTo>
                <a:lnTo>
                  <a:pt x="1350" y="135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909" y="20250"/>
                </a:lnTo>
                <a:lnTo>
                  <a:pt x="44909" y="135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4909" y="2025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2.MPG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477120" cy="529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C:\My Documents\wenzhou0114.jpg"/>
          <p:cNvPicPr/>
          <p:nvPr/>
        </p:nvPicPr>
        <p:blipFill>
          <a:blip r:embed="rId1">
            <a:lum contrast="-72000"/>
          </a:blip>
          <a:srcRect l="16848" t="0" r="0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8001000" y="6315120"/>
            <a:ext cx="1143000" cy="533520"/>
          </a:xfrm>
          <a:custGeom>
            <a:avLst/>
            <a:gdLst>
              <a:gd name="textAreaLeft" fmla="*/ 33120 w 1143000"/>
              <a:gd name="textAreaRight" fmla="*/ 1109880 w 11430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909" y="1350"/>
                </a:lnTo>
                <a:lnTo>
                  <a:pt x="1350" y="135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909" y="20250"/>
                </a:lnTo>
                <a:lnTo>
                  <a:pt x="44909" y="135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4909" y="2025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3.MPG" descr=""/>
          <p:cNvPicPr/>
          <p:nvPr/>
        </p:nvPicPr>
        <p:blipFill>
          <a:blip r:embed="rId2"/>
          <a:stretch/>
        </p:blipFill>
        <p:spPr>
          <a:xfrm>
            <a:off x="1447920" y="873000"/>
            <a:ext cx="6400800" cy="4924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FEA-8151-4DDC-AF68-6CF013D8D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C:\My Documents\wenzhou0114.jpg"/>
          <p:cNvPicPr/>
          <p:nvPr/>
        </p:nvPicPr>
        <p:blipFill>
          <a:blip r:embed="rId1">
            <a:lum contrast="-72000"/>
          </a:blip>
          <a:srcRect l="16848" t="0" r="0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5"/>
          <p:cNvSpPr/>
          <p:nvPr/>
        </p:nvSpPr>
        <p:spPr>
          <a:xfrm>
            <a:off x="8001000" y="6315120"/>
            <a:ext cx="1143000" cy="533520"/>
          </a:xfrm>
          <a:custGeom>
            <a:avLst/>
            <a:gdLst>
              <a:gd name="textAreaLeft" fmla="*/ 33120 w 1143000"/>
              <a:gd name="textAreaRight" fmla="*/ 1109880 w 11430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909" y="1350"/>
                </a:lnTo>
                <a:lnTo>
                  <a:pt x="1350" y="135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909" y="20250"/>
                </a:lnTo>
                <a:lnTo>
                  <a:pt x="44909" y="135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4909" y="2025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8001000" y="6315120"/>
            <a:ext cx="1143000" cy="533520"/>
          </a:xfrm>
          <a:custGeom>
            <a:avLst/>
            <a:gdLst>
              <a:gd name="textAreaLeft" fmla="*/ 33120 w 1143000"/>
              <a:gd name="textAreaRight" fmla="*/ 1109880 w 11430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909" y="1350"/>
                </a:lnTo>
                <a:lnTo>
                  <a:pt x="1350" y="135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909" y="20250"/>
                </a:lnTo>
                <a:lnTo>
                  <a:pt x="44909" y="135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4909" y="2025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4.MPG" descr=""/>
          <p:cNvPicPr/>
          <p:nvPr/>
        </p:nvPicPr>
        <p:blipFill>
          <a:blip r:embed="rId2"/>
          <a:stretch/>
        </p:blipFill>
        <p:spPr>
          <a:xfrm>
            <a:off x="1295280" y="747720"/>
            <a:ext cx="6477120" cy="5175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6165720"/>
            <a:ext cx="720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C:\My Documents\wenzhou0114.jpg"/>
          <p:cNvPicPr/>
          <p:nvPr/>
        </p:nvPicPr>
        <p:blipFill>
          <a:blip r:embed="rId1">
            <a:lum contrast="-72000"/>
          </a:blip>
          <a:srcRect l="16848" t="0" r="0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3476520" y="25909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66"/>
                </a:solidFill>
                <a:latin typeface="Times New Roman"/>
              </a:rPr>
              <a:t>谢谢指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7848720" y="6019920"/>
            <a:ext cx="1066680" cy="609480"/>
          </a:xfrm>
          <a:custGeom>
            <a:avLst/>
            <a:gdLst>
              <a:gd name="textAreaLeft" fmla="*/ 37800 w 1066680"/>
              <a:gd name="textAreaRight" fmla="*/ 1028880 w 106668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444" y="1350"/>
                </a:lnTo>
                <a:lnTo>
                  <a:pt x="1350" y="135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444" y="20250"/>
                </a:lnTo>
                <a:lnTo>
                  <a:pt x="36444" y="135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44" y="2025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94" h="21600">
                <a:moveTo>
                  <a:pt x="18897" y="3800"/>
                </a:moveTo>
                <a:lnTo>
                  <a:pt x="21487" y="6425"/>
                </a:lnTo>
                <a:lnTo>
                  <a:pt x="21487" y="4675"/>
                </a:lnTo>
                <a:lnTo>
                  <a:pt x="23272" y="4675"/>
                </a:lnTo>
                <a:lnTo>
                  <a:pt x="23272" y="8210"/>
                </a:lnTo>
                <a:lnTo>
                  <a:pt x="25897" y="10800"/>
                </a:lnTo>
                <a:lnTo>
                  <a:pt x="24234" y="10800"/>
                </a:lnTo>
                <a:lnTo>
                  <a:pt x="24234" y="18028"/>
                </a:lnTo>
                <a:lnTo>
                  <a:pt x="13559" y="18028"/>
                </a:lnTo>
                <a:lnTo>
                  <a:pt x="13559" y="10800"/>
                </a:lnTo>
                <a:lnTo>
                  <a:pt x="11897" y="10800"/>
                </a:lnTo>
                <a:close/>
              </a:path>
              <a:path fill="darkenLess" w="37794" h="21600">
                <a:moveTo>
                  <a:pt x="21487" y="6425"/>
                </a:moveTo>
                <a:lnTo>
                  <a:pt x="21487" y="4675"/>
                </a:lnTo>
                <a:lnTo>
                  <a:pt x="23272" y="4675"/>
                </a:lnTo>
                <a:lnTo>
                  <a:pt x="23272" y="8210"/>
                </a:lnTo>
                <a:close/>
              </a:path>
              <a:path fill="darkenLess" w="37794" h="21600">
                <a:moveTo>
                  <a:pt x="17969" y="14318"/>
                </a:moveTo>
                <a:lnTo>
                  <a:pt x="19824" y="14318"/>
                </a:lnTo>
                <a:lnTo>
                  <a:pt x="19824" y="18028"/>
                </a:lnTo>
                <a:lnTo>
                  <a:pt x="24234" y="18028"/>
                </a:lnTo>
                <a:lnTo>
                  <a:pt x="24234" y="10800"/>
                </a:lnTo>
                <a:lnTo>
                  <a:pt x="13559" y="10800"/>
                </a:lnTo>
                <a:lnTo>
                  <a:pt x="13559" y="18028"/>
                </a:lnTo>
                <a:lnTo>
                  <a:pt x="17969" y="1802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743200" y="692280"/>
            <a:ext cx="353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66"/>
                </a:solidFill>
                <a:latin typeface="Times New Roman"/>
                <a:ea typeface="华文行楷"/>
              </a:rPr>
              <a:t>郑成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438280" y="2514600"/>
            <a:ext cx="2743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介绍台湾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438280" y="3429000"/>
            <a:ext cx="2590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地理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362320" y="4343400"/>
            <a:ext cx="2743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介绍郑成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514600" y="5181480"/>
            <a:ext cx="29718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影片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C:\Program Files\Common Files\Microsoft Shared\Clipart\themes1\Bullets\BD14754_.GIF"/>
          <p:cNvPicPr/>
          <p:nvPr/>
        </p:nvPicPr>
        <p:blipFill>
          <a:blip r:embed="rId5"/>
          <a:stretch/>
        </p:blipFill>
        <p:spPr>
          <a:xfrm>
            <a:off x="1644480" y="25909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Program Files\Common Files\Microsoft Shared\Clipart\themes1\Bullets\BD14754_.GIF"/>
          <p:cNvPicPr/>
          <p:nvPr/>
        </p:nvPicPr>
        <p:blipFill>
          <a:blip r:embed="rId6"/>
          <a:stretch/>
        </p:blipFill>
        <p:spPr>
          <a:xfrm>
            <a:off x="1650960" y="3543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Program Files\Common Files\Microsoft Shared\Clipart\themes1\Bullets\BD14754_.GIF"/>
          <p:cNvPicPr/>
          <p:nvPr/>
        </p:nvPicPr>
        <p:blipFill>
          <a:blip r:embed="rId7"/>
          <a:stretch/>
        </p:blipFill>
        <p:spPr>
          <a:xfrm>
            <a:off x="1650960" y="4495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Program Files\Common Files\Microsoft Shared\Clipart\themes1\Bullets\BD14754_.GIF"/>
          <p:cNvPicPr/>
          <p:nvPr/>
        </p:nvPicPr>
        <p:blipFill>
          <a:blip r:embed="rId8"/>
          <a:stretch/>
        </p:blipFill>
        <p:spPr>
          <a:xfrm>
            <a:off x="1676520" y="5334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1"/>
          <p:cNvSpPr/>
          <p:nvPr/>
        </p:nvSpPr>
        <p:spPr>
          <a:xfrm>
            <a:off x="2514600" y="5943600"/>
            <a:ext cx="1600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退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2" descr="C:\Program Files\Common Files\Microsoft Shared\Clipart\themes1\Bullets\BD14754_.GIF"/>
          <p:cNvPicPr/>
          <p:nvPr/>
        </p:nvPicPr>
        <p:blipFill>
          <a:blip r:embed="rId10"/>
          <a:stretch/>
        </p:blipFill>
        <p:spPr>
          <a:xfrm>
            <a:off x="1676520" y="60958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5651640" y="620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H:\阿里山.jpg"/>
          <p:cNvPicPr/>
          <p:nvPr/>
        </p:nvPicPr>
        <p:blipFill>
          <a:blip r:embed="rId19"/>
          <a:stretch/>
        </p:blipFill>
        <p:spPr>
          <a:xfrm>
            <a:off x="5029200" y="3505320"/>
            <a:ext cx="3657600" cy="253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:\日月潭.jpg"/>
          <p:cNvPicPr/>
          <p:nvPr/>
        </p:nvPicPr>
        <p:blipFill>
          <a:blip r:embed="rId20"/>
          <a:stretch/>
        </p:blipFill>
        <p:spPr>
          <a:xfrm>
            <a:off x="5029200" y="457200"/>
            <a:ext cx="3657600" cy="2711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990720" y="1752480"/>
            <a:ext cx="3886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台湾岛啊，我的故乡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么美丽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甘蔗甜啊，稻米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月潭边好风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H:\china.gif"/>
          <p:cNvPicPr/>
          <p:nvPr/>
        </p:nvPicPr>
        <p:blipFill>
          <a:blip r:embed="rId1"/>
          <a:stretch/>
        </p:blipFill>
        <p:spPr>
          <a:xfrm>
            <a:off x="1447920" y="457200"/>
            <a:ext cx="3276360" cy="3962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:\106326957110632575211054263742D610.jpg"/>
          <p:cNvPicPr/>
          <p:nvPr/>
        </p:nvPicPr>
        <p:blipFill>
          <a:blip r:embed="rId2"/>
          <a:stretch/>
        </p:blipFill>
        <p:spPr>
          <a:xfrm>
            <a:off x="5821200" y="380880"/>
            <a:ext cx="2063880" cy="3962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7680240" y="1447920"/>
            <a:ext cx="5493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7441200" y="2057400"/>
            <a:ext cx="1155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卫星照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676520" y="464832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美丽富饶的台湾岛，坐落在祖国东南部，四周环海，同福建省遥遥相望，一向被称为祖国的宝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台湾自古以来就是我国的神圣领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8077320" y="6324480"/>
            <a:ext cx="1066680" cy="533520"/>
          </a:xfrm>
          <a:custGeom>
            <a:avLst/>
            <a:gdLst>
              <a:gd name="textAreaLeft" fmla="*/ 33120 w 1066680"/>
              <a:gd name="textAreaRight" fmla="*/ 1033560 w 106668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821" y="1350"/>
                </a:lnTo>
                <a:lnTo>
                  <a:pt x="1350" y="135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821" y="20250"/>
                </a:lnTo>
                <a:lnTo>
                  <a:pt x="41821" y="135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21" y="2025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71" h="21600">
                <a:moveTo>
                  <a:pt x="21585" y="3800"/>
                </a:moveTo>
                <a:lnTo>
                  <a:pt x="24175" y="6425"/>
                </a:lnTo>
                <a:lnTo>
                  <a:pt x="24175" y="4675"/>
                </a:lnTo>
                <a:lnTo>
                  <a:pt x="25960" y="4675"/>
                </a:lnTo>
                <a:lnTo>
                  <a:pt x="25960" y="8210"/>
                </a:lnTo>
                <a:lnTo>
                  <a:pt x="28585" y="10800"/>
                </a:lnTo>
                <a:lnTo>
                  <a:pt x="26923" y="10800"/>
                </a:lnTo>
                <a:lnTo>
                  <a:pt x="26923" y="18028"/>
                </a:lnTo>
                <a:lnTo>
                  <a:pt x="16248" y="18028"/>
                </a:lnTo>
                <a:lnTo>
                  <a:pt x="16248" y="10800"/>
                </a:lnTo>
                <a:lnTo>
                  <a:pt x="14585" y="10800"/>
                </a:lnTo>
                <a:close/>
              </a:path>
              <a:path fill="darkenLess" w="43171" h="21600">
                <a:moveTo>
                  <a:pt x="24175" y="6425"/>
                </a:moveTo>
                <a:lnTo>
                  <a:pt x="24175" y="4675"/>
                </a:lnTo>
                <a:lnTo>
                  <a:pt x="25960" y="4675"/>
                </a:lnTo>
                <a:lnTo>
                  <a:pt x="25960" y="8210"/>
                </a:lnTo>
                <a:close/>
              </a:path>
              <a:path fill="darkenLess" w="43171" h="21600">
                <a:moveTo>
                  <a:pt x="20658" y="14318"/>
                </a:moveTo>
                <a:lnTo>
                  <a:pt x="22513" y="14318"/>
                </a:lnTo>
                <a:lnTo>
                  <a:pt x="22513" y="18028"/>
                </a:lnTo>
                <a:lnTo>
                  <a:pt x="26923" y="18028"/>
                </a:lnTo>
                <a:lnTo>
                  <a:pt x="26923" y="10800"/>
                </a:lnTo>
                <a:lnTo>
                  <a:pt x="16248" y="10800"/>
                </a:lnTo>
                <a:lnTo>
                  <a:pt x="16248" y="18028"/>
                </a:lnTo>
                <a:lnTo>
                  <a:pt x="20658" y="1802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581280" y="2438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世界地图及荷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:\WINDOWS\Desktop\worldmap.gif"/>
          <p:cNvPicPr/>
          <p:nvPr/>
        </p:nvPicPr>
        <p:blipFill>
          <a:blip r:embed="rId2"/>
          <a:stretch/>
        </p:blipFill>
        <p:spPr>
          <a:xfrm>
            <a:off x="609480" y="1143000"/>
            <a:ext cx="8001000" cy="41893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572000" y="1295280"/>
            <a:ext cx="533520" cy="914400"/>
          </a:xfrm>
          <a:prstGeom prst="wedgeRoundRectCallout">
            <a:avLst>
              <a:gd name="adj1" fmla="val -15773"/>
              <a:gd name="adj2" fmla="val 99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荷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7772400" y="3200400"/>
            <a:ext cx="914400" cy="533520"/>
          </a:xfrm>
          <a:prstGeom prst="wedgeRoundRectCallout">
            <a:avLst>
              <a:gd name="adj1" fmla="val -98787"/>
              <a:gd name="adj2" fmla="val -1964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台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C:\WINDOWS\Desktop\GDZCD25010b.gif"/>
          <p:cNvPicPr/>
          <p:nvPr/>
        </p:nvPicPr>
        <p:blipFill>
          <a:blip r:embed="rId1"/>
          <a:stretch/>
        </p:blipFill>
        <p:spPr>
          <a:xfrm>
            <a:off x="4952880" y="914400"/>
            <a:ext cx="3886200" cy="225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WINDOWS\Desktop\GDZCD25010a.gif"/>
          <p:cNvPicPr/>
          <p:nvPr/>
        </p:nvPicPr>
        <p:blipFill>
          <a:blip r:embed="rId2"/>
          <a:stretch/>
        </p:blipFill>
        <p:spPr>
          <a:xfrm>
            <a:off x="5029200" y="3886200"/>
            <a:ext cx="3886200" cy="212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WINDOWS\Desktop\赤嵌楼.jpg"/>
          <p:cNvPicPr/>
          <p:nvPr/>
        </p:nvPicPr>
        <p:blipFill>
          <a:blip r:embed="rId3"/>
          <a:stretch/>
        </p:blipFill>
        <p:spPr>
          <a:xfrm>
            <a:off x="1219320" y="1066680"/>
            <a:ext cx="3413160" cy="4724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7848720" y="6248520"/>
            <a:ext cx="1295280" cy="609480"/>
          </a:xfrm>
          <a:custGeom>
            <a:avLst/>
            <a:gdLst>
              <a:gd name="textAreaLeft" fmla="*/ 37800 w 1295280"/>
              <a:gd name="textAreaRight" fmla="*/ 1257480 w 129528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540" y="1350"/>
                </a:lnTo>
                <a:lnTo>
                  <a:pt x="1350" y="135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540" y="20250"/>
                </a:lnTo>
                <a:lnTo>
                  <a:pt x="44540" y="135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4540" y="2025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5890" h="21600">
                <a:moveTo>
                  <a:pt x="22945" y="3800"/>
                </a:moveTo>
                <a:lnTo>
                  <a:pt x="25535" y="6425"/>
                </a:lnTo>
                <a:lnTo>
                  <a:pt x="25535" y="4675"/>
                </a:lnTo>
                <a:lnTo>
                  <a:pt x="27320" y="4675"/>
                </a:lnTo>
                <a:lnTo>
                  <a:pt x="27320" y="8210"/>
                </a:lnTo>
                <a:lnTo>
                  <a:pt x="29945" y="10800"/>
                </a:lnTo>
                <a:lnTo>
                  <a:pt x="28283" y="10800"/>
                </a:lnTo>
                <a:lnTo>
                  <a:pt x="28283" y="18028"/>
                </a:lnTo>
                <a:lnTo>
                  <a:pt x="17608" y="18028"/>
                </a:lnTo>
                <a:lnTo>
                  <a:pt x="17608" y="10800"/>
                </a:lnTo>
                <a:lnTo>
                  <a:pt x="15945" y="10800"/>
                </a:lnTo>
                <a:close/>
              </a:path>
              <a:path fill="darkenLess" w="45890" h="21600">
                <a:moveTo>
                  <a:pt x="25535" y="6425"/>
                </a:moveTo>
                <a:lnTo>
                  <a:pt x="25535" y="4675"/>
                </a:lnTo>
                <a:lnTo>
                  <a:pt x="27320" y="4675"/>
                </a:lnTo>
                <a:lnTo>
                  <a:pt x="27320" y="8210"/>
                </a:lnTo>
                <a:close/>
              </a:path>
              <a:path fill="darkenLess" w="45890" h="21600">
                <a:moveTo>
                  <a:pt x="22018" y="14318"/>
                </a:moveTo>
                <a:lnTo>
                  <a:pt x="23873" y="14318"/>
                </a:lnTo>
                <a:lnTo>
                  <a:pt x="23873" y="18028"/>
                </a:lnTo>
                <a:lnTo>
                  <a:pt x="28283" y="18028"/>
                </a:lnTo>
                <a:lnTo>
                  <a:pt x="28283" y="10800"/>
                </a:lnTo>
                <a:lnTo>
                  <a:pt x="17608" y="10800"/>
                </a:lnTo>
                <a:lnTo>
                  <a:pt x="17608" y="18028"/>
                </a:lnTo>
                <a:lnTo>
                  <a:pt x="22018" y="1802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09480" y="990720"/>
            <a:ext cx="64008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/>
              </a:rPr>
              <a:t>郑成功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/>
              </a:rPr>
              <a:t>台湾人民欢迎郑成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/>
              </a:rPr>
              <a:t>郑成功军队战胜荷兰殖民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C:\WINDOWS\Desktop\GDZCD25010d.gif"/>
          <p:cNvPicPr/>
          <p:nvPr/>
        </p:nvPicPr>
        <p:blipFill>
          <a:blip r:embed="rId4"/>
          <a:stretch/>
        </p:blipFill>
        <p:spPr>
          <a:xfrm>
            <a:off x="7086600" y="762120"/>
            <a:ext cx="1447920" cy="142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WINDOWS\Desktop\Image3.bmp"/>
          <p:cNvPicPr/>
          <p:nvPr/>
        </p:nvPicPr>
        <p:blipFill>
          <a:blip r:embed="rId5"/>
          <a:stretch/>
        </p:blipFill>
        <p:spPr>
          <a:xfrm>
            <a:off x="7086600" y="251460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WINDOWS\Desktop\战争.jpg"/>
          <p:cNvPicPr/>
          <p:nvPr/>
        </p:nvPicPr>
        <p:blipFill>
          <a:blip r:embed="rId6"/>
          <a:stretch/>
        </p:blipFill>
        <p:spPr>
          <a:xfrm>
            <a:off x="7086600" y="4419720"/>
            <a:ext cx="1523880" cy="131292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1"/>
          <p:cNvSpPr/>
          <p:nvPr/>
        </p:nvSpPr>
        <p:spPr>
          <a:xfrm>
            <a:off x="7848720" y="6019920"/>
            <a:ext cx="1066680" cy="609480"/>
          </a:xfrm>
          <a:custGeom>
            <a:avLst/>
            <a:gdLst>
              <a:gd name="textAreaLeft" fmla="*/ 37800 w 1066680"/>
              <a:gd name="textAreaRight" fmla="*/ 1028880 w 106668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444" y="1350"/>
                </a:lnTo>
                <a:lnTo>
                  <a:pt x="1350" y="135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444" y="20250"/>
                </a:lnTo>
                <a:lnTo>
                  <a:pt x="36444" y="135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44" y="2025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94" h="21600">
                <a:moveTo>
                  <a:pt x="18897" y="3800"/>
                </a:moveTo>
                <a:lnTo>
                  <a:pt x="21487" y="6425"/>
                </a:lnTo>
                <a:lnTo>
                  <a:pt x="21487" y="4675"/>
                </a:lnTo>
                <a:lnTo>
                  <a:pt x="23272" y="4675"/>
                </a:lnTo>
                <a:lnTo>
                  <a:pt x="23272" y="8210"/>
                </a:lnTo>
                <a:lnTo>
                  <a:pt x="25897" y="10800"/>
                </a:lnTo>
                <a:lnTo>
                  <a:pt x="24234" y="10800"/>
                </a:lnTo>
                <a:lnTo>
                  <a:pt x="24234" y="18028"/>
                </a:lnTo>
                <a:lnTo>
                  <a:pt x="13559" y="18028"/>
                </a:lnTo>
                <a:lnTo>
                  <a:pt x="13559" y="10800"/>
                </a:lnTo>
                <a:lnTo>
                  <a:pt x="11897" y="10800"/>
                </a:lnTo>
                <a:close/>
              </a:path>
              <a:path fill="darkenLess" w="37794" h="21600">
                <a:moveTo>
                  <a:pt x="21487" y="6425"/>
                </a:moveTo>
                <a:lnTo>
                  <a:pt x="21487" y="4675"/>
                </a:lnTo>
                <a:lnTo>
                  <a:pt x="23272" y="4675"/>
                </a:lnTo>
                <a:lnTo>
                  <a:pt x="23272" y="8210"/>
                </a:lnTo>
                <a:close/>
              </a:path>
              <a:path fill="darkenLess" w="37794" h="21600">
                <a:moveTo>
                  <a:pt x="17969" y="14318"/>
                </a:moveTo>
                <a:lnTo>
                  <a:pt x="19824" y="14318"/>
                </a:lnTo>
                <a:lnTo>
                  <a:pt x="19824" y="18028"/>
                </a:lnTo>
                <a:lnTo>
                  <a:pt x="24234" y="18028"/>
                </a:lnTo>
                <a:lnTo>
                  <a:pt x="24234" y="10800"/>
                </a:lnTo>
                <a:lnTo>
                  <a:pt x="13559" y="10800"/>
                </a:lnTo>
                <a:lnTo>
                  <a:pt x="13559" y="18028"/>
                </a:lnTo>
                <a:lnTo>
                  <a:pt x="17969" y="1802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C:\WINDOWS\Desktop\GDZCD25010d.gif"/>
          <p:cNvPicPr/>
          <p:nvPr/>
        </p:nvPicPr>
        <p:blipFill>
          <a:blip r:embed="rId1"/>
          <a:stretch/>
        </p:blipFill>
        <p:spPr>
          <a:xfrm>
            <a:off x="685800" y="1295280"/>
            <a:ext cx="3505320" cy="3452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WINDOWS\Desktop\6071h0000.jpg"/>
          <p:cNvPicPr/>
          <p:nvPr/>
        </p:nvPicPr>
        <p:blipFill>
          <a:blip r:embed="rId2"/>
          <a:stretch/>
        </p:blipFill>
        <p:spPr>
          <a:xfrm>
            <a:off x="5334120" y="1219320"/>
            <a:ext cx="300024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9"/>
          <p:cNvSpPr/>
          <p:nvPr/>
        </p:nvSpPr>
        <p:spPr>
          <a:xfrm>
            <a:off x="8001000" y="6019920"/>
            <a:ext cx="838080" cy="533160"/>
          </a:xfrm>
          <a:custGeom>
            <a:avLst/>
            <a:gdLst>
              <a:gd name="textAreaLeft" fmla="*/ 33120 w 838080"/>
              <a:gd name="textAreaRight" fmla="*/ 804960 w 83808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95" y="1350"/>
                </a:lnTo>
                <a:lnTo>
                  <a:pt x="1350" y="135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95" y="20250"/>
                </a:lnTo>
                <a:lnTo>
                  <a:pt x="32595" y="135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595" y="2025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3945" h="21600">
                <a:moveTo>
                  <a:pt x="9929" y="7475"/>
                </a:moveTo>
                <a:lnTo>
                  <a:pt x="13455" y="7475"/>
                </a:lnTo>
                <a:lnTo>
                  <a:pt x="13455" y="12839"/>
                </a:lnTo>
                <a:cubicBezTo>
                  <a:pt x="13455" y="13766"/>
                  <a:pt x="14260" y="14501"/>
                  <a:pt x="15301" y="14501"/>
                </a:cubicBezTo>
                <a:lnTo>
                  <a:pt x="16972" y="14501"/>
                </a:lnTo>
                <a:cubicBezTo>
                  <a:pt x="18014" y="14501"/>
                  <a:pt x="18819" y="13766"/>
                  <a:pt x="18819" y="12839"/>
                </a:cubicBezTo>
                <a:lnTo>
                  <a:pt x="18819" y="7475"/>
                </a:lnTo>
                <a:lnTo>
                  <a:pt x="16972" y="7475"/>
                </a:lnTo>
                <a:lnTo>
                  <a:pt x="20499" y="3949"/>
                </a:lnTo>
                <a:lnTo>
                  <a:pt x="24191" y="7475"/>
                </a:lnTo>
                <a:lnTo>
                  <a:pt x="22345" y="7475"/>
                </a:lnTo>
                <a:lnTo>
                  <a:pt x="22345" y="12839"/>
                </a:lnTo>
                <a:cubicBezTo>
                  <a:pt x="22345" y="15621"/>
                  <a:pt x="19755" y="18194"/>
                  <a:pt x="16972" y="18194"/>
                </a:cubicBezTo>
                <a:lnTo>
                  <a:pt x="15301" y="18194"/>
                </a:lnTo>
                <a:cubicBezTo>
                  <a:pt x="12519" y="18194"/>
                  <a:pt x="9929" y="15621"/>
                  <a:pt x="9929" y="128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C:\WINDOWS\Desktop\Image3.bmp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61722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7">
            <a:hlinkClick r:id="" action="ppaction://hlinkshowjump?jump=previousslide"/>
          </p:cNvPr>
          <p:cNvSpPr/>
          <p:nvPr/>
        </p:nvSpPr>
        <p:spPr>
          <a:xfrm>
            <a:off x="8077320" y="6324480"/>
            <a:ext cx="1066680" cy="533520"/>
          </a:xfrm>
          <a:custGeom>
            <a:avLst/>
            <a:gdLst>
              <a:gd name="textAreaLeft" fmla="*/ 33120 w 1066680"/>
              <a:gd name="textAreaRight" fmla="*/ 1033560 w 106668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821" y="1350"/>
                </a:lnTo>
                <a:lnTo>
                  <a:pt x="1350" y="135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821" y="20250"/>
                </a:lnTo>
                <a:lnTo>
                  <a:pt x="41821" y="135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21" y="2025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71" h="21600">
                <a:moveTo>
                  <a:pt x="14542" y="7475"/>
                </a:moveTo>
                <a:lnTo>
                  <a:pt x="18068" y="7475"/>
                </a:lnTo>
                <a:lnTo>
                  <a:pt x="18068" y="12839"/>
                </a:lnTo>
                <a:cubicBezTo>
                  <a:pt x="18068" y="13766"/>
                  <a:pt x="18873" y="14501"/>
                  <a:pt x="19914" y="14501"/>
                </a:cubicBezTo>
                <a:lnTo>
                  <a:pt x="21585" y="14501"/>
                </a:lnTo>
                <a:cubicBezTo>
                  <a:pt x="22627" y="14501"/>
                  <a:pt x="23432" y="13766"/>
                  <a:pt x="23432" y="12839"/>
                </a:cubicBezTo>
                <a:lnTo>
                  <a:pt x="23432" y="7475"/>
                </a:lnTo>
                <a:lnTo>
                  <a:pt x="21585" y="7475"/>
                </a:lnTo>
                <a:lnTo>
                  <a:pt x="25112" y="3949"/>
                </a:lnTo>
                <a:lnTo>
                  <a:pt x="28804" y="7475"/>
                </a:lnTo>
                <a:lnTo>
                  <a:pt x="26958" y="7475"/>
                </a:lnTo>
                <a:lnTo>
                  <a:pt x="26958" y="12839"/>
                </a:lnTo>
                <a:cubicBezTo>
                  <a:pt x="26958" y="15621"/>
                  <a:pt x="24368" y="18194"/>
                  <a:pt x="21585" y="18194"/>
                </a:cubicBezTo>
                <a:lnTo>
                  <a:pt x="19914" y="18194"/>
                </a:lnTo>
                <a:cubicBezTo>
                  <a:pt x="17132" y="18194"/>
                  <a:pt x="14542" y="15621"/>
                  <a:pt x="14542" y="128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04:41:11Z</dcterms:created>
  <dc:creator/>
  <dc:description/>
  <cp:keywords>幻灯片之家 http:/www.eeppt.com</cp:keywords>
  <dc:language>en-US</dc:language>
  <cp:lastModifiedBy/>
  <dcterms:modified xsi:type="dcterms:W3CDTF">2015-07-13T08:43:35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