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270-4761-433D-935C-6EE2C1CC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22776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91E-3B34-4691-B4C0-77FF644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232-9E57-4553-9A7C-E68B28CA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43820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3227760"/>
            <a:ext cx="33858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FB4-9C00-47E4-A0AD-2E20654E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D2C-D2D3-4EFF-956C-A07EC2C8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A5C-9CDD-499E-AF58-1948E32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042-C5E8-416F-B6EA-CFDCF44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601-250B-4802-A40A-905B50D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87280"/>
            <a:ext cx="105156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398-ADA0-4BC5-AA20-3EE49E5D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494-614F-40A8-81FE-B973D55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322776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4AC-95BC-4ED7-93F3-9D38B35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438200"/>
            <a:ext cx="513144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227760"/>
            <a:ext cx="10515600" cy="16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451-F1E1-4A2C-BAC0-06BB63D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438200"/>
            <a:ext cx="10515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36036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81080" indent="-36036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41440" indent="-720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5005440"/>
            <a:ext cx="27432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636A-6801-415E-885D-F5E4F960121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5005440"/>
            <a:ext cx="4114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5005440"/>
            <a:ext cx="27432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816-9881-48A3-BA38-89B57C1A333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表 7" descr=""/>
          <p:cNvPicPr/>
          <p:nvPr/>
        </p:nvPicPr>
        <p:blipFill>
          <a:blip r:embed="rId1"/>
          <a:stretch/>
        </p:blipFill>
        <p:spPr>
          <a:xfrm>
            <a:off x="1238400" y="98280"/>
            <a:ext cx="9188280" cy="52452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9"/>
          <p:cNvSpPr/>
          <p:nvPr/>
        </p:nvSpPr>
        <p:spPr>
          <a:xfrm>
            <a:off x="5670720" y="2579760"/>
            <a:ext cx="30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4120" y="809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最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创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320" y="4146480"/>
            <a:ext cx="68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4960" y="149400"/>
            <a:ext cx="109429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360" y="999720"/>
            <a:ext cx="119030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715680" y="262080"/>
            <a:ext cx="185256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B2D-A47F-4532-8BE3-9BE9F61D3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1:33:00Z</dcterms:created>
  <dc:creator/>
  <dc:description/>
  <cp:keywords>幻灯片之家 http:/www.eeppt.com</cp:keywords>
  <dc:language>en-US</dc:language>
  <cp:lastModifiedBy/>
  <dcterms:modified xsi:type="dcterms:W3CDTF">2015-07-06T02:44:39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