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6CE-08C6-4A35-AB7D-8F880C9D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5E9-A49D-41DA-B3CA-FC7AE24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EF0-9145-4B85-8C1F-F55543C5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E04-2429-4D61-85DA-2603B2B5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38A-434E-4286-85D2-25C9309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141-0B84-4175-A951-4CAF294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1A6-9C83-4C28-B3B0-E47E07A5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1F6-F17F-4988-8B36-8F65127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F7D-0307-491E-B5A1-1104004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46C-FF3F-4FC0-998B-E491729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7DE-363B-4FC8-9E95-3AA3F90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6E4-20A7-4054-A624-3CF3471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6DA-E7AB-4AD0-9044-481340D8F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17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277,22,&#24187;&#28783;&#29255; 22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5.jpeg"/><Relationship Id="rId12" Type="http://schemas.openxmlformats.org/officeDocument/2006/relationships/image" Target="../media/image14.jpeg"/><Relationship Id="rId13" Type="http://schemas.openxmlformats.org/officeDocument/2006/relationships/image" Target="../media/image13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lnu.edu.cn/sh/pic/txt/shrwa3.html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lnu.edu.cn/sh/pic/txt/shrwa4.html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1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7.html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29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nu.edu.cn/sh/pic/txt/shrwa31.html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lnu.edu.cn/sh/pic/txt/shrwb70.html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021"/>
          <p:cNvPicPr/>
          <p:nvPr/>
        </p:nvPicPr>
        <p:blipFill>
          <a:blip r:embed="rId3"/>
          <a:stretch/>
        </p:blipFill>
        <p:spPr>
          <a:xfrm>
            <a:off x="385128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851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字 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021"/>
          <p:cNvPicPr/>
          <p:nvPr/>
        </p:nvPicPr>
        <p:blipFill>
          <a:blip r:embed="rId4"/>
          <a:stretch/>
        </p:blipFill>
        <p:spPr>
          <a:xfrm>
            <a:off x="807732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021"/>
          <p:cNvPicPr/>
          <p:nvPr/>
        </p:nvPicPr>
        <p:blipFill>
          <a:blip r:embed="rId5"/>
          <a:stretch/>
        </p:blipFill>
        <p:spPr>
          <a:xfrm>
            <a:off x="7010280" y="6324480"/>
            <a:ext cx="106704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21"/>
          <p:cNvPicPr/>
          <p:nvPr/>
        </p:nvPicPr>
        <p:blipFill>
          <a:blip r:embed="rId6"/>
          <a:stretch/>
        </p:blipFill>
        <p:spPr>
          <a:xfrm>
            <a:off x="5943600" y="63244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21"/>
          <p:cNvPicPr/>
          <p:nvPr/>
        </p:nvPicPr>
        <p:blipFill>
          <a:blip r:embed="rId7"/>
          <a:stretch/>
        </p:blipFill>
        <p:spPr>
          <a:xfrm>
            <a:off x="4876920" y="63244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9528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线 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9920" y="6338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人 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086600" y="6338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拓 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8153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练 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3200400" y="2743200"/>
            <a:ext cx="2590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施耐庵</a:t>
            </a:r>
            <a:endParaRPr b="0" lang="en-US" sz="4400" spc="-1" strike="noStrike">
              <a:ln w="9360">
                <a:solidFill>
                  <a:srgbClr val="660033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54" name="Picture 15" descr="021"/>
          <p:cNvPicPr/>
          <p:nvPr/>
        </p:nvPicPr>
        <p:blipFill>
          <a:blip r:embed="rId8"/>
          <a:stretch/>
        </p:blipFill>
        <p:spPr>
          <a:xfrm>
            <a:off x="2771640" y="6348240"/>
            <a:ext cx="1079640" cy="509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843280" y="63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5400" y="7621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智取生辰纲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水浒传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17560" y="439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析小说情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什么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为太师蔡京祝寿而进献的大批财物，都是搜刮百姓血汗钱的不义之财。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谁取的？又是用怎样的方式从谁的手中取走的？</a:t>
            </a: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晁盖、吴用等八条好汉；智取；杨志 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8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14036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小说以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辰纲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争夺为中心事件，采用双线结构，明线是什么？暗线又是什么？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明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杨志押送生辰纲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暗线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晁盖智取生辰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同学们跳读课文，筛选信息，以人物的主要行动为归纳点，简要分析出明、暗两条线索在什么时间，什么地点交接在一起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0692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六月初四正午；黄泥冈松树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619280" y="14842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708360" y="148428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445080" y="148428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042920" y="522936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900000" y="580536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小 说 线 索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明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8380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 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1600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杨志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好汉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00200" y="22860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华文行楷"/>
              </a:rPr>
              <a:t>上 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981080" y="29718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781680" y="29718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1981080" y="42670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6781680" y="42670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600200" y="35812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中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00200" y="48769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失 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32448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定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400800" y="35812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施 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477120" y="48006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劫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362320" y="5410080"/>
            <a:ext cx="236196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50920" y="5313600"/>
            <a:ext cx="2230200" cy="78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28600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六月初四正午黄泥冈松树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0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5480 w 250920"/>
              <a:gd name="textAreaRight" fmla="*/ 235440 w 250920"/>
              <a:gd name="textAreaTop" fmla="*/ 15480 h 260280"/>
              <a:gd name="textAreaBottom" fmla="*/ 24480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50" y="21055"/>
                </a:lnTo>
                <a:lnTo>
                  <a:pt x="20250" y="135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350" y="21055"/>
                </a:lnTo>
                <a:lnTo>
                  <a:pt x="20250" y="2105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055"/>
                </a:lnTo>
                <a:close/>
              </a:path>
              <a:path fill="darken" w="21600" h="22405">
                <a:moveTo>
                  <a:pt x="3756" y="4159"/>
                </a:moveTo>
                <a:lnTo>
                  <a:pt x="17844" y="11202"/>
                </a:lnTo>
                <a:lnTo>
                  <a:pt x="3756" y="1824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2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7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86200" y="685800"/>
            <a:ext cx="1447920" cy="1447920"/>
            <a:chOff x="3886200" y="685800"/>
            <a:chExt cx="1447920" cy="1447920"/>
          </a:xfrm>
        </p:grpSpPr>
        <p:sp>
          <p:nvSpPr>
            <p:cNvPr id="118" name="AutoShape 3"/>
            <p:cNvSpPr/>
            <p:nvPr/>
          </p:nvSpPr>
          <p:spPr>
            <a:xfrm>
              <a:off x="3886200" y="68580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4038480" y="91440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2743200" y="2133720"/>
            <a:ext cx="1371600" cy="990000"/>
            <a:chOff x="2743200" y="2133720"/>
            <a:chExt cx="1371600" cy="990000"/>
          </a:xfrm>
        </p:grpSpPr>
        <p:sp>
          <p:nvSpPr>
            <p:cNvPr id="121" name="AutoShape 6"/>
            <p:cNvSpPr/>
            <p:nvPr/>
          </p:nvSpPr>
          <p:spPr>
            <a:xfrm>
              <a:off x="2743200" y="2361960"/>
              <a:ext cx="1295280" cy="7617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"/>
            <p:cNvSpPr/>
            <p:nvPr/>
          </p:nvSpPr>
          <p:spPr>
            <a:xfrm>
              <a:off x="335268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27432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乔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2743200" y="3124080"/>
            <a:ext cx="1371600" cy="990720"/>
            <a:chOff x="2743200" y="3124080"/>
            <a:chExt cx="1371600" cy="990720"/>
          </a:xfrm>
        </p:grpSpPr>
        <p:sp>
          <p:nvSpPr>
            <p:cNvPr id="125" name="AutoShape 10"/>
            <p:cNvSpPr/>
            <p:nvPr/>
          </p:nvSpPr>
          <p:spPr>
            <a:xfrm>
              <a:off x="274320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3526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27432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更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3"/>
          <p:cNvGrpSpPr/>
          <p:nvPr/>
        </p:nvGrpSpPr>
        <p:grpSpPr>
          <a:xfrm>
            <a:off x="2743200" y="4114800"/>
            <a:ext cx="1371600" cy="990720"/>
            <a:chOff x="2743200" y="4114800"/>
            <a:chExt cx="1371600" cy="990720"/>
          </a:xfrm>
        </p:grpSpPr>
        <p:sp>
          <p:nvSpPr>
            <p:cNvPr id="129" name="AutoShape 14"/>
            <p:cNvSpPr/>
            <p:nvPr/>
          </p:nvSpPr>
          <p:spPr>
            <a:xfrm>
              <a:off x="2743200" y="4343400"/>
              <a:ext cx="1295280" cy="762120"/>
            </a:xfrm>
            <a:prstGeom prst="flowChartMagneticDisk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3526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27432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赶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1219320" y="2133720"/>
            <a:ext cx="1371600" cy="990000"/>
            <a:chOff x="1219320" y="2133720"/>
            <a:chExt cx="1371600" cy="990000"/>
          </a:xfrm>
        </p:grpSpPr>
        <p:sp>
          <p:nvSpPr>
            <p:cNvPr id="133" name="AutoShape 18"/>
            <p:cNvSpPr/>
            <p:nvPr/>
          </p:nvSpPr>
          <p:spPr>
            <a:xfrm>
              <a:off x="1219320" y="2361960"/>
              <a:ext cx="1295280" cy="76176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>
              <a:off x="182880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121932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1143000" y="3124080"/>
            <a:ext cx="1371600" cy="990720"/>
            <a:chOff x="1143000" y="3124080"/>
            <a:chExt cx="1371600" cy="990720"/>
          </a:xfrm>
        </p:grpSpPr>
        <p:sp>
          <p:nvSpPr>
            <p:cNvPr id="137" name="AutoShape 22"/>
            <p:cNvSpPr/>
            <p:nvPr/>
          </p:nvSpPr>
          <p:spPr>
            <a:xfrm>
              <a:off x="1143000" y="3352680"/>
              <a:ext cx="1295280" cy="762120"/>
            </a:xfrm>
            <a:prstGeom prst="flowChartMagneticDisk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23"/>
            <p:cNvSpPr/>
            <p:nvPr/>
          </p:nvSpPr>
          <p:spPr>
            <a:xfrm>
              <a:off x="17524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24"/>
            <p:cNvSpPr/>
            <p:nvPr/>
          </p:nvSpPr>
          <p:spPr>
            <a:xfrm>
              <a:off x="11430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疑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1143000" y="4114800"/>
            <a:ext cx="1371600" cy="990720"/>
            <a:chOff x="1143000" y="4114800"/>
            <a:chExt cx="1371600" cy="990720"/>
          </a:xfrm>
        </p:grpSpPr>
        <p:sp>
          <p:nvSpPr>
            <p:cNvPr id="141" name="AutoShape 26"/>
            <p:cNvSpPr/>
            <p:nvPr/>
          </p:nvSpPr>
          <p:spPr>
            <a:xfrm>
              <a:off x="1143000" y="4343400"/>
              <a:ext cx="1295280" cy="762120"/>
            </a:xfrm>
            <a:prstGeom prst="flowChartMagneticDisk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7"/>
            <p:cNvSpPr/>
            <p:nvPr/>
          </p:nvSpPr>
          <p:spPr>
            <a:xfrm>
              <a:off x="17524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11430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窥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29"/>
          <p:cNvGrpSpPr/>
          <p:nvPr/>
        </p:nvGrpSpPr>
        <p:grpSpPr>
          <a:xfrm>
            <a:off x="6781680" y="2133720"/>
            <a:ext cx="1371600" cy="990000"/>
            <a:chOff x="6781680" y="2133720"/>
            <a:chExt cx="1371600" cy="990000"/>
          </a:xfrm>
        </p:grpSpPr>
        <p:sp>
          <p:nvSpPr>
            <p:cNvPr id="145" name="AutoShape 30"/>
            <p:cNvSpPr/>
            <p:nvPr/>
          </p:nvSpPr>
          <p:spPr>
            <a:xfrm>
              <a:off x="6781680" y="2361960"/>
              <a:ext cx="1295280" cy="761760"/>
            </a:xfrm>
            <a:prstGeom prst="flowChartMagneticDisk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31"/>
            <p:cNvSpPr/>
            <p:nvPr/>
          </p:nvSpPr>
          <p:spPr>
            <a:xfrm>
              <a:off x="739116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678168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改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33"/>
          <p:cNvGrpSpPr/>
          <p:nvPr/>
        </p:nvGrpSpPr>
        <p:grpSpPr>
          <a:xfrm>
            <a:off x="6781680" y="3124080"/>
            <a:ext cx="1371600" cy="990720"/>
            <a:chOff x="6781680" y="3124080"/>
            <a:chExt cx="1371600" cy="990720"/>
          </a:xfrm>
        </p:grpSpPr>
        <p:sp>
          <p:nvSpPr>
            <p:cNvPr id="149" name="AutoShape 34"/>
            <p:cNvSpPr/>
            <p:nvPr/>
          </p:nvSpPr>
          <p:spPr>
            <a:xfrm>
              <a:off x="6781680" y="3352680"/>
              <a:ext cx="1295280" cy="762120"/>
            </a:xfrm>
            <a:prstGeom prst="flowChartMagneticDisk">
              <a:avLst/>
            </a:prstGeom>
            <a:solidFill>
              <a:srgbClr val="cc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35"/>
            <p:cNvSpPr/>
            <p:nvPr/>
          </p:nvSpPr>
          <p:spPr>
            <a:xfrm>
              <a:off x="739116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6"/>
            <p:cNvSpPr/>
            <p:nvPr/>
          </p:nvSpPr>
          <p:spPr>
            <a:xfrm>
              <a:off x="678168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争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37"/>
          <p:cNvGrpSpPr/>
          <p:nvPr/>
        </p:nvGrpSpPr>
        <p:grpSpPr>
          <a:xfrm>
            <a:off x="6781680" y="4114800"/>
            <a:ext cx="1371600" cy="990720"/>
            <a:chOff x="6781680" y="4114800"/>
            <a:chExt cx="1371600" cy="990720"/>
          </a:xfrm>
        </p:grpSpPr>
        <p:sp>
          <p:nvSpPr>
            <p:cNvPr id="153" name="AutoShape 38"/>
            <p:cNvSpPr/>
            <p:nvPr/>
          </p:nvSpPr>
          <p:spPr>
            <a:xfrm>
              <a:off x="6781680" y="4343400"/>
              <a:ext cx="1295280" cy="762120"/>
            </a:xfrm>
            <a:prstGeom prst="flowChartMagneticDisk">
              <a:avLst/>
            </a:prstGeom>
            <a:solidFill>
              <a:srgbClr val="cc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39"/>
            <p:cNvSpPr/>
            <p:nvPr/>
          </p:nvSpPr>
          <p:spPr>
            <a:xfrm>
              <a:off x="739116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40"/>
            <p:cNvSpPr/>
            <p:nvPr/>
          </p:nvSpPr>
          <p:spPr>
            <a:xfrm>
              <a:off x="678168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巧投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41"/>
          <p:cNvGrpSpPr/>
          <p:nvPr/>
        </p:nvGrpSpPr>
        <p:grpSpPr>
          <a:xfrm>
            <a:off x="5257800" y="2133720"/>
            <a:ext cx="1371600" cy="990000"/>
            <a:chOff x="5257800" y="2133720"/>
            <a:chExt cx="1371600" cy="990000"/>
          </a:xfrm>
        </p:grpSpPr>
        <p:sp>
          <p:nvSpPr>
            <p:cNvPr id="157" name="AutoShape 42"/>
            <p:cNvSpPr/>
            <p:nvPr/>
          </p:nvSpPr>
          <p:spPr>
            <a:xfrm>
              <a:off x="5257800" y="2361960"/>
              <a:ext cx="1295280" cy="761760"/>
            </a:xfrm>
            <a:prstGeom prst="flowChartMagneticDisk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43"/>
            <p:cNvSpPr/>
            <p:nvPr/>
          </p:nvSpPr>
          <p:spPr>
            <a:xfrm>
              <a:off x="5867280" y="2133720"/>
              <a:ext cx="152640" cy="30456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4"/>
            <p:cNvSpPr/>
            <p:nvPr/>
          </p:nvSpPr>
          <p:spPr>
            <a:xfrm>
              <a:off x="52578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天时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45"/>
          <p:cNvGrpSpPr/>
          <p:nvPr/>
        </p:nvGrpSpPr>
        <p:grpSpPr>
          <a:xfrm>
            <a:off x="5257800" y="3124080"/>
            <a:ext cx="1371600" cy="990720"/>
            <a:chOff x="5257800" y="3124080"/>
            <a:chExt cx="1371600" cy="990720"/>
          </a:xfrm>
        </p:grpSpPr>
        <p:sp>
          <p:nvSpPr>
            <p:cNvPr id="161" name="AutoShape 46"/>
            <p:cNvSpPr/>
            <p:nvPr/>
          </p:nvSpPr>
          <p:spPr>
            <a:xfrm>
              <a:off x="5257800" y="3352680"/>
              <a:ext cx="1295280" cy="762120"/>
            </a:xfrm>
            <a:prstGeom prst="flowChartMagneticDisk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7"/>
            <p:cNvSpPr/>
            <p:nvPr/>
          </p:nvSpPr>
          <p:spPr>
            <a:xfrm>
              <a:off x="5867280" y="312408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48"/>
            <p:cNvSpPr/>
            <p:nvPr/>
          </p:nvSpPr>
          <p:spPr>
            <a:xfrm>
              <a:off x="5257800" y="3429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地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49"/>
          <p:cNvGrpSpPr/>
          <p:nvPr/>
        </p:nvGrpSpPr>
        <p:grpSpPr>
          <a:xfrm>
            <a:off x="5257800" y="4114800"/>
            <a:ext cx="1371600" cy="990720"/>
            <a:chOff x="5257800" y="4114800"/>
            <a:chExt cx="1371600" cy="990720"/>
          </a:xfrm>
        </p:grpSpPr>
        <p:sp>
          <p:nvSpPr>
            <p:cNvPr id="165" name="AutoShape 50"/>
            <p:cNvSpPr/>
            <p:nvPr/>
          </p:nvSpPr>
          <p:spPr>
            <a:xfrm>
              <a:off x="5257800" y="4343400"/>
              <a:ext cx="1295280" cy="76212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51"/>
            <p:cNvSpPr/>
            <p:nvPr/>
          </p:nvSpPr>
          <p:spPr>
            <a:xfrm>
              <a:off x="5867280" y="4114800"/>
              <a:ext cx="152640" cy="304920"/>
            </a:xfrm>
            <a:custGeom>
              <a:avLst/>
              <a:gdLst>
                <a:gd name="textAreaLeft" fmla="*/ 0 w 152640"/>
                <a:gd name="textAreaRight" fmla="*/ 42840 w 152640"/>
                <a:gd name="textAreaTop" fmla="*/ 1173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lnTo>
                    <a:pt x="15662" y="1428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52"/>
            <p:cNvSpPr/>
            <p:nvPr/>
          </p:nvSpPr>
          <p:spPr>
            <a:xfrm>
              <a:off x="52578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Times New Roman"/>
                  <a:ea typeface="隶书"/>
                </a:rPr>
                <a:t>人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53"/>
          <p:cNvGrpSpPr/>
          <p:nvPr/>
        </p:nvGrpSpPr>
        <p:grpSpPr>
          <a:xfrm>
            <a:off x="3660480" y="2209680"/>
            <a:ext cx="1521000" cy="3657600"/>
            <a:chOff x="3660480" y="2209680"/>
            <a:chExt cx="1521000" cy="3657600"/>
          </a:xfrm>
        </p:grpSpPr>
        <p:sp>
          <p:nvSpPr>
            <p:cNvPr id="169" name="AutoShape 54"/>
            <p:cNvSpPr/>
            <p:nvPr/>
          </p:nvSpPr>
          <p:spPr>
            <a:xfrm>
              <a:off x="3962520" y="2209680"/>
              <a:ext cx="1218960" cy="3657600"/>
            </a:xfrm>
            <a:prstGeom prst="flowChartExtract">
              <a:avLst/>
            </a:prstGeom>
            <a:solidFill>
              <a:srgbClr val="8c7e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3660480" y="3886200"/>
              <a:ext cx="1277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黄泥冈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56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7"/>
          <p:cNvSpPr/>
          <p:nvPr/>
        </p:nvSpPr>
        <p:spPr>
          <a:xfrm>
            <a:off x="632448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58"/>
          <p:cNvGrpSpPr/>
          <p:nvPr/>
        </p:nvGrpSpPr>
        <p:grpSpPr>
          <a:xfrm>
            <a:off x="304920" y="1523880"/>
            <a:ext cx="4343400" cy="703440"/>
            <a:chOff x="304920" y="1523880"/>
            <a:chExt cx="4343400" cy="703440"/>
          </a:xfrm>
        </p:grpSpPr>
        <p:sp>
          <p:nvSpPr>
            <p:cNvPr id="174" name="Line 59"/>
            <p:cNvSpPr/>
            <p:nvPr/>
          </p:nvSpPr>
          <p:spPr>
            <a:xfrm>
              <a:off x="533520" y="2133360"/>
              <a:ext cx="4114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60"/>
            <p:cNvSpPr/>
            <p:nvPr/>
          </p:nvSpPr>
          <p:spPr>
            <a:xfrm>
              <a:off x="304920" y="15238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cc"/>
                  </a:solidFill>
                  <a:latin typeface="Times New Roman"/>
                </a:rPr>
                <a:t>明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61"/>
          <p:cNvGrpSpPr/>
          <p:nvPr/>
        </p:nvGrpSpPr>
        <p:grpSpPr>
          <a:xfrm>
            <a:off x="4571640" y="1371600"/>
            <a:ext cx="4572360" cy="762120"/>
            <a:chOff x="4571640" y="1371600"/>
            <a:chExt cx="4572360" cy="762120"/>
          </a:xfrm>
        </p:grpSpPr>
        <p:sp>
          <p:nvSpPr>
            <p:cNvPr id="177" name="Line 62"/>
            <p:cNvSpPr/>
            <p:nvPr/>
          </p:nvSpPr>
          <p:spPr>
            <a:xfrm flipH="1">
              <a:off x="4571640" y="2133720"/>
              <a:ext cx="3505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63"/>
            <p:cNvSpPr/>
            <p:nvPr/>
          </p:nvSpPr>
          <p:spPr>
            <a:xfrm>
              <a:off x="7543800" y="137160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暗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2"/>
          <p:cNvSpPr/>
          <p:nvPr/>
        </p:nvSpPr>
        <p:spPr>
          <a:xfrm>
            <a:off x="762120" y="1523880"/>
            <a:ext cx="79246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962520" y="2209680"/>
            <a:ext cx="1218960" cy="3657600"/>
          </a:xfrm>
          <a:prstGeom prst="flowChartExtract">
            <a:avLst/>
          </a:prstGeom>
          <a:solidFill>
            <a:srgbClr val="8c7e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891680" y="624600"/>
            <a:ext cx="2027520" cy="2027520"/>
            <a:chOff x="4891680" y="624600"/>
            <a:chExt cx="2027520" cy="2027520"/>
          </a:xfrm>
        </p:grpSpPr>
        <p:sp>
          <p:nvSpPr>
            <p:cNvPr id="182" name="AutoShape 5"/>
            <p:cNvSpPr/>
            <p:nvPr/>
          </p:nvSpPr>
          <p:spPr>
            <a:xfrm rot="2216400">
              <a:off x="5181120" y="914040"/>
              <a:ext cx="1447920" cy="1447920"/>
            </a:xfrm>
            <a:prstGeom prst="flowChartConnector">
              <a:avLst/>
            </a:prstGeom>
            <a:solidFill>
              <a:srgbClr val="ffff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6"/>
            <p:cNvSpPr/>
            <p:nvPr/>
          </p:nvSpPr>
          <p:spPr>
            <a:xfrm rot="2216400">
              <a:off x="5288760" y="107676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智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2743200" y="1905120"/>
            <a:ext cx="1371600" cy="2971800"/>
            <a:chOff x="2743200" y="1905120"/>
            <a:chExt cx="1371600" cy="2971800"/>
          </a:xfrm>
        </p:grpSpPr>
        <p:grpSp>
          <p:nvGrpSpPr>
            <p:cNvPr id="185" name="Group 8"/>
            <p:cNvGrpSpPr/>
            <p:nvPr/>
          </p:nvGrpSpPr>
          <p:grpSpPr>
            <a:xfrm>
              <a:off x="2743200" y="1905120"/>
              <a:ext cx="1371600" cy="990720"/>
              <a:chOff x="2743200" y="1905120"/>
              <a:chExt cx="1371600" cy="990720"/>
            </a:xfrm>
          </p:grpSpPr>
          <p:sp>
            <p:nvSpPr>
              <p:cNvPr id="186" name="AutoShape 9"/>
              <p:cNvSpPr/>
              <p:nvPr/>
            </p:nvSpPr>
            <p:spPr>
              <a:xfrm>
                <a:off x="2743200" y="2133720"/>
                <a:ext cx="1295280" cy="762120"/>
              </a:xfrm>
              <a:prstGeom prst="flowChartMagneticDisk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>
                <a:off x="3352680" y="19051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2743200" y="22100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乔装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2"/>
            <p:cNvGrpSpPr/>
            <p:nvPr/>
          </p:nvGrpSpPr>
          <p:grpSpPr>
            <a:xfrm>
              <a:off x="2743200" y="2895840"/>
              <a:ext cx="1371600" cy="990000"/>
              <a:chOff x="2743200" y="2895840"/>
              <a:chExt cx="1371600" cy="990000"/>
            </a:xfrm>
          </p:grpSpPr>
          <p:sp>
            <p:nvSpPr>
              <p:cNvPr id="190" name="AutoShape 13"/>
              <p:cNvSpPr/>
              <p:nvPr/>
            </p:nvSpPr>
            <p:spPr>
              <a:xfrm>
                <a:off x="2743200" y="3124080"/>
                <a:ext cx="1295280" cy="76176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>
                <a:off x="3352680" y="28958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Text Box 15"/>
              <p:cNvSpPr/>
              <p:nvPr/>
            </p:nvSpPr>
            <p:spPr>
              <a:xfrm>
                <a:off x="2743200" y="32004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更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2743200" y="3886200"/>
              <a:ext cx="1371600" cy="990720"/>
              <a:chOff x="2743200" y="3886200"/>
              <a:chExt cx="1371600" cy="990720"/>
            </a:xfrm>
          </p:grpSpPr>
          <p:sp>
            <p:nvSpPr>
              <p:cNvPr id="194" name="AutoShape 17"/>
              <p:cNvSpPr/>
              <p:nvPr/>
            </p:nvSpPr>
            <p:spPr>
              <a:xfrm>
                <a:off x="2743200" y="4114800"/>
                <a:ext cx="1295280" cy="762120"/>
              </a:xfrm>
              <a:prstGeom prst="flowChartMagneticDisk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>
                <a:off x="3352680" y="38862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19"/>
              <p:cNvSpPr/>
              <p:nvPr/>
            </p:nvSpPr>
            <p:spPr>
              <a:xfrm>
                <a:off x="2743200" y="4191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赶骂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20"/>
          <p:cNvGrpSpPr/>
          <p:nvPr/>
        </p:nvGrpSpPr>
        <p:grpSpPr>
          <a:xfrm>
            <a:off x="1143000" y="1676520"/>
            <a:ext cx="1447920" cy="2971800"/>
            <a:chOff x="1143000" y="1676520"/>
            <a:chExt cx="1447920" cy="2971800"/>
          </a:xfrm>
        </p:grpSpPr>
        <p:grpSp>
          <p:nvGrpSpPr>
            <p:cNvPr id="198" name="Group 21"/>
            <p:cNvGrpSpPr/>
            <p:nvPr/>
          </p:nvGrpSpPr>
          <p:grpSpPr>
            <a:xfrm>
              <a:off x="1219320" y="1676520"/>
              <a:ext cx="1371600" cy="990720"/>
              <a:chOff x="1219320" y="1676520"/>
              <a:chExt cx="1371600" cy="990720"/>
            </a:xfrm>
          </p:grpSpPr>
          <p:sp>
            <p:nvSpPr>
              <p:cNvPr id="199" name="AutoShape 22"/>
              <p:cNvSpPr/>
              <p:nvPr/>
            </p:nvSpPr>
            <p:spPr>
              <a:xfrm>
                <a:off x="1219320" y="1905120"/>
                <a:ext cx="1295280" cy="762120"/>
              </a:xfrm>
              <a:prstGeom prst="flowChartMagneticDisk">
                <a:avLst/>
              </a:prstGeom>
              <a:solidFill>
                <a:srgbClr val="cc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>
                <a:off x="1828800" y="16765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24"/>
              <p:cNvSpPr/>
              <p:nvPr/>
            </p:nvSpPr>
            <p:spPr>
              <a:xfrm>
                <a:off x="1219320" y="19814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客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5"/>
            <p:cNvGrpSpPr/>
            <p:nvPr/>
          </p:nvGrpSpPr>
          <p:grpSpPr>
            <a:xfrm>
              <a:off x="1143000" y="2667240"/>
              <a:ext cx="1371600" cy="990000"/>
              <a:chOff x="1143000" y="2667240"/>
              <a:chExt cx="1371600" cy="990000"/>
            </a:xfrm>
          </p:grpSpPr>
          <p:sp>
            <p:nvSpPr>
              <p:cNvPr id="203" name="AutoShape 26"/>
              <p:cNvSpPr/>
              <p:nvPr/>
            </p:nvSpPr>
            <p:spPr>
              <a:xfrm>
                <a:off x="1143000" y="2895480"/>
                <a:ext cx="1295280" cy="761760"/>
              </a:xfrm>
              <a:prstGeom prst="flowChartMagneticDisk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>
                <a:off x="1752480" y="26672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1143000" y="29718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疑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29"/>
            <p:cNvGrpSpPr/>
            <p:nvPr/>
          </p:nvGrpSpPr>
          <p:grpSpPr>
            <a:xfrm>
              <a:off x="1143000" y="3657600"/>
              <a:ext cx="1371600" cy="990720"/>
              <a:chOff x="1143000" y="3657600"/>
              <a:chExt cx="1371600" cy="990720"/>
            </a:xfrm>
          </p:grpSpPr>
          <p:sp>
            <p:nvSpPr>
              <p:cNvPr id="207" name="AutoShape 30"/>
              <p:cNvSpPr/>
              <p:nvPr/>
            </p:nvSpPr>
            <p:spPr>
              <a:xfrm>
                <a:off x="1143000" y="3886200"/>
                <a:ext cx="1295280" cy="762120"/>
              </a:xfrm>
              <a:prstGeom prst="flowChartMagneticDisk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utoShape 31"/>
              <p:cNvSpPr/>
              <p:nvPr/>
            </p:nvSpPr>
            <p:spPr>
              <a:xfrm>
                <a:off x="1752480" y="36576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2"/>
              <p:cNvSpPr/>
              <p:nvPr/>
            </p:nvSpPr>
            <p:spPr>
              <a:xfrm>
                <a:off x="1143000" y="3962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窥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33"/>
          <p:cNvGrpSpPr/>
          <p:nvPr/>
        </p:nvGrpSpPr>
        <p:grpSpPr>
          <a:xfrm>
            <a:off x="6781680" y="2666880"/>
            <a:ext cx="1371600" cy="2971800"/>
            <a:chOff x="6781680" y="2666880"/>
            <a:chExt cx="1371600" cy="2971800"/>
          </a:xfrm>
        </p:grpSpPr>
        <p:grpSp>
          <p:nvGrpSpPr>
            <p:cNvPr id="211" name="Group 34"/>
            <p:cNvGrpSpPr/>
            <p:nvPr/>
          </p:nvGrpSpPr>
          <p:grpSpPr>
            <a:xfrm>
              <a:off x="6781680" y="2666880"/>
              <a:ext cx="1371600" cy="990720"/>
              <a:chOff x="6781680" y="2666880"/>
              <a:chExt cx="1371600" cy="990720"/>
            </a:xfrm>
          </p:grpSpPr>
          <p:sp>
            <p:nvSpPr>
              <p:cNvPr id="212" name="AutoShape 35"/>
              <p:cNvSpPr/>
              <p:nvPr/>
            </p:nvSpPr>
            <p:spPr>
              <a:xfrm>
                <a:off x="6781680" y="2895480"/>
                <a:ext cx="1295280" cy="762120"/>
              </a:xfrm>
              <a:prstGeom prst="flowChartMagneticDisk">
                <a:avLst/>
              </a:pr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36"/>
              <p:cNvSpPr/>
              <p:nvPr/>
            </p:nvSpPr>
            <p:spPr>
              <a:xfrm>
                <a:off x="7391160" y="266688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Text Box 37"/>
              <p:cNvSpPr/>
              <p:nvPr/>
            </p:nvSpPr>
            <p:spPr>
              <a:xfrm>
                <a:off x="6781680" y="29718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改扮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38"/>
            <p:cNvGrpSpPr/>
            <p:nvPr/>
          </p:nvGrpSpPr>
          <p:grpSpPr>
            <a:xfrm>
              <a:off x="6781680" y="3657600"/>
              <a:ext cx="1371600" cy="990000"/>
              <a:chOff x="6781680" y="3657600"/>
              <a:chExt cx="1371600" cy="990000"/>
            </a:xfrm>
          </p:grpSpPr>
          <p:sp>
            <p:nvSpPr>
              <p:cNvPr id="216" name="AutoShape 39"/>
              <p:cNvSpPr/>
              <p:nvPr/>
            </p:nvSpPr>
            <p:spPr>
              <a:xfrm>
                <a:off x="6781680" y="3885840"/>
                <a:ext cx="1295280" cy="76176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40"/>
              <p:cNvSpPr/>
              <p:nvPr/>
            </p:nvSpPr>
            <p:spPr>
              <a:xfrm>
                <a:off x="7391160" y="365760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41"/>
              <p:cNvSpPr/>
              <p:nvPr/>
            </p:nvSpPr>
            <p:spPr>
              <a:xfrm>
                <a:off x="6781680" y="396216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卖酒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42"/>
            <p:cNvGrpSpPr/>
            <p:nvPr/>
          </p:nvGrpSpPr>
          <p:grpSpPr>
            <a:xfrm>
              <a:off x="6781680" y="4647960"/>
              <a:ext cx="1371600" cy="990720"/>
              <a:chOff x="6781680" y="4647960"/>
              <a:chExt cx="1371600" cy="990720"/>
            </a:xfrm>
          </p:grpSpPr>
          <p:sp>
            <p:nvSpPr>
              <p:cNvPr id="220" name="AutoShape 43"/>
              <p:cNvSpPr/>
              <p:nvPr/>
            </p:nvSpPr>
            <p:spPr>
              <a:xfrm>
                <a:off x="6781680" y="4876560"/>
                <a:ext cx="1295280" cy="762120"/>
              </a:xfrm>
              <a:prstGeom prst="flowChartMagneticDisk">
                <a:avLst/>
              </a:prstGeom>
              <a:solidFill>
                <a:srgbClr val="cc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44"/>
              <p:cNvSpPr/>
              <p:nvPr/>
            </p:nvSpPr>
            <p:spPr>
              <a:xfrm>
                <a:off x="7391160" y="464796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45"/>
              <p:cNvSpPr/>
              <p:nvPr/>
            </p:nvSpPr>
            <p:spPr>
              <a:xfrm>
                <a:off x="6781680" y="49528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投药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46"/>
          <p:cNvGrpSpPr/>
          <p:nvPr/>
        </p:nvGrpSpPr>
        <p:grpSpPr>
          <a:xfrm>
            <a:off x="5257800" y="2362320"/>
            <a:ext cx="1371600" cy="2971800"/>
            <a:chOff x="5257800" y="2362320"/>
            <a:chExt cx="1371600" cy="2971800"/>
          </a:xfrm>
        </p:grpSpPr>
        <p:grpSp>
          <p:nvGrpSpPr>
            <p:cNvPr id="224" name="Group 47"/>
            <p:cNvGrpSpPr/>
            <p:nvPr/>
          </p:nvGrpSpPr>
          <p:grpSpPr>
            <a:xfrm>
              <a:off x="5257800" y="2362320"/>
              <a:ext cx="1371600" cy="990720"/>
              <a:chOff x="5257800" y="2362320"/>
              <a:chExt cx="1371600" cy="990720"/>
            </a:xfrm>
          </p:grpSpPr>
          <p:sp>
            <p:nvSpPr>
              <p:cNvPr id="225" name="AutoShape 48"/>
              <p:cNvSpPr/>
              <p:nvPr/>
            </p:nvSpPr>
            <p:spPr>
              <a:xfrm>
                <a:off x="5257800" y="2590920"/>
                <a:ext cx="1295280" cy="762120"/>
              </a:xfrm>
              <a:prstGeom prst="flowChartMagneticDisk">
                <a:avLst/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49"/>
              <p:cNvSpPr/>
              <p:nvPr/>
            </p:nvSpPr>
            <p:spPr>
              <a:xfrm>
                <a:off x="5867280" y="236232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50"/>
              <p:cNvSpPr/>
              <p:nvPr/>
            </p:nvSpPr>
            <p:spPr>
              <a:xfrm>
                <a:off x="5257800" y="266724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天时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51"/>
            <p:cNvGrpSpPr/>
            <p:nvPr/>
          </p:nvGrpSpPr>
          <p:grpSpPr>
            <a:xfrm>
              <a:off x="5257800" y="3353040"/>
              <a:ext cx="1371600" cy="990000"/>
              <a:chOff x="5257800" y="3353040"/>
              <a:chExt cx="1371600" cy="990000"/>
            </a:xfrm>
          </p:grpSpPr>
          <p:sp>
            <p:nvSpPr>
              <p:cNvPr id="229" name="AutoShape 52"/>
              <p:cNvSpPr/>
              <p:nvPr/>
            </p:nvSpPr>
            <p:spPr>
              <a:xfrm>
                <a:off x="5257800" y="3581280"/>
                <a:ext cx="1295280" cy="761760"/>
              </a:xfrm>
              <a:prstGeom prst="flowChartMagneticDisk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53"/>
              <p:cNvSpPr/>
              <p:nvPr/>
            </p:nvSpPr>
            <p:spPr>
              <a:xfrm>
                <a:off x="5867280" y="3353040"/>
                <a:ext cx="152640" cy="30456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54"/>
              <p:cNvSpPr/>
              <p:nvPr/>
            </p:nvSpPr>
            <p:spPr>
              <a:xfrm>
                <a:off x="5257800" y="36576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地利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55"/>
            <p:cNvGrpSpPr/>
            <p:nvPr/>
          </p:nvGrpSpPr>
          <p:grpSpPr>
            <a:xfrm>
              <a:off x="5257800" y="4343400"/>
              <a:ext cx="1371600" cy="990720"/>
              <a:chOff x="5257800" y="4343400"/>
              <a:chExt cx="1371600" cy="990720"/>
            </a:xfrm>
          </p:grpSpPr>
          <p:sp>
            <p:nvSpPr>
              <p:cNvPr id="233" name="AutoShape 56"/>
              <p:cNvSpPr/>
              <p:nvPr/>
            </p:nvSpPr>
            <p:spPr>
              <a:xfrm>
                <a:off x="5257800" y="4572000"/>
                <a:ext cx="1295280" cy="762120"/>
              </a:xfrm>
              <a:prstGeom prst="flowChartMagneticDisk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57"/>
              <p:cNvSpPr/>
              <p:nvPr/>
            </p:nvSpPr>
            <p:spPr>
              <a:xfrm>
                <a:off x="5867280" y="4343400"/>
                <a:ext cx="152640" cy="304920"/>
              </a:xfrm>
              <a:custGeom>
                <a:avLst/>
                <a:gdLst>
                  <a:gd name="textAreaLeft" fmla="*/ 0 w 152640"/>
                  <a:gd name="textAreaRight" fmla="*/ 42840 w 152640"/>
                  <a:gd name="textAreaTop" fmla="*/ 11736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Text Box 58"/>
              <p:cNvSpPr/>
              <p:nvPr/>
            </p:nvSpPr>
            <p:spPr>
              <a:xfrm>
                <a:off x="5257800" y="46483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人和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59"/>
          <p:cNvSpPr/>
          <p:nvPr/>
        </p:nvSpPr>
        <p:spPr>
          <a:xfrm>
            <a:off x="3387960" y="3505320"/>
            <a:ext cx="164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黄泥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0"/>
          <p:cNvSpPr/>
          <p:nvPr/>
        </p:nvSpPr>
        <p:spPr>
          <a:xfrm>
            <a:off x="2057400" y="838080"/>
            <a:ext cx="990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6629400" y="838080"/>
            <a:ext cx="914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62"/>
          <p:cNvGrpSpPr/>
          <p:nvPr/>
        </p:nvGrpSpPr>
        <p:grpSpPr>
          <a:xfrm>
            <a:off x="-819720" y="0"/>
            <a:ext cx="2299320" cy="5715000"/>
            <a:chOff x="-819720" y="0"/>
            <a:chExt cx="2299320" cy="5715000"/>
          </a:xfrm>
        </p:grpSpPr>
        <p:pic>
          <p:nvPicPr>
            <p:cNvPr id="240" name="Picture 63" descr="杨志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79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64"/>
            <p:cNvSpPr/>
            <p:nvPr/>
          </p:nvSpPr>
          <p:spPr>
            <a:xfrm>
              <a:off x="-819720" y="1981080"/>
              <a:ext cx="1826280" cy="37339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杨志失志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5"/>
          <p:cNvGrpSpPr/>
          <p:nvPr/>
        </p:nvGrpSpPr>
        <p:grpSpPr>
          <a:xfrm>
            <a:off x="7317720" y="0"/>
            <a:ext cx="1826280" cy="5867280"/>
            <a:chOff x="7317720" y="0"/>
            <a:chExt cx="1826280" cy="5867280"/>
          </a:xfrm>
        </p:grpSpPr>
        <p:pic>
          <p:nvPicPr>
            <p:cNvPr id="243" name="Picture 66" descr="吴用"/>
            <p:cNvPicPr/>
            <p:nvPr/>
          </p:nvPicPr>
          <p:blipFill>
            <a:blip r:embed="rId3"/>
            <a:stretch/>
          </p:blipFill>
          <p:spPr>
            <a:xfrm>
              <a:off x="7705800" y="0"/>
              <a:ext cx="1438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67"/>
            <p:cNvSpPr/>
            <p:nvPr/>
          </p:nvSpPr>
          <p:spPr>
            <a:xfrm>
              <a:off x="7317720" y="2286000"/>
              <a:ext cx="1826280" cy="3581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吴用得用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华文新魏"/>
              </a:rPr>
              <a:t>矛 盾 冲 突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次 要 矛 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ccff99"/>
                </a:solidFill>
                <a:latin typeface="Arial"/>
                <a:ea typeface="华文中宋"/>
              </a:rPr>
              <a:t>杨志与军健、虞侯、老都管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76560" y="8377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主 要 矛 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Arial"/>
                <a:ea typeface="华文中宋"/>
              </a:rPr>
              <a:t>杨志与晁盖等好汉的矛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3808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押送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4120" y="1828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Times New Roman"/>
                <a:ea typeface="华文新魏"/>
              </a:rPr>
              <a:t>智取生辰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 rot="5400000">
            <a:off x="1942560" y="133308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280160" y="285264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快与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43600" y="2924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走与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701800" y="281952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许喝酒与要喝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 rot="5400000">
            <a:off x="6438600" y="133344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4495680" y="2743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明防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杨志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47242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喝来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50292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93920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不许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50292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4724280" y="54864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放心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6781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暗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晁盖等人</a:t>
            </a:r>
            <a:r>
              <a:rPr b="0" lang="en-US" sz="2400" spc="-1" strike="noStrike">
                <a:solidFill>
                  <a:srgbClr val="99ff66"/>
                </a:solidFill>
                <a:latin typeface="华文中宋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453800" y="335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扮客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75438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7238880" y="4419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挑酒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75438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723888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送枣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3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Arial"/>
              </a:rPr>
              <a:t>前一部分为什么这么着重写次要矛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89080" y="685800"/>
            <a:ext cx="88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因次要矛盾是为主要矛盾服务的。次要矛盾是因主要矛盾而发生、发展，以至激化；而主要矛盾又因次要矛盾的发生、发展、激化，提供了解决的条件，所以写好次要矛盾，就能使主、次矛盾相互勾联，相互影响，以至推动情节向前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993680" y="3733920"/>
            <a:ext cx="51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问题</a:t>
            </a:r>
            <a:r>
              <a:rPr b="0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ccffcc"/>
                </a:solidFill>
                <a:latin typeface="新宋体"/>
                <a:ea typeface="新宋体"/>
              </a:rPr>
              <a:t>如何看待小说的明暗这两条线？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黑体"/>
              </a:rPr>
              <a:t>（练习一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426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何处理好这两条线，取决于艺术效果的表达。例如，用明线写杨志的精细和周密防范，对这条明线刻画得越细致，就越能衬托出暗线一方人物的智慧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同时，由于对晁盖、吴用等人的行动采取暗线写法，让读者猜不透，造成悬念，直到最后由暗线转到明线，读者才恍然大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228600" y="3808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青面兽杨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shb1a-17"/>
          <p:cNvPicPr/>
          <p:nvPr/>
        </p:nvPicPr>
        <p:blipFill>
          <a:blip r:embed="rId3"/>
          <a:stretch/>
        </p:blipFill>
        <p:spPr>
          <a:xfrm>
            <a:off x="236520" y="1295280"/>
            <a:ext cx="300996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3419640" y="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杨志，在梁山好汉中排名第十七位，梁山军马里做马军八虎骑兼先锋使，排行第三。林冲来到梁山，王伦不容，要他先下山取“投名状”杀一人上山。不想正巧碰见青面兽杨志，两人拔刀大战三十余回，不分胜负。原来杨志是杨老令公杨家将的后代，本来是殿帅府制使，因押送花石纲在黄河里翻了船畏罪逃避。与林冲不打不相识，被王伦一起邀上梁山。但杨志一心想到东京找个官做，不肯入伙。杨志在东京花光了身上的钱，只好去卖祖传宝刀，与泼皮牛二发生争吵，不得已杀了牛二，被发配到大名府充军。为梁中书护送生辰纲去东京，又被晁盖等所劫。杨志无奈和鲁智深打上二龙山，杀了邓龙，做了山寨之主。后归了梁山泊。征讨方腊时在途中病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962520" y="144792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杨志为首的押送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主人公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新魏"/>
              </a:rPr>
              <a:t>杨志</a:t>
            </a:r>
            <a:r>
              <a:rPr b="0" lang="zh-CN" sz="3600" spc="-1" strike="noStrike">
                <a:solidFill>
                  <a:srgbClr val="99ccff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556000" y="1890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人物形象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8" name="Picture 4" descr="shb1a-17"/>
          <p:cNvPicPr/>
          <p:nvPr/>
        </p:nvPicPr>
        <p:blipFill>
          <a:blip r:embed="rId2"/>
          <a:stretch/>
        </p:blipFill>
        <p:spPr>
          <a:xfrm>
            <a:off x="304920" y="1371600"/>
            <a:ext cx="358128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148360" y="3068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杨志之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“智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0" y="3809880"/>
            <a:ext cx="25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藏行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变行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99"/>
                </a:solidFill>
                <a:latin typeface="Times New Roman"/>
                <a:ea typeface="隶书"/>
              </a:rPr>
              <a:t>智选路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858000" y="42670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086600" y="4191120"/>
            <a:ext cx="138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精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谨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9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5480 w 250920"/>
              <a:gd name="textAreaRight" fmla="*/ 235440 w 250920"/>
              <a:gd name="textAreaTop" fmla="*/ 15480 h 260280"/>
              <a:gd name="textAreaBottom" fmla="*/ 24480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50" y="21055"/>
                </a:lnTo>
                <a:lnTo>
                  <a:pt x="20250" y="135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350" y="21055"/>
                </a:lnTo>
                <a:lnTo>
                  <a:pt x="20250" y="2105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350" y="1350"/>
                </a:lnTo>
                <a:lnTo>
                  <a:pt x="1350" y="21055"/>
                </a:lnTo>
                <a:close/>
              </a:path>
              <a:path fill="darken" w="21600" h="22405">
                <a:moveTo>
                  <a:pt x="3756" y="4159"/>
                </a:moveTo>
                <a:lnTo>
                  <a:pt x="17844" y="11202"/>
                </a:lnTo>
                <a:lnTo>
                  <a:pt x="3756" y="1824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640080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hg(1)_s"/>
          <p:cNvPicPr/>
          <p:nvPr/>
        </p:nvPicPr>
        <p:blipFill>
          <a:blip r:embed="rId2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shb1a-03"/>
          <p:cNvPicPr/>
          <p:nvPr/>
        </p:nvPicPr>
        <p:blipFill>
          <a:blip r:embed="rId3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shb1a-04"/>
          <p:cNvPicPr/>
          <p:nvPr/>
        </p:nvPicPr>
        <p:blipFill>
          <a:blip r:embed="rId4"/>
          <a:stretch/>
        </p:blipFill>
        <p:spPr>
          <a:xfrm>
            <a:off x="5195880" y="0"/>
            <a:ext cx="394812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304920" y="228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新魏"/>
                <a:hlinkClick r:id="rId5"/>
              </a:rPr>
              <a:t>晁盖为首的好汉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shb1b-70"/>
          <p:cNvPicPr/>
          <p:nvPr/>
        </p:nvPicPr>
        <p:blipFill>
          <a:blip r:embed="rId6"/>
          <a:stretch/>
        </p:blipFill>
        <p:spPr>
          <a:xfrm>
            <a:off x="7345440" y="4038480"/>
            <a:ext cx="1798560" cy="2819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shb1a-31"/>
          <p:cNvPicPr/>
          <p:nvPr/>
        </p:nvPicPr>
        <p:blipFill>
          <a:blip r:embed="rId7"/>
          <a:stretch/>
        </p:blipFill>
        <p:spPr>
          <a:xfrm>
            <a:off x="5486400" y="4038480"/>
            <a:ext cx="1828800" cy="28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shb1a-29"/>
          <p:cNvPicPr/>
          <p:nvPr/>
        </p:nvPicPr>
        <p:blipFill>
          <a:blip r:embed="rId8"/>
          <a:stretch/>
        </p:blipFill>
        <p:spPr>
          <a:xfrm>
            <a:off x="3733920" y="4038480"/>
            <a:ext cx="1726920" cy="2819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shb1a-27"/>
          <p:cNvPicPr/>
          <p:nvPr/>
        </p:nvPicPr>
        <p:blipFill>
          <a:blip r:embed="rId9"/>
          <a:stretch/>
        </p:blipFill>
        <p:spPr>
          <a:xfrm>
            <a:off x="1828800" y="4038480"/>
            <a:ext cx="1852560" cy="2819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shb1a-21"/>
          <p:cNvPicPr/>
          <p:nvPr/>
        </p:nvPicPr>
        <p:blipFill>
          <a:blip r:embed="rId10"/>
          <a:stretch/>
        </p:blipFill>
        <p:spPr>
          <a:xfrm>
            <a:off x="0" y="4038480"/>
            <a:ext cx="1803240" cy="2818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shb1a-04"/>
          <p:cNvPicPr/>
          <p:nvPr/>
        </p:nvPicPr>
        <p:blipFill>
          <a:blip r:embed="rId11"/>
          <a:stretch/>
        </p:blipFill>
        <p:spPr>
          <a:xfrm>
            <a:off x="3851280" y="981000"/>
            <a:ext cx="1828800" cy="2971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shb1a-03"/>
          <p:cNvPicPr/>
          <p:nvPr/>
        </p:nvPicPr>
        <p:blipFill>
          <a:blip r:embed="rId12"/>
          <a:stretch/>
        </p:blipFill>
        <p:spPr>
          <a:xfrm>
            <a:off x="1981080" y="990720"/>
            <a:ext cx="1847880" cy="2971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hg(1)_s"/>
          <p:cNvPicPr/>
          <p:nvPr/>
        </p:nvPicPr>
        <p:blipFill>
          <a:blip r:embed="rId13"/>
          <a:stretch/>
        </p:blipFill>
        <p:spPr>
          <a:xfrm>
            <a:off x="0" y="9907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 rot="5429400">
            <a:off x="7543440" y="198108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16200" y="10650"/>
                  <a:pt x="21600" y="10650"/>
                </a:cubicBezTo>
                <a:cubicBezTo>
                  <a:pt x="162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695556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之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6604920" y="534960"/>
            <a:ext cx="21121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天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地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Times New Roman"/>
                <a:ea typeface="隶书"/>
              </a:rPr>
              <a:t>智用人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6629400" y="2895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Times New Roman"/>
                <a:ea typeface="华文新魏"/>
              </a:rPr>
              <a:t>足智多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8" descr="shb1b-70"/>
          <p:cNvPicPr/>
          <p:nvPr/>
        </p:nvPicPr>
        <p:blipFill>
          <a:blip r:embed="rId14"/>
          <a:stretch/>
        </p:blipFill>
        <p:spPr>
          <a:xfrm>
            <a:off x="5105520" y="0"/>
            <a:ext cx="4038480" cy="6095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shb1a-31"/>
          <p:cNvPicPr/>
          <p:nvPr/>
        </p:nvPicPr>
        <p:blipFill>
          <a:blip r:embed="rId15"/>
          <a:stretch/>
        </p:blipFill>
        <p:spPr>
          <a:xfrm>
            <a:off x="5181480" y="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shb1a-29"/>
          <p:cNvPicPr/>
          <p:nvPr/>
        </p:nvPicPr>
        <p:blipFill>
          <a:blip r:embed="rId16"/>
          <a:stretch/>
        </p:blipFill>
        <p:spPr>
          <a:xfrm>
            <a:off x="5197320" y="0"/>
            <a:ext cx="3946680" cy="6095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shb1a-27"/>
          <p:cNvPicPr/>
          <p:nvPr/>
        </p:nvPicPr>
        <p:blipFill>
          <a:blip r:embed="rId17"/>
          <a:stretch/>
        </p:blipFill>
        <p:spPr>
          <a:xfrm>
            <a:off x="5213520" y="0"/>
            <a:ext cx="3930480" cy="609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shb1a-21"/>
          <p:cNvPicPr/>
          <p:nvPr/>
        </p:nvPicPr>
        <p:blipFill>
          <a:blip r:embed="rId18"/>
          <a:stretch/>
        </p:blipFill>
        <p:spPr>
          <a:xfrm>
            <a:off x="5176800" y="0"/>
            <a:ext cx="39672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3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67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9500"/>
                            </p:stCondLst>
                            <p:childTnLst>
                              <p:par>
                                <p:cTn id="68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69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8500"/>
                            </p:stCondLst>
                            <p:childTnLst>
                              <p:par>
                                <p:cTn id="7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9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2000"/>
                            </p:stCondLst>
                            <p:childTnLst>
                              <p:par>
                                <p:cTn id="71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9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8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1500"/>
                            </p:stCondLst>
                            <p:childTnLst>
                              <p:par>
                                <p:cTn id="734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8000"/>
                            </p:stCondLst>
                            <p:childTnLst>
                              <p:par>
                                <p:cTn id="7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70500"/>
                            </p:stCondLst>
                            <p:childTnLst>
                              <p:par>
                                <p:cTn id="75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76500"/>
                            </p:stCondLst>
                            <p:childTnLst>
                              <p:par>
                                <p:cTn id="7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1219320" y="114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f3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2760" y="11736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问题</a:t>
            </a:r>
            <a:r>
              <a:rPr b="0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杨志为什么会失陷生辰纲？晁盖等好汉为什么能智取生辰纲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57200" y="1828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Times New Roman"/>
                <a:ea typeface="隶书"/>
              </a:rPr>
              <a:t>杨志败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666880" y="1371600"/>
            <a:ext cx="2133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急功近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内部不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4648320" y="1523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975200" y="167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内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666880" y="25146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人外有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975200" y="251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外因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212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cc"/>
                </a:solidFill>
                <a:latin typeface="Times New Roman"/>
                <a:ea typeface="隶书"/>
              </a:rPr>
              <a:t>好汉胜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0" y="472428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稳住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扮客商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引诱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佯争酒）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麻倒对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（巧下药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11" descr="shb1a-17"/>
          <p:cNvPicPr/>
          <p:nvPr/>
        </p:nvPicPr>
        <p:blipFill>
          <a:blip r:embed="rId2"/>
          <a:stretch/>
        </p:blipFill>
        <p:spPr>
          <a:xfrm>
            <a:off x="6629400" y="838080"/>
            <a:ext cx="2286000" cy="3353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shb1a-03"/>
          <p:cNvPicPr/>
          <p:nvPr/>
        </p:nvPicPr>
        <p:blipFill>
          <a:blip r:embed="rId3"/>
          <a:stretch/>
        </p:blipFill>
        <p:spPr>
          <a:xfrm>
            <a:off x="4191120" y="3352680"/>
            <a:ext cx="228600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13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800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2438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刘唐偷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吴用下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林中休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伪装客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不肯卖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送与枣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324120" y="16002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瞒天过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以逸待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笑里藏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声东击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混水摸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cc"/>
                </a:solidFill>
                <a:latin typeface="Arial"/>
                <a:ea typeface="华文新魏"/>
              </a:rPr>
              <a:t>欲擒故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52280"/>
            <a:ext cx="8431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吴用施用的计谋，采用了三十六计中的哪些计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用直线将它们连接起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2499480" y="1968840"/>
            <a:ext cx="3913560" cy="240624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2458800" y="2847240"/>
            <a:ext cx="3947040" cy="231768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 flipV="1">
            <a:off x="2580480" y="2893320"/>
            <a:ext cx="3821400" cy="69516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V="1">
            <a:off x="2431440" y="1989720"/>
            <a:ext cx="4036680" cy="254556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487240" y="5407560"/>
            <a:ext cx="3966120" cy="57528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 flipV="1">
            <a:off x="2453760" y="3597480"/>
            <a:ext cx="4007880" cy="258444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1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137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Arial"/>
                <a:ea typeface="华文中宋"/>
              </a:rPr>
              <a:t>指出句中画线词语古今意义有什么不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3962520"/>
                <a:gridCol w="1904760"/>
                <a:gridCol w="327672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例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古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99ff33"/>
                          </a:solidFill>
                          <a:latin typeface="Arial"/>
                          <a:ea typeface="黑体"/>
                        </a:rPr>
                        <a:t>今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要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取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六月十五日生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如今正是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尴尬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去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前日行的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须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是好地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且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耐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他一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老都管听了，也不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着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都叹气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吹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也</a:t>
                      </a:r>
                      <a:r>
                        <a:rPr b="1" lang="zh-CN" sz="24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</a:rPr>
                        <a:t>合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依我劝一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不晓得路途上的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勾当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艰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却说出这般没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气力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的话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你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左右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将到村里去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那</a:t>
                      </a:r>
                      <a:r>
                        <a:rPr b="1" lang="zh-CN" sz="24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计较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都是吴用主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AutoShape 58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4390920" y="17524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容易出麻烦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（神态）不自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0"/>
          <p:cNvSpPr/>
          <p:nvPr/>
        </p:nvSpPr>
        <p:spPr>
          <a:xfrm>
            <a:off x="3962520" y="1219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赶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 拿；   得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3984480" y="236232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却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必须，须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4038480" y="28195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忍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受得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3"/>
          <p:cNvSpPr/>
          <p:nvPr/>
        </p:nvSpPr>
        <p:spPr>
          <a:xfrm>
            <a:off x="3962520" y="3352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在意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用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4723200" y="38862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嘴里吹气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夸张地宣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3962520" y="434340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应该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6"/>
          <p:cNvSpPr/>
          <p:nvPr/>
        </p:nvSpPr>
        <p:spPr>
          <a:xfrm>
            <a:off x="4321800" y="487692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事情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见不得人的事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贬义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7"/>
          <p:cNvSpPr/>
          <p:nvPr/>
        </p:nvSpPr>
        <p:spPr>
          <a:xfrm>
            <a:off x="3962520" y="5334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道理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力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8"/>
          <p:cNvSpPr/>
          <p:nvPr/>
        </p:nvSpPr>
        <p:spPr>
          <a:xfrm>
            <a:off x="4847400" y="5832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反正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表方向； 支配、操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69"/>
          <p:cNvSpPr/>
          <p:nvPr/>
        </p:nvSpPr>
        <p:spPr>
          <a:xfrm>
            <a:off x="4367880" y="6399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计策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	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中宋"/>
              </a:rPr>
              <a:t>              计算比较； 争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3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水浒人物：托塔天王晁盖"/>
          <p:cNvPicPr/>
          <p:nvPr/>
        </p:nvPicPr>
        <p:blipFill>
          <a:blip r:embed="rId2"/>
          <a:stretch/>
        </p:blipFill>
        <p:spPr>
          <a:xfrm>
            <a:off x="0" y="0"/>
            <a:ext cx="5410080" cy="39402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152280" y="4621320"/>
            <a:ext cx="43434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琥珀"/>
              </a:rPr>
              <a:t>水浒人物：托塔天王晁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562720" y="304920"/>
            <a:ext cx="327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托塔天王 晁 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郓城县东溪村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溪村保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乡富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托塔天王。七星入伙智取生辰纲后投梁山入伙。林冲火并白衣秀士王伦后为梁山寨主。后打曾头市中毒箭身亡。第十四回出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shb1a-03"/>
          <p:cNvPicPr/>
          <p:nvPr/>
        </p:nvPicPr>
        <p:blipFill>
          <a:blip r:embed="rId2"/>
          <a:stretch/>
        </p:blipFill>
        <p:spPr>
          <a:xfrm>
            <a:off x="0" y="0"/>
            <a:ext cx="3700440" cy="5715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65760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吴用，表字学究，道号加亮先生。平生机巧聪明，曾读万卷经书。使两条铜链。吴用为晁盖献计，智取生辰纲，用药酒麻倒了青面兽杨志，夺了北京大名府梁中书送给蔡太师庆贺生辰的十万贯金银珠宝。宋江在浔阳楼念反诗被捉，和戴宗一起被押赴刑场，快行斩时，吴用用计劫了法场，救了宋江、戴宗。宋江二打祝家庄失败；第三次攻打祝家庄时，吴用利用双掌连环计攻克祝家庄。吴用在破连环马时，派时迁偷甲骗徐宁上了梁山。宋江闹华州时，吴用又出计借用宿太尉金铃吊挂，救出了九纹龙史进、花和尚鲁智深。一生屡出奇谋，屡建战功。受招安被封为武胜军承宣使。宋江、李逵被害后，吴用与花荣一同在宋江坟前上吊自杀，与宋江葬在一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0" y="5791320"/>
            <a:ext cx="35053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华文行楷"/>
                <a:ea typeface="华文行楷"/>
                <a:hlinkClick r:id="rId3"/>
              </a:rPr>
              <a:t>智多星吴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20040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公孙胜，河北蓟州人。梁山人马攻打高唐州时，高廉手下有三百飞天神兵，高廉会用妖法，使宋江折兵损将。吴用让宋江请公孙胜来破高廉。公孙胜是罗真人的大徒弟，名叫清道人。与高廉斗法，大获全胜。高廉驾起一片黑云想逃走，被公孙胜用法术从云中打落后杀死。宋江率梁山好汉闹华州后回到梁山，路过徐州沛县芒砀山，被能呼风唤雨的混世魔王樊瑞、八臂哪吒项充、飞天大圣李衮拦阻。公孙胜见芒砀山内尽是青色灯笼，就知道有会用妖法的人在内。公孙胜献计用法术破了三人，劝他们归顺梁山，建立奇功伟业。在梁山泊英雄排名次时排行第四，封为掌管机密副军师。宋江受招安后公孙胜回蓟州出家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3" descr="shb1a-04"/>
          <p:cNvPicPr/>
          <p:nvPr/>
        </p:nvPicPr>
        <p:blipFill>
          <a:blip r:embed="rId2"/>
          <a:stretch/>
        </p:blipFill>
        <p:spPr>
          <a:xfrm>
            <a:off x="0" y="304920"/>
            <a:ext cx="3206880" cy="49528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0" y="5410080"/>
            <a:ext cx="327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3"/>
              </a:rPr>
              <a:t>入云龙公孙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57200" y="5029200"/>
            <a:ext cx="2743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赤发鬼刘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" descr="shb1a-21"/>
          <p:cNvPicPr/>
          <p:nvPr/>
        </p:nvPicPr>
        <p:blipFill>
          <a:blip r:embed="rId3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3886200" y="38088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刘唐，梁山英雄第二十一名，排步军头领第三位，使一把朴刀。梁中书因丈人蔡京过寿，要送价值十万贯的生辰纲到东京，消息被江湖好汉赤发鬼刘唐得知，便找到托塔天王晁盖劫生辰纲，终于干出了一番惊天动地的大事。不料白胜被捕，供出了晁盖。宋江走漏消息给晁盖，晁盖、吴用、公孙胜、刘唐和阮氏三兄弟打败追捕的官兵，上了梁山。后来宋江征讨方腊时在攻打杭州的战斗中阵亡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609480" y="4952880"/>
            <a:ext cx="2667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立地太岁阮小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" descr="shb1a-27"/>
          <p:cNvPicPr/>
          <p:nvPr/>
        </p:nvPicPr>
        <p:blipFill>
          <a:blip r:embed="rId3"/>
          <a:stretch/>
        </p:blipFill>
        <p:spPr>
          <a:xfrm>
            <a:off x="533520" y="3808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36576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阮小二，在梁山好汉中排名第二十七位，是梁山四寨水军头领第四位。阮小二、阮小五、阮小七三兄弟，是梁山泊旁边石碣村人，个个武艺出众，敢赴汤蹈火。赤发鬼刘唐浪迹江湖，探听到生辰纲消息，晁盖、吴用和阮氏三兄弟一起，在黄泥冈用蒙汗药麻倒杨志，抢了生辰纲。济州府派何涛到郓城县捉拿晁盖等，幸亏有宋江事先通知，众好汉避到石碣村，官军追到时，被阮小二兄弟在芦苇港全部消灭干净。高俅等几次攻打梁山泊，阮小二兄弟率水军大出风头，建立奇功伟业。宋江攻打方腊时，阮小二率水兵袭击南军水寨，遭南军火排袭击，阮小二正要跳水逃跑，被挂钩搭住，他不愿受辱，自刎而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228600" y="609480"/>
            <a:ext cx="380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短命二郎阮小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shb1a-29"/>
          <p:cNvPicPr/>
          <p:nvPr/>
        </p:nvPicPr>
        <p:blipFill>
          <a:blip r:embed="rId3"/>
          <a:stretch/>
        </p:blipFill>
        <p:spPr>
          <a:xfrm>
            <a:off x="685800" y="160020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4191120" y="53352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五，梁山好汉中第二十九位，排梁山八大水军头领第五位。阮小五在阮氏三兄弟中排行第二，亦是梁山有名的水中好汉，浪里英雄。他从小生长在石碣村，打鱼谋生，在黄泥冈劫了生辰纲，因官军追捕逃回梁山泊，与兄弟一起打败何涛。高俅率大军围断梁山，阮小五水中奋勇杀敌。他与童威一起驻守梁山东北水寨。后随宋江征讨方腊时战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52280" y="304920"/>
            <a:ext cx="3353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2"/>
              </a:rPr>
              <a:t>活阎罗阮小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shb1a-31"/>
          <p:cNvPicPr/>
          <p:nvPr/>
        </p:nvPicPr>
        <p:blipFill>
          <a:blip r:embed="rId3"/>
          <a:stretch/>
        </p:blipFill>
        <p:spPr>
          <a:xfrm>
            <a:off x="304920" y="1295280"/>
            <a:ext cx="2789280" cy="43084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3429000" y="-30492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阮小七，绰号“活阎罗”，是梁山英雄中第三十一条好汉，梁山水军八员头领第六位。阮小七在阮氏三雄中年纪最小，跟随两个哥哥行走江湖，干下了许多惊天动地的大事。黄泥冈和晁盖等用药酒麻倒青面兽杨志，劫了生辰纲。浔阳江上救宋江，打败官军。梁山泊里驾舟踏浪，先打败何涛，再打败高俅，水中的功夫，令梁山好汉们刮目相看。他与童猛一起驻守梁山泊西北水寨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　　受招安后，阮小七被封为盖天军都统制，因穿着龙袍戏耍被剥夺官职，贬成平民。阮小七就和老母亲回梁山泊石碣村打鱼去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61722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1C1-9E67-45C6-A090-329128F05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shb1b-70"/>
          <p:cNvPicPr/>
          <p:nvPr/>
        </p:nvPicPr>
        <p:blipFill>
          <a:blip r:embed="rId2"/>
          <a:stretch/>
        </p:blipFill>
        <p:spPr>
          <a:xfrm>
            <a:off x="380880" y="380880"/>
            <a:ext cx="2959200" cy="4572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396252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白胜，黄泥冈东十里路安乐村的一个壮汉。晁盖等智取生辰纲时，先是在白胜家住下。白胜把掺入蒙汗药的药酒卖给押运生辰纲的官兵，将这十五个官兵蒙麻，然后把十一担生辰纲全部抢走。案发后白胜被何涛、何清兄弟抓捕，熬不过苦刑供出了晁盖。后来白胜被梁山人马救出，做了军中走报机密的步军头领第四名，在梁山英雄中排行第一百零六位。征讨方腊时，白胜在路途中病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0" y="5257800"/>
            <a:ext cx="3657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ecff"/>
                </a:solidFill>
                <a:uFillTx/>
                <a:latin typeface="Times New Roman"/>
                <a:ea typeface="华文行楷"/>
                <a:hlinkClick r:id="rId3"/>
              </a:rPr>
              <a:t>白日鼠白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6553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e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2"/>
          <a:stretch/>
        </p:blipFill>
        <p:spPr>
          <a:xfrm>
            <a:off x="152280" y="228600"/>
            <a:ext cx="418464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556160" y="173160"/>
            <a:ext cx="45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浒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是文学史上第一部描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农民起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全过程的长篇小说，并非一人一时之作，而是在民间口头传说，艺人讲说演唱的基础上，由文人加工编撰而成。全书前半部写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官逼民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。后半部分写宋江被招安，攻辽、打方腊，最后以悲剧结局。作者对起义英雄予以充分肯定和热情讴歌，对封建阶级的黑暗势力则尽情揭露。本书结构严整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以官逼民反，替天行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为主线，每个故事又独立成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1295280"/>
            <a:ext cx="8153280" cy="178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不读水浒， 不知天下之奇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                                 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金圣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3581280"/>
            <a:ext cx="8001000" cy="2239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金圣叹评“六大才子书”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离骚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庄子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史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   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西厢记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少陵集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水浒传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30556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趱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嗔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ē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朴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刀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别拗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i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i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聒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MS Minch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喃呐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 n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ò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ǐn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黑体"/>
              </a:rPr>
              <a:t>g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崎岖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忒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u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唣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468360" y="33336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生字注音</a:t>
            </a:r>
            <a:endParaRPr b="0" i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324000" y="335772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词语补注</a:t>
            </a:r>
            <a:endParaRPr b="0" i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4114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均匀：合理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正是好歹不均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]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直得：动不动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这厮不直得便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耐：忍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权且耐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“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且耐他一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将：拿、挑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[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你左右将到村里去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]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P.93</a:t>
            </a:r>
            <a:r>
              <a:rPr b="0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firstslide"/>
          </p:cNvPr>
          <p:cNvSpPr/>
          <p:nvPr/>
        </p:nvSpPr>
        <p:spPr>
          <a:xfrm>
            <a:off x="8839080" y="6553080"/>
            <a:ext cx="304920" cy="30348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3480"/>
              <a:gd name="textAreaBottom" fmla="*/ 284760 h 30348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52" y="1350"/>
                </a:lnTo>
                <a:lnTo>
                  <a:pt x="1350" y="135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52" y="20250"/>
                </a:lnTo>
                <a:lnTo>
                  <a:pt x="20352" y="135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52" y="2025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702" h="21600">
                <a:moveTo>
                  <a:pt x="10851" y="3800"/>
                </a:moveTo>
                <a:lnTo>
                  <a:pt x="13441" y="6425"/>
                </a:ln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lnTo>
                  <a:pt x="17851" y="10800"/>
                </a:lnTo>
                <a:lnTo>
                  <a:pt x="16189" y="10800"/>
                </a:lnTo>
                <a:lnTo>
                  <a:pt x="16189" y="18028"/>
                </a:lnTo>
                <a:lnTo>
                  <a:pt x="5514" y="18028"/>
                </a:lnTo>
                <a:lnTo>
                  <a:pt x="5514" y="10800"/>
                </a:lnTo>
                <a:lnTo>
                  <a:pt x="3851" y="10800"/>
                </a:lnTo>
                <a:close/>
              </a:path>
              <a:path fill="darkenLess" w="21702" h="21600">
                <a:moveTo>
                  <a:pt x="13441" y="6425"/>
                </a:moveTo>
                <a:lnTo>
                  <a:pt x="13441" y="4675"/>
                </a:lnTo>
                <a:lnTo>
                  <a:pt x="15226" y="4675"/>
                </a:lnTo>
                <a:lnTo>
                  <a:pt x="15226" y="8210"/>
                </a:lnTo>
                <a:close/>
              </a:path>
              <a:path fill="darkenLess" w="21702" h="21600">
                <a:moveTo>
                  <a:pt x="9924" y="14318"/>
                </a:moveTo>
                <a:lnTo>
                  <a:pt x="11779" y="14318"/>
                </a:lnTo>
                <a:lnTo>
                  <a:pt x="11779" y="18028"/>
                </a:lnTo>
                <a:lnTo>
                  <a:pt x="16189" y="18028"/>
                </a:lnTo>
                <a:lnTo>
                  <a:pt x="16189" y="10800"/>
                </a:lnTo>
                <a:lnTo>
                  <a:pt x="5514" y="10800"/>
                </a:lnTo>
                <a:lnTo>
                  <a:pt x="5514" y="18028"/>
                </a:lnTo>
                <a:lnTo>
                  <a:pt x="9924" y="18028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8820000" y="6237360"/>
            <a:ext cx="324000" cy="287280"/>
          </a:xfrm>
          <a:custGeom>
            <a:avLst/>
            <a:gdLst>
              <a:gd name="textAreaLeft" fmla="*/ 17640 w 324000"/>
              <a:gd name="textAreaRight" fmla="*/ 306360 w 32400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3007" y="1350"/>
                </a:lnTo>
                <a:lnTo>
                  <a:pt x="1350" y="135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3007" y="20250"/>
                </a:lnTo>
                <a:lnTo>
                  <a:pt x="23007" y="135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007" y="2025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57" h="21600">
                <a:moveTo>
                  <a:pt x="5135" y="7475"/>
                </a:moveTo>
                <a:lnTo>
                  <a:pt x="8661" y="7475"/>
                </a:lnTo>
                <a:lnTo>
                  <a:pt x="8661" y="12839"/>
                </a:lnTo>
                <a:cubicBezTo>
                  <a:pt x="8661" y="13766"/>
                  <a:pt x="9466" y="14501"/>
                  <a:pt x="10507" y="14501"/>
                </a:cubicBezTo>
                <a:lnTo>
                  <a:pt x="12179" y="14501"/>
                </a:lnTo>
                <a:cubicBezTo>
                  <a:pt x="13220" y="14501"/>
                  <a:pt x="14025" y="13766"/>
                  <a:pt x="14025" y="12839"/>
                </a:cubicBezTo>
                <a:lnTo>
                  <a:pt x="14025" y="7475"/>
                </a:lnTo>
                <a:lnTo>
                  <a:pt x="12179" y="7475"/>
                </a:lnTo>
                <a:lnTo>
                  <a:pt x="15705" y="3949"/>
                </a:lnTo>
                <a:lnTo>
                  <a:pt x="19397" y="7475"/>
                </a:lnTo>
                <a:lnTo>
                  <a:pt x="17551" y="7475"/>
                </a:lnTo>
                <a:lnTo>
                  <a:pt x="17551" y="12839"/>
                </a:lnTo>
                <a:cubicBezTo>
                  <a:pt x="17551" y="15621"/>
                  <a:pt x="14961" y="18194"/>
                  <a:pt x="12179" y="18194"/>
                </a:cubicBezTo>
                <a:lnTo>
                  <a:pt x="10507" y="18194"/>
                </a:lnTo>
                <a:cubicBezTo>
                  <a:pt x="7725" y="18194"/>
                  <a:pt x="5135" y="15621"/>
                  <a:pt x="5135" y="12839"/>
                </a:cubicBez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019600" y="333360"/>
            <a:ext cx="545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面对“生辰纲”这笔巨大的财宝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责押送的杨志，一路费尽心思，力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辰纲”不失；而智多星吴用巧设妙计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众好汉志在必得。这场英雄与英雄之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斗智斗谋，最终结果如何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群英图"/>
          <p:cNvPicPr/>
          <p:nvPr/>
        </p:nvPicPr>
        <p:blipFill>
          <a:blip r:embed="rId2"/>
          <a:stretch/>
        </p:blipFill>
        <p:spPr>
          <a:xfrm>
            <a:off x="395280" y="394488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基本故事情节</a:t>
            </a:r>
            <a:r>
              <a:rPr b="1" lang="en-US" sz="44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7489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生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改时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送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生辰纲（开头至“今日天下怎的不太平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七雄贩枣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蒙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杨志（“杨志却待要回言”至“自去一边树下歇凉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故事进一步发展：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白胜设计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诱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官军（“没半碗饭时”至“也这般罗唣”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61400" y="1330200"/>
            <a:ext cx="10033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智取生辰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4920" y="27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高潮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无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买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白酒（“那对过众军汉见了”至“自下冈子去了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故事结局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杨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误失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“那七个贩枣子的”至“挣不得，说不得”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尾声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吴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智取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生辰纲（最后一段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群英图"/>
          <p:cNvPicPr/>
          <p:nvPr/>
        </p:nvPicPr>
        <p:blipFill>
          <a:blip r:embed="rId2"/>
          <a:stretch/>
        </p:blipFill>
        <p:spPr>
          <a:xfrm>
            <a:off x="395280" y="3828960"/>
            <a:ext cx="8424720" cy="291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5:56:53Z</dcterms:created>
  <dc:creator/>
  <dc:description/>
  <cp:keywords>幻灯片之家 http:/www.eeppt.com</cp:keywords>
  <dc:language>en-US</dc:language>
  <cp:lastModifiedBy/>
  <dcterms:modified xsi:type="dcterms:W3CDTF">2015-07-04T03:30:4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