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740-C7E9-431E-9B3D-6DA389F1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A1E-01C9-427F-8815-99D26D55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F01-37E9-4AAB-97C5-ACBEC8C6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646-891C-4DA1-B599-38B8CF2F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10E-665E-40F7-A43C-6DE92E3C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449-CD6E-4620-BB1A-1C38102E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BCD-67E2-4494-B5D3-93D52BB0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CE8-9603-4F3B-B7D3-79D7E2C7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41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992-2D86-406B-B398-2C9505B3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643-BDD9-4A57-8830-4E48EBD3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EB46-1C02-4169-896A-0C76F1C9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BD9-31B4-4B7B-A33B-01AEEC7A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0cf9b"/>
              </a:buClr>
              <a:buSzPct val="2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10cf9b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10cf9b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10cf9b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10cf9b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1916-012F-4ED1-A84C-1E4082A49E83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F0B1-7779-4F5A-B958-5C47A27A33B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479412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7440" y="5692320"/>
            <a:ext cx="82072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273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01600" y="836640"/>
            <a:ext cx="229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植物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10cf9b"/>
              </a:buClr>
              <a:buSzPct val="25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Times New Roman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5EA-7711-4926-88B1-0C4EDFED6E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21:16:00Z</dcterms:created>
  <dc:creator/>
  <dc:description/>
  <cp:keywords>幻灯片之家 http:/www.eeppt.com</cp:keywords>
  <dc:language>en-US</dc:language>
  <cp:lastModifiedBy/>
  <dcterms:modified xsi:type="dcterms:W3CDTF">2015-07-13T09:43:07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