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B4B-9CAC-4E9D-BBB7-3B381F6D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1A9-266C-49EA-A498-B1D15DBA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3AD-9A1C-44E7-BCB7-07B84728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22B-F0A5-4254-A223-C25A706B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7E6-D7E6-43D9-9787-8A35C3BA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793-BB10-4B4A-8B0E-54F70D1B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1CA-E602-4C44-9AF8-1EA8A8FE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B94-9D0B-409D-847F-671C5F08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9C4-0F7D-4C3C-AB85-9F3059F3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902-19FB-4994-B1B9-E4A08764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989-3C58-44BA-B2BD-9DFBC79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DE3-CFE5-4708-8470-63F5DA46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01F5-50A0-4ECA-9897-AD6203063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shiti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2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7200" y="2494080"/>
            <a:ext cx="338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《北大荒的秋天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4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856160" y="1989000"/>
            <a:ext cx="586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啊，北大荒的秋天真美呀！</a:t>
            </a: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2195640" y="2567160"/>
            <a:ext cx="6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14"/>
          <p:cNvPicPr/>
          <p:nvPr/>
        </p:nvPicPr>
        <p:blipFill>
          <a:blip r:embed="rId19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2102040" y="1190520"/>
            <a:ext cx="56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啊，</a:t>
            </a: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北大荒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秋天真美呀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539640" y="836640"/>
            <a:ext cx="8136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天空一碧如洗，只有在傍晚，西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的天空才会有几缕流云。这些流云在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日的映照下，转眼间变成一道银灰、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道橘黄、一道血红、一道绛紫，就像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美丽的仙女在天空中抖动着五彩斑斓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锦缎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0272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ff"/>
                </a:solidFill>
                <a:latin typeface="Arial"/>
                <a:ea typeface="方正大黑简体"/>
              </a:rPr>
              <a:t>一碧如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187280" y="1197000"/>
            <a:ext cx="6912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河清澈见底，如同一条透明的蓝绸子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静静地躺在大地的怀抱里。一群小鱼顶着水游过来，明镜一样的水面顿时漾起了一道道波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81200" y="1341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澈见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023640" y="220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蓝绸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40476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409920" y="386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明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6920" y="8366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原野热闹非凡。成片的大豆摇动着豆荚，发出哗啦拉的笑声；挺拔的高粱扬起黑红黑红的脸庞，像是在乐呵呵地演唱。山坡上，大路边，村子口，榛树叶子全都红了，红得像一团团火，把人们的心也燃烧起来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1979640" y="1628640"/>
            <a:ext cx="3024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8028000" y="6021360"/>
            <a:ext cx="647640" cy="57636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7020000" y="6165720"/>
            <a:ext cx="576360" cy="476280"/>
          </a:xfrm>
          <a:prstGeom prst="smileyFace">
            <a:avLst>
              <a:gd name="adj" fmla="val 46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802600" y="907920"/>
            <a:ext cx="318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一 碧 如 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976-2005-4-4-21-15-471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3"/>
          <p:cNvSpPr/>
          <p:nvPr/>
        </p:nvSpPr>
        <p:spPr>
          <a:xfrm>
            <a:off x="8172360" y="5950080"/>
            <a:ext cx="709560" cy="6919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708600" y="285264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彩斑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光十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颜六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彩缤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B0F-FB0B-459C-B6EC-DB94F9CB4D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684360" y="404640"/>
            <a:ext cx="2735280" cy="1008360"/>
          </a:xfrm>
          <a:prstGeom prst="wedgeEllipseCallout">
            <a:avLst>
              <a:gd name="adj1" fmla="val 19356"/>
              <a:gd name="adj2" fmla="val 84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63640" y="55728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小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55640" y="2205000"/>
            <a:ext cx="7488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操场上热闹非凡。同学们有的（       ），有的（       ），有的（   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家玩得多开心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8:37:3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54:47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