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492-B80A-497F-BB1E-9B1B96AA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E08-9C3D-4E26-A902-8384B3D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3AD-B3FB-41D8-88FD-E75876A4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097-A3B8-4F51-A026-3E25A331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885E-37EA-4B27-B5D2-D547AE75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0179-5639-4718-B18F-BDDE8F0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ED5-7975-45CA-86FD-FB9EAD5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351-DD44-449D-BFA1-BF39F38C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A3AC-7554-400B-B7B2-E8B2BA86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961C-882A-4369-BF46-BA14A5E1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39ED-1DDC-4AF4-8881-99E6511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EBE-7287-4051-99FC-F25B9DA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A32A-D436-46A5-A92D-079630E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BBE3-F87D-4E6F-9565-72AA19A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E12A-7C93-4AFE-8140-C6CF210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92E1-29D0-4AB8-AE21-EDF86B56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78DA-E43A-46E9-896A-7F68AB6C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31AE-3640-4592-B95D-6D31E19B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7EEC-3DDA-44AE-8136-E8E5E52E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5018-BD04-4328-9D6A-F24CD07F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23CD-944D-44A4-85C7-4D58899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C78B-635D-4324-BFD0-9B92FB49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497-7469-4F66-B95A-4F1C7CA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1FC9-22AB-4A63-8EE5-F4E35238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2BE4-2E9C-4D44-8796-EDA72EA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0761-8FA5-46DB-8B73-A22B9C7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DCFD-13FE-42B8-B5FF-9E81D31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14CD-2712-46BD-AFF0-3DCD449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77C8-90F7-4031-BBBB-E5E25D9A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4642-EB2B-48F1-BB89-D58B79DD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83589-1080-4547-8C85-45EA7CD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7112-55E5-4DE1-AA65-3D6B3D6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2EED-DC81-4DBA-B9E1-12FA23C1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98F-7EA0-4973-A567-E0CD85B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AA20-9C87-4620-8901-F3388A38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8A0A-187E-4AF3-A73B-7F0983D7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78DD-4C8F-4A8E-8568-17D0C5D2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F2A5-AADB-49AE-A658-136ED00D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3EC3-9527-4357-B758-5B39230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453D4-084C-4A55-AC39-4A0B251E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89905-503C-45F1-B059-AE3D9410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CEFD-1C5B-4879-B9D3-1EE3C33D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F8A4C-9DC0-4DDA-AC0A-630BB1E0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CC957-F260-4E47-9F4A-E2F56395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416-11B4-40DE-AC97-9B0C4931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3C447-BC11-4A09-9430-7DCCAD6A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AAE7-8174-4B8C-915C-DA49CA60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25F6-BC1F-419D-82D3-DD671D0D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55ABF-9E48-4D56-9B3B-EBA8AB08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BB37-A777-4F1B-AC71-AB6184D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DC79-CB92-48FE-A88A-03A6E713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F0C0-4E16-4DDD-9292-20F579B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ACAD7-FC09-4232-93AB-1A98030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1FA9-D0B3-409D-916B-599CE75B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A1C1-4E40-436B-A31C-F356FD00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E72-0F28-4631-9862-44D263A7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9233-67F9-4E89-ACD2-CD3E6C16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E19-8458-4789-9E78-BC81D42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986-5444-406D-A955-9D7CF44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1F9-1F53-4793-A13F-B902F47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00F-181D-46E2-BFA7-7F6B52F4A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4CA0-38A1-44E2-B2A6-029E384BA5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BA59-807C-4EC8-9489-4C7B655DC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12D8-B4ED-415E-B846-01BDA677D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357-67D4-4FFB-A4D9-BA8ECF8E633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9" descr="F:\ppt\705\新课标人教版第七册语文白鹅优质课件下载3\6878e2465f8.jpg"/>
          <p:cNvPicPr/>
          <p:nvPr/>
        </p:nvPicPr>
        <p:blipFill>
          <a:blip r:embed="rId2"/>
          <a:stretch/>
        </p:blipFill>
        <p:spPr>
          <a:xfrm>
            <a:off x="-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WordArt 8"/>
          <p:cNvSpPr txBox="1"/>
          <p:nvPr/>
        </p:nvSpPr>
        <p:spPr>
          <a:xfrm>
            <a:off x="214200" y="404640"/>
            <a:ext cx="421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0440">
                  <a:solidFill>
                    <a:srgbClr val="ddeaf2"/>
                  </a:solidFill>
                  <a:miter/>
                </a:ln>
                <a:gradFill rotWithShape="0">
                  <a:gsLst>
                    <a:gs pos="0">
                      <a:srgbClr val="f1fdff"/>
                    </a:gs>
                    <a:gs pos="100000">
                      <a:srgbClr val="f1fdff"/>
                    </a:gs>
                  </a:gsLst>
                  <a:lin ang="5400000"/>
                </a:gradFill>
                <a:latin typeface="华文行楷"/>
              </a:rPr>
              <a:t>人教课标版小学语文四年级上册</a:t>
            </a:r>
            <a:endParaRPr b="1" lang="en-US" sz="2800" spc="1" strike="noStrike">
              <a:ln w="10440">
                <a:solidFill>
                  <a:srgbClr val="ddeaf2"/>
                </a:solidFill>
                <a:miter/>
              </a:ln>
              <a:gradFill rotWithShape="0">
                <a:gsLst>
                  <a:gs pos="0">
                    <a:srgbClr val="f1fdff"/>
                  </a:gs>
                  <a:gs pos="100000">
                    <a:srgbClr val="f1fd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34080" y="249408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白鹅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9" descr=""/>
          <p:cNvPicPr/>
          <p:nvPr/>
        </p:nvPicPr>
        <p:blipFill>
          <a:blip r:embed="rId2"/>
          <a:stretch/>
        </p:blipFill>
        <p:spPr>
          <a:xfrm>
            <a:off x="1805040" y="658800"/>
            <a:ext cx="5997600" cy="1011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F:\ppt\705\新课标人教版第七册语文白鹅优质课件下载3\PCHOMEdwzr0104te19s960x639.jpg"/>
          <p:cNvPicPr/>
          <p:nvPr/>
        </p:nvPicPr>
        <p:blipFill>
          <a:blip r:embed="rId3"/>
          <a:srcRect l="3350" t="0" r="9362" b="8083"/>
          <a:stretch/>
        </p:blipFill>
        <p:spPr>
          <a:xfrm>
            <a:off x="1873080" y="1720800"/>
            <a:ext cx="5835960" cy="4608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8"/>
          <p:cNvSpPr/>
          <p:nvPr/>
        </p:nvSpPr>
        <p:spPr>
          <a:xfrm>
            <a:off x="5724360" y="3716280"/>
            <a:ext cx="363564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丰子恺 </a:t>
            </a:r>
            <a:r>
              <a:rPr b="1" lang="en-US" sz="2200" spc="-1" strike="noStrike">
                <a:solidFill>
                  <a:srgbClr val="ff0066"/>
                </a:solidFill>
                <a:latin typeface="黑体"/>
                <a:ea typeface="黑体"/>
              </a:rPr>
              <a:t>(1898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  <a:ea typeface="黑体"/>
              </a:rPr>
              <a:t>—</a:t>
            </a:r>
            <a:r>
              <a:rPr b="1" lang="en-US" sz="2200" spc="-1" strike="noStrike">
                <a:solidFill>
                  <a:srgbClr val="ff0066"/>
                </a:solidFill>
                <a:latin typeface="黑体"/>
                <a:ea typeface="黑体"/>
              </a:rPr>
              <a:t>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著名画家、艺术教育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我国美育教育的先驱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9" descr="F:\ppt\705\新课标人教版第七册语文白鹅优质课件下载3\m_1262790273555.jpg"/>
          <p:cNvPicPr/>
          <p:nvPr/>
        </p:nvPicPr>
        <p:blipFill>
          <a:blip r:embed="rId2"/>
          <a:stretch/>
        </p:blipFill>
        <p:spPr>
          <a:xfrm>
            <a:off x="590400" y="692280"/>
            <a:ext cx="4122720" cy="5761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F:\ppt\705\新课标人教版第七册语文白鹅优质课件下载3\1396945116133.jpg"/>
          <p:cNvPicPr/>
          <p:nvPr/>
        </p:nvPicPr>
        <p:blipFill>
          <a:blip r:embed="rId3"/>
          <a:stretch/>
        </p:blipFill>
        <p:spPr>
          <a:xfrm>
            <a:off x="5848200" y="974880"/>
            <a:ext cx="24465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Frame18"/>
          <p:cNvPicPr/>
          <p:nvPr/>
        </p:nvPicPr>
        <p:blipFill>
          <a:blip r:embed="rId2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7272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隶书"/>
              </a:rPr>
              <a:t>自读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  <a:ea typeface="隶书"/>
              </a:rPr>
              <a:t>3-7</a:t>
            </a: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隶书"/>
              </a:rPr>
              <a:t>自然段，学习步骤如下：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7280" y="2781360"/>
            <a:ext cx="69012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画一画，画出表现白鹅高傲的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读一读，有滋有味地读好画出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品一品，仔细体会其中的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3" descr="e9"/>
          <p:cNvPicPr/>
          <p:nvPr/>
        </p:nvPicPr>
        <p:blipFill>
          <a:blip r:embed="rId2"/>
          <a:stretch/>
        </p:blipFill>
        <p:spPr>
          <a:xfrm>
            <a:off x="5148360" y="1773360"/>
            <a:ext cx="2808360" cy="388764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"/>
          <p:cNvSpPr/>
          <p:nvPr/>
        </p:nvSpPr>
        <p:spPr>
          <a:xfrm>
            <a:off x="1371600" y="9907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971640" y="981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凡有生客进来，鹅必然厉声叫嚣；甚至篱笆外有人走路，它也要引吭大叫，不亚于狗的狂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4140360" y="2421000"/>
            <a:ext cx="69840" cy="6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17"/>
          <p:cNvGrpSpPr/>
          <p:nvPr/>
        </p:nvGrpSpPr>
        <p:grpSpPr>
          <a:xfrm>
            <a:off x="1228680" y="2938320"/>
            <a:ext cx="1293840" cy="73080"/>
            <a:chOff x="1228680" y="2938320"/>
            <a:chExt cx="1293840" cy="73080"/>
          </a:xfrm>
        </p:grpSpPr>
        <p:sp>
          <p:nvSpPr>
            <p:cNvPr id="469" name="Oval 4"/>
            <p:cNvSpPr/>
            <p:nvPr/>
          </p:nvSpPr>
          <p:spPr>
            <a:xfrm>
              <a:off x="1878120" y="293832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"/>
            <p:cNvSpPr/>
            <p:nvPr/>
          </p:nvSpPr>
          <p:spPr>
            <a:xfrm>
              <a:off x="2452680" y="294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"/>
            <p:cNvSpPr/>
            <p:nvPr/>
          </p:nvSpPr>
          <p:spPr>
            <a:xfrm>
              <a:off x="1228680" y="293832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8"/>
          <p:cNvGrpSpPr/>
          <p:nvPr/>
        </p:nvGrpSpPr>
        <p:grpSpPr>
          <a:xfrm>
            <a:off x="1187280" y="5011560"/>
            <a:ext cx="1366920" cy="73080"/>
            <a:chOff x="1187280" y="5011560"/>
            <a:chExt cx="1366920" cy="73080"/>
          </a:xfrm>
        </p:grpSpPr>
        <p:sp>
          <p:nvSpPr>
            <p:cNvPr id="473" name="Oval 8"/>
            <p:cNvSpPr/>
            <p:nvPr/>
          </p:nvSpPr>
          <p:spPr>
            <a:xfrm>
              <a:off x="1187280" y="50148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"/>
            <p:cNvSpPr/>
            <p:nvPr/>
          </p:nvSpPr>
          <p:spPr>
            <a:xfrm>
              <a:off x="1908000" y="501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0"/>
            <p:cNvSpPr/>
            <p:nvPr/>
          </p:nvSpPr>
          <p:spPr>
            <a:xfrm>
              <a:off x="2484360" y="501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Oval 11"/>
          <p:cNvSpPr/>
          <p:nvPr/>
        </p:nvSpPr>
        <p:spPr>
          <a:xfrm>
            <a:off x="4140360" y="4365720"/>
            <a:ext cx="69840" cy="6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539640" y="907920"/>
            <a:ext cx="7993080" cy="67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5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如果鹅会说汉语，猜猜它会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  见到生客进来，它会用严厉的声音大声叫喊：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                   </a:t>
            </a: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　　　　　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　当篱笆外有人走路时，它会放大喉咙大吼道：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 　　　　　　　　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>
            <a:off x="1692360" y="342900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"/>
          <p:cNvSpPr/>
          <p:nvPr/>
        </p:nvSpPr>
        <p:spPr>
          <a:xfrm>
            <a:off x="1619280" y="515772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428760" y="13500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  </a:t>
            </a:r>
            <a:r>
              <a:rPr b="1" lang="zh-CN" sz="4400" spc="-1" strike="noStrike">
                <a:solidFill>
                  <a:srgbClr val="006633"/>
                </a:solidFill>
                <a:latin typeface="Arial"/>
                <a:ea typeface="楷体_GB2312"/>
              </a:rPr>
              <a:t>鸭的步调急速，有局促不安之相；鹅的步调从容；大模大样的，颇像京剧里的净角出场。</a:t>
            </a:r>
            <a:r>
              <a:rPr b="1" lang="zh-CN" sz="3600" spc="-1" strike="noStrike">
                <a:solidFill>
                  <a:srgbClr val="006633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6633"/>
                </a:solidFill>
                <a:latin typeface="Arial"/>
                <a:ea typeface="隶书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23"/>
          <p:cNvGrpSpPr/>
          <p:nvPr/>
        </p:nvGrpSpPr>
        <p:grpSpPr>
          <a:xfrm>
            <a:off x="4643280" y="1989000"/>
            <a:ext cx="646200" cy="69840"/>
            <a:chOff x="4643280" y="1989000"/>
            <a:chExt cx="646200" cy="69840"/>
          </a:xfrm>
        </p:grpSpPr>
        <p:sp>
          <p:nvSpPr>
            <p:cNvPr id="483" name="Oval 9"/>
            <p:cNvSpPr/>
            <p:nvPr/>
          </p:nvSpPr>
          <p:spPr>
            <a:xfrm>
              <a:off x="46432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"/>
            <p:cNvSpPr/>
            <p:nvPr/>
          </p:nvSpPr>
          <p:spPr>
            <a:xfrm>
              <a:off x="521964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22"/>
          <p:cNvGrpSpPr/>
          <p:nvPr/>
        </p:nvGrpSpPr>
        <p:grpSpPr>
          <a:xfrm>
            <a:off x="6343560" y="1989000"/>
            <a:ext cx="1757520" cy="69840"/>
            <a:chOff x="6343560" y="1989000"/>
            <a:chExt cx="1757520" cy="69840"/>
          </a:xfrm>
        </p:grpSpPr>
        <p:sp>
          <p:nvSpPr>
            <p:cNvPr id="486" name="Oval 15"/>
            <p:cNvSpPr/>
            <p:nvPr/>
          </p:nvSpPr>
          <p:spPr>
            <a:xfrm>
              <a:off x="634356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6"/>
            <p:cNvSpPr/>
            <p:nvPr/>
          </p:nvSpPr>
          <p:spPr>
            <a:xfrm>
              <a:off x="70228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7"/>
            <p:cNvSpPr/>
            <p:nvPr/>
          </p:nvSpPr>
          <p:spPr>
            <a:xfrm>
              <a:off x="803124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8"/>
            <p:cNvSpPr/>
            <p:nvPr/>
          </p:nvSpPr>
          <p:spPr>
            <a:xfrm>
              <a:off x="74548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24" descr="鹅28"/>
          <p:cNvPicPr/>
          <p:nvPr/>
        </p:nvPicPr>
        <p:blipFill>
          <a:blip r:embed="rId2"/>
          <a:stretch/>
        </p:blipFill>
        <p:spPr>
          <a:xfrm>
            <a:off x="5148360" y="3860640"/>
            <a:ext cx="3544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5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95280" y="3207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00a2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京剧是我国的国粹，其中有五种角色：生、旦、净、末、丑。“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净角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”是京剧中的一种角色，通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花脸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脸谱2"/>
          <p:cNvPicPr/>
          <p:nvPr/>
        </p:nvPicPr>
        <p:blipFill>
          <a:blip r:embed="rId2"/>
          <a:stretch/>
        </p:blipFill>
        <p:spPr>
          <a:xfrm>
            <a:off x="971640" y="2606760"/>
            <a:ext cx="1728720" cy="1685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脸谱4"/>
          <p:cNvPicPr/>
          <p:nvPr/>
        </p:nvPicPr>
        <p:blipFill>
          <a:blip r:embed="rId3"/>
          <a:stretch/>
        </p:blipFill>
        <p:spPr>
          <a:xfrm>
            <a:off x="6156360" y="263520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净角2"/>
          <p:cNvPicPr/>
          <p:nvPr/>
        </p:nvPicPr>
        <p:blipFill>
          <a:blip r:embed="rId4"/>
          <a:stretch/>
        </p:blipFill>
        <p:spPr>
          <a:xfrm>
            <a:off x="3419640" y="4797360"/>
            <a:ext cx="1944360" cy="17496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脸谱7"/>
          <p:cNvPicPr/>
          <p:nvPr/>
        </p:nvPicPr>
        <p:blipFill>
          <a:blip r:embed="rId5"/>
          <a:stretch/>
        </p:blipFill>
        <p:spPr>
          <a:xfrm>
            <a:off x="971640" y="48182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1" descr="脸谱8"/>
          <p:cNvPicPr/>
          <p:nvPr/>
        </p:nvPicPr>
        <p:blipFill>
          <a:blip r:embed="rId6"/>
          <a:stretch/>
        </p:blipFill>
        <p:spPr>
          <a:xfrm>
            <a:off x="6156360" y="48182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2" descr="净角"/>
          <p:cNvPicPr/>
          <p:nvPr/>
        </p:nvPicPr>
        <p:blipFill>
          <a:blip r:embed="rId7"/>
          <a:stretch/>
        </p:blipFill>
        <p:spPr>
          <a:xfrm>
            <a:off x="3419640" y="2635200"/>
            <a:ext cx="19429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EAF5-3031-414F-A491-566A855F23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84360" y="476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它常傲然地站着，看见人走来也毫不相让；有时非但不让，竟伸过颈子来咬你一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23"/>
          <p:cNvGrpSpPr/>
          <p:nvPr/>
        </p:nvGrpSpPr>
        <p:grpSpPr>
          <a:xfrm>
            <a:off x="971640" y="3213000"/>
            <a:ext cx="646200" cy="71280"/>
            <a:chOff x="971640" y="3213000"/>
            <a:chExt cx="646200" cy="71280"/>
          </a:xfrm>
        </p:grpSpPr>
        <p:sp>
          <p:nvSpPr>
            <p:cNvPr id="503" name="Oval 9"/>
            <p:cNvSpPr/>
            <p:nvPr/>
          </p:nvSpPr>
          <p:spPr>
            <a:xfrm>
              <a:off x="971640" y="3214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0"/>
            <p:cNvSpPr/>
            <p:nvPr/>
          </p:nvSpPr>
          <p:spPr>
            <a:xfrm>
              <a:off x="1548000" y="3213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8"/>
          <p:cNvGrpSpPr/>
          <p:nvPr/>
        </p:nvGrpSpPr>
        <p:grpSpPr>
          <a:xfrm>
            <a:off x="3132000" y="1198440"/>
            <a:ext cx="719280" cy="69840"/>
            <a:chOff x="3132000" y="1198440"/>
            <a:chExt cx="719280" cy="69840"/>
          </a:xfrm>
        </p:grpSpPr>
        <p:sp>
          <p:nvSpPr>
            <p:cNvPr id="506" name="Oval 11"/>
            <p:cNvSpPr/>
            <p:nvPr/>
          </p:nvSpPr>
          <p:spPr>
            <a:xfrm>
              <a:off x="3132000" y="1198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2"/>
            <p:cNvSpPr/>
            <p:nvPr/>
          </p:nvSpPr>
          <p:spPr>
            <a:xfrm>
              <a:off x="3781440" y="1198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15" descr="鹅15"/>
          <p:cNvPicPr/>
          <p:nvPr/>
        </p:nvPicPr>
        <p:blipFill>
          <a:blip r:embed="rId2"/>
          <a:stretch/>
        </p:blipFill>
        <p:spPr>
          <a:xfrm>
            <a:off x="4932360" y="4221000"/>
            <a:ext cx="3544920" cy="18558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7" descr="鹅走路的步态"/>
          <p:cNvPicPr/>
          <p:nvPr/>
        </p:nvPicPr>
        <p:blipFill>
          <a:blip r:embed="rId3"/>
          <a:stretch/>
        </p:blipFill>
        <p:spPr>
          <a:xfrm>
            <a:off x="5435640" y="836640"/>
            <a:ext cx="2587680" cy="332100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20"/>
          <p:cNvGrpSpPr/>
          <p:nvPr/>
        </p:nvGrpSpPr>
        <p:grpSpPr>
          <a:xfrm>
            <a:off x="3203640" y="2567160"/>
            <a:ext cx="718560" cy="69840"/>
            <a:chOff x="3203640" y="2567160"/>
            <a:chExt cx="718560" cy="69840"/>
          </a:xfrm>
        </p:grpSpPr>
        <p:sp>
          <p:nvSpPr>
            <p:cNvPr id="511" name="Oval 21"/>
            <p:cNvSpPr/>
            <p:nvPr/>
          </p:nvSpPr>
          <p:spPr>
            <a:xfrm>
              <a:off x="3203640" y="2567160"/>
              <a:ext cx="6948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2"/>
            <p:cNvSpPr/>
            <p:nvPr/>
          </p:nvSpPr>
          <p:spPr>
            <a:xfrm>
              <a:off x="3852720" y="2567160"/>
              <a:ext cx="6948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564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3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5:53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