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FC0-8500-421A-9D96-C8FF7377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8F6-9DA0-4AED-814C-615C2720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DCB-28C1-46D2-89A3-92E5552E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794-E541-4001-8C1D-DD5E3D1E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9FD-7441-4AA9-8006-44BCDC7B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530-5934-413F-BC85-850B5E88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79D-04D5-421E-88BB-CA97F18A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574-4C5B-43C5-AA54-3BEBD1E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86C-60BF-4B98-BF95-FFC790AD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EF0-B9F2-4B35-AB8F-5FF2996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1A3-8B6F-421F-A80D-FD92E02B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16F-B795-4DE9-A370-8EB626E6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E2DE-BDD3-42F7-9596-941015FB2D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AutoShape 3"/>
          <p:cNvGrpSpPr/>
          <p:nvPr/>
        </p:nvGrpSpPr>
        <p:grpSpPr>
          <a:xfrm>
            <a:off x="457200" y="1274760"/>
            <a:ext cx="5973840" cy="4595760"/>
            <a:chOff x="457200" y="1274760"/>
            <a:chExt cx="5973840" cy="4595760"/>
          </a:xfrm>
        </p:grpSpPr>
        <p:pic>
          <p:nvPicPr>
            <p:cNvPr id="43" name="AutoShape 3" descr=""/>
            <p:cNvPicPr/>
            <p:nvPr/>
          </p:nvPicPr>
          <p:blipFill>
            <a:blip r:embed="rId1"/>
            <a:stretch/>
          </p:blipFill>
          <p:spPr>
            <a:xfrm>
              <a:off x="457200" y="1274760"/>
              <a:ext cx="5973840" cy="45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74840" y="1766880"/>
              <a:ext cx="475920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7"/>
          <p:cNvSpPr/>
          <p:nvPr/>
        </p:nvSpPr>
        <p:spPr>
          <a:xfrm>
            <a:off x="6622920" y="292896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双击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圆角矩形 14"/>
          <p:cNvGrpSpPr/>
          <p:nvPr/>
        </p:nvGrpSpPr>
        <p:grpSpPr>
          <a:xfrm>
            <a:off x="835200" y="2182680"/>
            <a:ext cx="4120920" cy="841320"/>
            <a:chOff x="835200" y="2182680"/>
            <a:chExt cx="4120920" cy="841320"/>
          </a:xfrm>
        </p:grpSpPr>
        <p:pic>
          <p:nvPicPr>
            <p:cNvPr id="47" name="圆角矩形 14" descr=""/>
            <p:cNvPicPr/>
            <p:nvPr/>
          </p:nvPicPr>
          <p:blipFill>
            <a:blip r:embed="rId2"/>
            <a:stretch/>
          </p:blipFill>
          <p:spPr>
            <a:xfrm>
              <a:off x="835200" y="2182680"/>
              <a:ext cx="4120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04680" y="2252520"/>
              <a:ext cx="3990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圆角矩形 15"/>
          <p:cNvGrpSpPr/>
          <p:nvPr/>
        </p:nvGrpSpPr>
        <p:grpSpPr>
          <a:xfrm>
            <a:off x="853920" y="3181320"/>
            <a:ext cx="4102200" cy="841320"/>
            <a:chOff x="853920" y="3181320"/>
            <a:chExt cx="4102200" cy="841320"/>
          </a:xfrm>
        </p:grpSpPr>
        <p:pic>
          <p:nvPicPr>
            <p:cNvPr id="50" name="圆角矩形 15" descr=""/>
            <p:cNvPicPr/>
            <p:nvPr/>
          </p:nvPicPr>
          <p:blipFill>
            <a:blip r:embed="rId3"/>
            <a:stretch/>
          </p:blipFill>
          <p:spPr>
            <a:xfrm>
              <a:off x="853920" y="3181320"/>
              <a:ext cx="4102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23760" y="3252600"/>
              <a:ext cx="39672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圆角矩形 16"/>
          <p:cNvGrpSpPr/>
          <p:nvPr/>
        </p:nvGrpSpPr>
        <p:grpSpPr>
          <a:xfrm>
            <a:off x="828720" y="4181400"/>
            <a:ext cx="4097160" cy="841320"/>
            <a:chOff x="828720" y="4181400"/>
            <a:chExt cx="4097160" cy="841320"/>
          </a:xfrm>
        </p:grpSpPr>
        <p:pic>
          <p:nvPicPr>
            <p:cNvPr id="53" name="圆角矩形 16" descr=""/>
            <p:cNvPicPr/>
            <p:nvPr/>
          </p:nvPicPr>
          <p:blipFill>
            <a:blip r:embed="rId4"/>
            <a:stretch/>
          </p:blipFill>
          <p:spPr>
            <a:xfrm>
              <a:off x="828720" y="4181400"/>
              <a:ext cx="40971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95320" y="4252680"/>
              <a:ext cx="39672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58"/>
          <p:cNvSpPr/>
          <p:nvPr/>
        </p:nvSpPr>
        <p:spPr>
          <a:xfrm>
            <a:off x="1071720" y="23572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您要的内容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8"/>
          <p:cNvSpPr/>
          <p:nvPr/>
        </p:nvSpPr>
        <p:spPr>
          <a:xfrm>
            <a:off x="1143000" y="33577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您要的内容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1071720" y="43578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您要的内容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8"/>
          <p:cNvSpPr/>
          <p:nvPr/>
        </p:nvSpPr>
        <p:spPr>
          <a:xfrm>
            <a:off x="7624800" y="21924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包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8053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55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0" y="54936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包含关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7C0-E595-4954-B37D-2133D5DE8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07:04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13:11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