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0EE7-435D-49BE-83A4-EBBA6BD30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7EC-AE06-4E77-B0A5-F7B4C659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B9B8-A323-4078-8D6B-EFC809A6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730F-F1B7-408A-9603-04C702AB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D08E-4A7B-483F-9542-C2252D88C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DB24-DC4A-48FC-91DB-1066DF7E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B20C-249B-4CAC-B46B-2315DBAB3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7E05-DDEF-4CDD-9083-7C2ED133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AA7D-F50D-4ED4-8069-BC4C3D91F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CD1A-862E-4E3B-A192-42B3014F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C623-E1C4-46DC-ADEB-455989CA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3365-AAB2-45F2-BDCB-09340ECE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60E4-EA54-45C8-BAF3-7FEE7A2061E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0C9E-F107-479B-B22D-305A24688DE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42"/>
          <p:cNvGrpSpPr/>
          <p:nvPr/>
        </p:nvGrpSpPr>
        <p:grpSpPr>
          <a:xfrm>
            <a:off x="171360" y="2247840"/>
            <a:ext cx="2584440" cy="2817720"/>
            <a:chOff x="171360" y="2247840"/>
            <a:chExt cx="2584440" cy="2817720"/>
          </a:xfrm>
        </p:grpSpPr>
        <p:sp>
          <p:nvSpPr>
            <p:cNvPr id="44" name="椭圆 43"/>
            <p:cNvSpPr/>
            <p:nvPr/>
          </p:nvSpPr>
          <p:spPr>
            <a:xfrm>
              <a:off x="419400" y="2247840"/>
              <a:ext cx="2127240" cy="2127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Box 44"/>
            <p:cNvSpPr/>
            <p:nvPr/>
          </p:nvSpPr>
          <p:spPr>
            <a:xfrm>
              <a:off x="171360" y="4484160"/>
              <a:ext cx="258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Broadway BT"/>
                  <a:ea typeface="微软雅黑"/>
                </a:rPr>
                <a:t>自我分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矩形 61"/>
          <p:cNvSpPr/>
          <p:nvPr/>
        </p:nvSpPr>
        <p:spPr>
          <a:xfrm>
            <a:off x="2646360" y="2503440"/>
            <a:ext cx="979560" cy="2160720"/>
          </a:xfrm>
          <a:prstGeom prst="pie">
            <a:avLst/>
          </a:prstGeom>
          <a:noFill/>
          <a:ln w="25560">
            <a:solidFill>
              <a:srgbClr val="7f7f7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6"/>
          <p:cNvSpPr/>
          <p:nvPr/>
        </p:nvSpPr>
        <p:spPr>
          <a:xfrm>
            <a:off x="3770280" y="1557360"/>
            <a:ext cx="504036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47"/>
          <p:cNvSpPr/>
          <p:nvPr/>
        </p:nvSpPr>
        <p:spPr>
          <a:xfrm>
            <a:off x="3876840" y="1657440"/>
            <a:ext cx="4824360" cy="1671480"/>
          </a:xfrm>
          <a:prstGeom prst="rect">
            <a:avLst/>
          </a:prstGeom>
          <a:solidFill>
            <a:srgbClr val="addf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8"/>
          <p:cNvSpPr/>
          <p:nvPr/>
        </p:nvSpPr>
        <p:spPr>
          <a:xfrm>
            <a:off x="4649760" y="1727280"/>
            <a:ext cx="3994200" cy="155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9"/>
          <p:cNvSpPr/>
          <p:nvPr/>
        </p:nvSpPr>
        <p:spPr>
          <a:xfrm>
            <a:off x="3043080" y="1989000"/>
            <a:ext cx="1440000" cy="100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0"/>
          <p:cNvSpPr/>
          <p:nvPr/>
        </p:nvSpPr>
        <p:spPr>
          <a:xfrm>
            <a:off x="7224840" y="2014560"/>
            <a:ext cx="1295280" cy="100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1"/>
          <p:cNvSpPr/>
          <p:nvPr/>
        </p:nvSpPr>
        <p:spPr>
          <a:xfrm>
            <a:off x="4803840" y="1971720"/>
            <a:ext cx="2308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往可以复制的成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以往可以总结的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我强项和弱项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2"/>
          <p:cNvSpPr/>
          <p:nvPr/>
        </p:nvSpPr>
        <p:spPr>
          <a:xfrm>
            <a:off x="3079800" y="2205000"/>
            <a:ext cx="134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3"/>
          <p:cNvSpPr/>
          <p:nvPr/>
        </p:nvSpPr>
        <p:spPr>
          <a:xfrm>
            <a:off x="3770280" y="3718080"/>
            <a:ext cx="5040360" cy="18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4"/>
          <p:cNvSpPr/>
          <p:nvPr/>
        </p:nvSpPr>
        <p:spPr>
          <a:xfrm>
            <a:off x="3876840" y="3816360"/>
            <a:ext cx="4824360" cy="1673280"/>
          </a:xfrm>
          <a:prstGeom prst="rect">
            <a:avLst/>
          </a:prstGeom>
          <a:solidFill>
            <a:srgbClr val="93b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5"/>
          <p:cNvSpPr/>
          <p:nvPr/>
        </p:nvSpPr>
        <p:spPr>
          <a:xfrm>
            <a:off x="4649760" y="3886200"/>
            <a:ext cx="3994200" cy="155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6"/>
          <p:cNvSpPr/>
          <p:nvPr/>
        </p:nvSpPr>
        <p:spPr>
          <a:xfrm>
            <a:off x="3043080" y="4149720"/>
            <a:ext cx="1440000" cy="100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7"/>
          <p:cNvSpPr/>
          <p:nvPr/>
        </p:nvSpPr>
        <p:spPr>
          <a:xfrm>
            <a:off x="3151080" y="4365720"/>
            <a:ext cx="12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无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8"/>
          <p:cNvSpPr/>
          <p:nvPr/>
        </p:nvSpPr>
        <p:spPr>
          <a:xfrm>
            <a:off x="7207200" y="4175280"/>
            <a:ext cx="1330200" cy="100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59"/>
          <p:cNvSpPr/>
          <p:nvPr/>
        </p:nvSpPr>
        <p:spPr>
          <a:xfrm>
            <a:off x="4803840" y="4132440"/>
            <a:ext cx="2308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谁是我学习的对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我的性格和能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思考怎样充分利用资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609300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12320" y="0"/>
            <a:ext cx="5452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并列关系</a:t>
            </a:r>
            <a:r>
              <a:rPr b="0" lang="en-US" sz="45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3816-B1B2-40C4-9AA4-80D8A781A8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08:36:59Z</dcterms:modified>
  <cp:revision>9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