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A90-6C64-4A2C-8FF5-BB992FB9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D24-7451-4C2E-98F8-D0926ED4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6FC-0ED1-49F1-B4A3-FA374F7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839-D676-41A9-834D-DAEA8C23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ACD-88AA-4539-A717-008CD9B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91E-12D8-4B10-B75B-F386BCA3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5EF-6586-41FF-A4FE-BBB1A48D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D75-EFE2-43FF-A9DA-7C215C9F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875-49A9-46C0-AEEC-8FB0105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A43-741F-42CA-859F-EC92AAF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F4D-C723-4C9D-AFBC-87813A0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F2F-8CFC-43D1-9FF3-889F83D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FDA-8453-4462-8277-3054E2C38EA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1B8-3381-434D-9E59-2F169DB2E9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867280" y="36766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 flipH="1">
            <a:off x="4932360" y="860400"/>
            <a:ext cx="2789280" cy="278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2627280" y="3505320"/>
            <a:ext cx="3148200" cy="314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 flipH="1">
            <a:off x="380880" y="9079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7040" y="0"/>
            <a:ext cx="47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白色小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10960" y="32907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916360" y="8301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5430960" y="3068640"/>
            <a:ext cx="2576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24000" y="67932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5219640" y="2143080"/>
            <a:ext cx="3517920" cy="351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>
            <a:off x="539640" y="390204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481-41EF-4CC1-9F8E-0E870F243C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668840" cy="466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 flipH="1">
            <a:off x="5435640" y="1917720"/>
            <a:ext cx="3225600" cy="322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4"/>
          <a:stretch/>
        </p:blipFill>
        <p:spPr>
          <a:xfrm>
            <a:off x="2556000" y="909720"/>
            <a:ext cx="2571480" cy="257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021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3184560" cy="318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rcRect l="3704" t="0" r="0" b="0"/>
          <a:stretch/>
        </p:blipFill>
        <p:spPr>
          <a:xfrm>
            <a:off x="4427640" y="1413000"/>
            <a:ext cx="4419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7:29Z</dcterms:modified>
  <cp:revision>1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