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286-E212-4F88-B264-64BC3642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86D-8F6E-4496-AD36-1F684BE6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A01-2C7F-440D-86D7-FF2FCD58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5A8-869E-489C-8A79-27BAEA13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180-D151-436E-91AB-D095D508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FF8-D802-4A1F-ABDE-10C8CD9E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E33-634B-4A23-A682-C4C6852C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B48-0863-41F2-9139-27CBB2C4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137-E841-46A5-B1EF-A89F08BA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FCD-1396-4B41-B018-B896827E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9D9-35A1-4CDF-ADB8-72BEB376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E96-1692-4528-B709-6BA9D255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80ED-F11A-4ACB-898B-7E66745A99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:\work\第二\方片时钟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752400" y="1849320"/>
            <a:ext cx="2206800" cy="422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787320" y="1874880"/>
            <a:ext cx="2127240" cy="16812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6184800" y="1849320"/>
            <a:ext cx="2206800" cy="422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6219720" y="1870200"/>
            <a:ext cx="2127240" cy="13644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5"/>
          <p:cNvSpPr/>
          <p:nvPr/>
        </p:nvSpPr>
        <p:spPr>
          <a:xfrm>
            <a:off x="596880" y="2405160"/>
            <a:ext cx="24084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2441520" y="5086440"/>
            <a:ext cx="2206800" cy="423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2476440" y="5106960"/>
            <a:ext cx="2129040" cy="13644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2604960" y="5118120"/>
            <a:ext cx="1843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6365880" y="1870200"/>
            <a:ext cx="1843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7"/>
          <p:cNvSpPr/>
          <p:nvPr/>
        </p:nvSpPr>
        <p:spPr>
          <a:xfrm>
            <a:off x="934920" y="1859040"/>
            <a:ext cx="1843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6105600" y="2405160"/>
            <a:ext cx="24080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4508640" y="5011560"/>
            <a:ext cx="24080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点击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 rot="3304200">
            <a:off x="3274560" y="1643040"/>
            <a:ext cx="2830680" cy="283356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 flipH="1" rot="18319200">
            <a:off x="3116880" y="1644480"/>
            <a:ext cx="2832120" cy="2832120"/>
          </a:xfrm>
          <a:prstGeom prst="pi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 flipV="1">
            <a:off x="3181320" y="1796760"/>
            <a:ext cx="2830680" cy="2830320"/>
          </a:xfrm>
          <a:prstGeom prst="pi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957480" y="3757680"/>
            <a:ext cx="12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80"/>
          <p:cNvSpPr/>
          <p:nvPr/>
        </p:nvSpPr>
        <p:spPr>
          <a:xfrm>
            <a:off x="4221000" y="2705040"/>
            <a:ext cx="831960" cy="83016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TransBW_003"/>
          <p:cNvPicPr/>
          <p:nvPr/>
        </p:nvPicPr>
        <p:blipFill>
          <a:blip r:embed="rId8"/>
          <a:stretch/>
        </p:blipFill>
        <p:spPr>
          <a:xfrm>
            <a:off x="4227480" y="270684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2"/>
          <p:cNvSpPr/>
          <p:nvPr/>
        </p:nvSpPr>
        <p:spPr>
          <a:xfrm>
            <a:off x="4749840" y="2389320"/>
            <a:ext cx="124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165480" y="2389320"/>
            <a:ext cx="124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89"/>
          <p:cNvSpPr/>
          <p:nvPr/>
        </p:nvSpPr>
        <p:spPr>
          <a:xfrm>
            <a:off x="4087800" y="4197240"/>
            <a:ext cx="1035000" cy="45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491"/>
          <p:cNvSpPr/>
          <p:nvPr/>
        </p:nvSpPr>
        <p:spPr>
          <a:xfrm rot="7507200">
            <a:off x="2971800" y="2200680"/>
            <a:ext cx="1035000" cy="4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492"/>
          <p:cNvSpPr/>
          <p:nvPr/>
        </p:nvSpPr>
        <p:spPr>
          <a:xfrm rot="1155600">
            <a:off x="3552480" y="4160520"/>
            <a:ext cx="1320840" cy="39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493"/>
          <p:cNvSpPr/>
          <p:nvPr/>
        </p:nvSpPr>
        <p:spPr>
          <a:xfrm rot="15138600">
            <a:off x="5448600" y="2616840"/>
            <a:ext cx="1035360" cy="376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498"/>
          <p:cNvSpPr/>
          <p:nvPr/>
        </p:nvSpPr>
        <p:spPr>
          <a:xfrm rot="20626200">
            <a:off x="4349880" y="4162320"/>
            <a:ext cx="1319040" cy="39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499"/>
          <p:cNvSpPr/>
          <p:nvPr/>
        </p:nvSpPr>
        <p:spPr>
          <a:xfrm rot="15002400">
            <a:off x="5317920" y="2291760"/>
            <a:ext cx="1035000" cy="45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6156360" y="196920"/>
            <a:ext cx="2759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饼图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 http://www.eeppt.com</dc:creator>
  <dc:description/>
  <cp:keywords>幻灯片之家 http:/www.eeppt.com</cp:keywords>
  <dc:language>en-US</dc:language>
  <cp:lastModifiedBy/>
  <cp:lastPrinted>2113-01-01T00:00:00Z</cp:lastPrinted>
  <dcterms:modified xsi:type="dcterms:W3CDTF">2015-07-09T11:36:25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图表制作5</vt:lpwstr>
  </property>
  <property fmtid="{D5CDD505-2E9C-101B-9397-08002B2CF9AE}" pid="4" name="Version">
    <vt:r8>1</vt:r8>
  </property>
</Properties>
</file>