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5790-233C-4507-BC06-5F5F139C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E3B1-C561-46D5-8427-765E08CF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B581-BE98-454F-9F3B-7303B485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188-C004-4D51-8C40-6E46AD95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74D-59AD-4C4E-9BD5-73D152DC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152-1406-414B-9117-2CACD615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621-D231-4EAD-8B9B-8E4E0B47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07D-5683-4EE2-82A3-9971AF7D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97CF-09C7-4700-B90E-4E19E5D7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7E2E-0F63-4F0F-8BD8-569FD3FB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17D-BB12-4DBE-B5BF-0DC1514E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3F98-17C3-43BD-BE5A-207A379E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02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R04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Picture 3" descr="R02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4" descr="R04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5" descr="R01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6180-9976-4047-9B8A-42F354F7D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6453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3000" y="476280"/>
            <a:ext cx="3498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春酒</a:t>
            </a: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课件模板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57120" y="1459080"/>
            <a:ext cx="8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春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060640" y="865080"/>
            <a:ext cx="11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过新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936800" y="181764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喝春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906560" y="2833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喝会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692520" y="1525680"/>
            <a:ext cx="11764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风俗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人情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245200" y="1782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家乡的味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7656480" y="1512720"/>
            <a:ext cx="10368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思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怀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AutoShape 10"/>
          <p:cNvCxnSpPr>
            <a:stCxn id="128" idx="3"/>
            <a:endCxn id="129" idx="1"/>
          </p:cNvCxnSpPr>
          <p:nvPr/>
        </p:nvCxnSpPr>
        <p:spPr>
          <a:xfrm flipV="1">
            <a:off x="1218960" y="1093320"/>
            <a:ext cx="84204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6" name="AutoShape 11"/>
          <p:cNvCxnSpPr>
            <a:stCxn id="128" idx="3"/>
            <a:endCxn id="130" idx="1"/>
          </p:cNvCxnSpPr>
          <p:nvPr/>
        </p:nvCxnSpPr>
        <p:spPr>
          <a:xfrm flipV="1">
            <a:off x="1218960" y="2045880"/>
            <a:ext cx="7178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AutoShape 12"/>
          <p:cNvCxnSpPr>
            <a:stCxn id="128" idx="3"/>
            <a:endCxn id="131" idx="1"/>
          </p:cNvCxnSpPr>
          <p:nvPr/>
        </p:nvCxnSpPr>
        <p:spPr>
          <a:xfrm>
            <a:off x="1218960" y="2054160"/>
            <a:ext cx="6879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AutoShape 13"/>
          <p:cNvCxnSpPr>
            <a:stCxn id="129" idx="3"/>
            <a:endCxn id="132" idx="1"/>
          </p:cNvCxnSpPr>
          <p:nvPr/>
        </p:nvCxnSpPr>
        <p:spPr>
          <a:xfrm>
            <a:off x="3164040" y="1093320"/>
            <a:ext cx="529200" cy="940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AutoShape 14"/>
          <p:cNvCxnSpPr>
            <a:stCxn id="131" idx="3"/>
            <a:endCxn id="132" idx="1"/>
          </p:cNvCxnSpPr>
          <p:nvPr/>
        </p:nvCxnSpPr>
        <p:spPr>
          <a:xfrm flipV="1">
            <a:off x="3095640" y="2033280"/>
            <a:ext cx="59760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AutoShape 15"/>
          <p:cNvCxnSpPr>
            <a:stCxn id="132" idx="3"/>
            <a:endCxn id="133" idx="1"/>
          </p:cNvCxnSpPr>
          <p:nvPr/>
        </p:nvCxnSpPr>
        <p:spPr>
          <a:xfrm flipV="1">
            <a:off x="4868640" y="2010960"/>
            <a:ext cx="376920" cy="2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16"/>
          <p:cNvCxnSpPr>
            <a:stCxn id="133" idx="3"/>
            <a:endCxn id="134" idx="1"/>
          </p:cNvCxnSpPr>
          <p:nvPr/>
        </p:nvCxnSpPr>
        <p:spPr>
          <a:xfrm>
            <a:off x="6972480" y="2010960"/>
            <a:ext cx="6847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AutoShape 17"/>
          <p:cNvCxnSpPr>
            <a:stCxn id="130" idx="3"/>
            <a:endCxn id="132" idx="1"/>
          </p:cNvCxnSpPr>
          <p:nvPr/>
        </p:nvCxnSpPr>
        <p:spPr>
          <a:xfrm flipV="1">
            <a:off x="3097080" y="2032920"/>
            <a:ext cx="59616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3" name="AutoShape 18"/>
          <p:cNvSpPr/>
          <p:nvPr/>
        </p:nvSpPr>
        <p:spPr>
          <a:xfrm>
            <a:off x="8645400" y="6451560"/>
            <a:ext cx="498600" cy="406440"/>
          </a:xfrm>
          <a:custGeom>
            <a:avLst/>
            <a:gdLst>
              <a:gd name="textAreaLeft" fmla="*/ 25200 w 498600"/>
              <a:gd name="textAreaRight" fmla="*/ 473400 w 498600"/>
              <a:gd name="textAreaTop" fmla="*/ 25200 h 406440"/>
              <a:gd name="textAreaBottom" fmla="*/ 381240 h 406440"/>
            </a:gdLst>
            <a:ahLst/>
            <a:rect l="textAreaLeft" t="textAreaTop" r="textAreaRight" b="textAreaBottom"/>
            <a:pathLst>
              <a:path w="26493" h="21600">
                <a:moveTo>
                  <a:pt x="0" y="0"/>
                </a:moveTo>
                <a:lnTo>
                  <a:pt x="26493" y="0"/>
                </a:lnTo>
                <a:lnTo>
                  <a:pt x="26493" y="21600"/>
                </a:lnTo>
                <a:lnTo>
                  <a:pt x="0" y="21600"/>
                </a:lnTo>
                <a:close/>
              </a:path>
              <a:path fill="lightenLess" w="26493" h="21600">
                <a:moveTo>
                  <a:pt x="0" y="0"/>
                </a:moveTo>
                <a:lnTo>
                  <a:pt x="26493" y="0"/>
                </a:lnTo>
                <a:lnTo>
                  <a:pt x="25143" y="1350"/>
                </a:lnTo>
                <a:lnTo>
                  <a:pt x="1350" y="1350"/>
                </a:lnTo>
                <a:close/>
              </a:path>
              <a:path fill="darken" w="26493" h="21600">
                <a:moveTo>
                  <a:pt x="26493" y="0"/>
                </a:moveTo>
                <a:lnTo>
                  <a:pt x="26493" y="21600"/>
                </a:lnTo>
                <a:lnTo>
                  <a:pt x="25143" y="20250"/>
                </a:lnTo>
                <a:lnTo>
                  <a:pt x="25143" y="1350"/>
                </a:lnTo>
                <a:close/>
              </a:path>
              <a:path fill="darkenLess" w="26493" h="21600">
                <a:moveTo>
                  <a:pt x="2649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143" y="20250"/>
                </a:lnTo>
                <a:close/>
              </a:path>
              <a:path fill="lighten" w="2649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493" h="21600">
                <a:moveTo>
                  <a:pt x="6203" y="10800"/>
                </a:moveTo>
                <a:lnTo>
                  <a:pt x="20290" y="3756"/>
                </a:lnTo>
                <a:lnTo>
                  <a:pt x="20290" y="1784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16720" y="6453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0200" y="366840"/>
            <a:ext cx="7524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隶书"/>
                <a:ea typeface="隶书"/>
              </a:rPr>
              <a:t>乡   色  酒</a:t>
            </a:r>
            <a:br>
              <a:rPr sz="4000"/>
            </a:br>
            <a:r>
              <a:rPr b="1" lang="en-US" sz="4000" spc="-1" strike="noStrike">
                <a:solidFill>
                  <a:srgbClr val="993300"/>
                </a:solidFill>
                <a:latin typeface="隶书"/>
                <a:ea typeface="隶书"/>
              </a:rPr>
              <a:t>         舒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7920" y="1828800"/>
            <a:ext cx="2971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三十年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你从柳树梢头望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我正年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乡色也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你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人也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5257800" y="1870200"/>
            <a:ext cx="358128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三十年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我从椰树梢头望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你是一杯乡色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你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乡愁也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8672400" y="6429240"/>
            <a:ext cx="471600" cy="428760"/>
          </a:xfrm>
          <a:custGeom>
            <a:avLst/>
            <a:gdLst>
              <a:gd name="textAreaLeft" fmla="*/ 26640 w 471600"/>
              <a:gd name="textAreaRight" fmla="*/ 444960 w 471600"/>
              <a:gd name="textAreaTop" fmla="*/ 26640 h 428760"/>
              <a:gd name="textAreaBottom" fmla="*/ 402120 h 428760"/>
            </a:gdLst>
            <a:ahLst/>
            <a:rect l="textAreaLeft" t="textAreaTop" r="textAreaRight" b="textAreaBottom"/>
            <a:pathLst>
              <a:path w="23756" h="21600">
                <a:moveTo>
                  <a:pt x="0" y="0"/>
                </a:moveTo>
                <a:lnTo>
                  <a:pt x="23756" y="0"/>
                </a:lnTo>
                <a:lnTo>
                  <a:pt x="23756" y="21600"/>
                </a:lnTo>
                <a:lnTo>
                  <a:pt x="0" y="21600"/>
                </a:lnTo>
                <a:close/>
              </a:path>
              <a:path fill="lightenLess" w="23756" h="21600">
                <a:moveTo>
                  <a:pt x="0" y="0"/>
                </a:moveTo>
                <a:lnTo>
                  <a:pt x="23756" y="0"/>
                </a:lnTo>
                <a:lnTo>
                  <a:pt x="22406" y="1350"/>
                </a:lnTo>
                <a:lnTo>
                  <a:pt x="1350" y="1350"/>
                </a:lnTo>
                <a:close/>
              </a:path>
              <a:path fill="darken" w="23756" h="21600">
                <a:moveTo>
                  <a:pt x="23756" y="0"/>
                </a:moveTo>
                <a:lnTo>
                  <a:pt x="23756" y="21600"/>
                </a:lnTo>
                <a:lnTo>
                  <a:pt x="22406" y="20250"/>
                </a:lnTo>
                <a:lnTo>
                  <a:pt x="22406" y="1350"/>
                </a:lnTo>
                <a:close/>
              </a:path>
              <a:path fill="darkenLess" w="23756" h="21600">
                <a:moveTo>
                  <a:pt x="2375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406" y="20250"/>
                </a:lnTo>
                <a:close/>
              </a:path>
              <a:path fill="lighten" w="2375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3756" h="21600">
                <a:moveTo>
                  <a:pt x="4834" y="10800"/>
                </a:moveTo>
                <a:lnTo>
                  <a:pt x="18922" y="3756"/>
                </a:lnTo>
                <a:lnTo>
                  <a:pt x="18922" y="1784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勾画出你最喜欢的细节，说说理由，尽量读出情趣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08680" y="1989000"/>
            <a:ext cx="13993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85aa2"/>
                </a:solidFill>
                <a:latin typeface="Times New Roman"/>
                <a:ea typeface="楷体_GB2312"/>
              </a:rPr>
              <a:t>品  读  课  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BS00559_"/>
          <p:cNvPicPr/>
          <p:nvPr/>
        </p:nvPicPr>
        <p:blipFill>
          <a:blip r:embed="rId1"/>
          <a:stretch/>
        </p:blipFill>
        <p:spPr>
          <a:xfrm>
            <a:off x="5638680" y="4267080"/>
            <a:ext cx="327672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选段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母亲给我在小酒杯底里只倒一点点，我端着、闻着，走来走去，有一次一不小心，跨门槛时跌了一跤，杯子捏在手里，酒却全洒在衣襟上了。抱着小花猫时，它直舔，舔完了就呼呼地睡觉。原来我的小花猫也是个酒仙呢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评析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这段文字活泼生动，夸张中透着情趣，比喻中透着诙谐，字里行间流露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我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春酒的珍视。儿时的欢乐跃然纸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191240" y="1600200"/>
            <a:ext cx="789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5ab5"/>
                </a:solidFill>
                <a:latin typeface="楷体_GB2312"/>
                <a:ea typeface="楷体_GB2312"/>
              </a:rPr>
              <a:t>范    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008"/>
          <p:cNvPicPr/>
          <p:nvPr/>
        </p:nvPicPr>
        <p:blipFill>
          <a:blip r:embed="rId1"/>
          <a:stretch/>
        </p:blipFill>
        <p:spPr>
          <a:xfrm>
            <a:off x="0" y="4267080"/>
            <a:ext cx="2666880" cy="2590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03280" y="609300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琦君认为：好的文章必须语语动人，字字珠玑。她的散文不雕琢，不粉饰，文笔如行云流水，舒放自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细品味她的这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思乡之情、怀母之心、童年之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纷纷涌上心头。让我们也拿起手中的笔，为逝去的、进行的美好时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摄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吧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35960" y="1773360"/>
            <a:ext cx="13993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5ab5"/>
                </a:solidFill>
                <a:latin typeface="Times New Roman"/>
                <a:ea typeface="楷体_GB2312"/>
              </a:rPr>
              <a:t>课  文  小  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14600" y="380880"/>
            <a:ext cx="6378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春酒有一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民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味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遥知兄弟登高处，遍插茱萸少一人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千门万户瞳瞳日，总把新桃换旧符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春酒有一种＿＿的味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08680" y="1844640"/>
            <a:ext cx="13993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5ab5"/>
                </a:solidFill>
                <a:latin typeface="Times New Roman"/>
                <a:ea typeface="楷体_GB2312"/>
              </a:rPr>
              <a:t>拓  展  延  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5" descr="200432002820"/>
          <p:cNvPicPr/>
          <p:nvPr/>
        </p:nvPicPr>
        <p:blipFill>
          <a:blip r:embed="rId1"/>
          <a:stretch/>
        </p:blipFill>
        <p:spPr>
          <a:xfrm>
            <a:off x="4191120" y="2895480"/>
            <a:ext cx="312408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96336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78d8"/>
                </a:solidFill>
                <a:latin typeface="Times New Roman"/>
                <a:ea typeface="楷体_GB2312"/>
              </a:rPr>
              <a:t>作家简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68360" y="838080"/>
            <a:ext cx="65628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85aa2"/>
                </a:solidFill>
                <a:latin typeface="Times New Roman"/>
                <a:ea typeface="楷体_GB2312"/>
              </a:rPr>
              <a:t>琦君</a:t>
            </a:r>
            <a:r>
              <a:rPr b="1" lang="zh-CN" sz="3600" spc="-1" strike="noStrike">
                <a:solidFill>
                  <a:srgbClr val="0080c0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 现、当代女作家。原名潘希真，浙江永嘉人。毕业于杭州之江大学中文系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赴台湾，曾任台湾中国文化学院、中央大学中文系教授。后定居美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琦君的散文，多写童年记忆，母女之情，友伴之谊。她以中国传统温柔敦厚的情怀，以细腻温婉的笔致，将这些营造成了一个艺术世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35280" y="1125360"/>
            <a:ext cx="282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薏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仁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枸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橄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煨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法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家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66920" y="1052640"/>
            <a:ext cx="29638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ǒu  q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ǎn  lǎ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ēi  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ē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059840" y="981000"/>
            <a:ext cx="1064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4000" spc="-1" strike="noStrike">
                <a:solidFill>
                  <a:srgbClr val="185aa2"/>
                </a:solidFill>
                <a:latin typeface="Times New Roman"/>
                <a:ea typeface="楷体_GB2312"/>
              </a:rPr>
              <a:t>看清字形、读准字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6"/>
          <p:cNvSpPr/>
          <p:nvPr/>
        </p:nvSpPr>
        <p:spPr>
          <a:xfrm>
            <a:off x="5651640" y="47242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14240" y="0"/>
            <a:ext cx="60958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一找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主要记叙了哪几件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08680" y="1052640"/>
            <a:ext cx="13993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85aa2"/>
                </a:solidFill>
                <a:latin typeface="Times New Roman"/>
                <a:ea typeface="楷体_GB2312"/>
              </a:rPr>
              <a:t>听读课文，整体感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1" descr="a3"/>
          <p:cNvPicPr/>
          <p:nvPr/>
        </p:nvPicPr>
        <p:blipFill>
          <a:blip r:embed="rId1"/>
          <a:stretch/>
        </p:blipFill>
        <p:spPr>
          <a:xfrm>
            <a:off x="3962520" y="3657600"/>
            <a:ext cx="495288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5aa2"/>
              </a:solidFill>
              <a:latin typeface="Times New Roman"/>
              <a:ea typeface="楷体_GB2312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酒之中凝聚了作者怎样的情感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118160" y="836640"/>
            <a:ext cx="7898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85aa2"/>
                </a:solidFill>
                <a:latin typeface="Times New Roman"/>
                <a:ea typeface="楷体_GB2312"/>
              </a:rPr>
              <a:t>细读课文、合作研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361960" y="304920"/>
            <a:ext cx="629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华文楷体"/>
                <a:ea typeface="华文楷体"/>
              </a:rPr>
              <a:t>琦    君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： 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1918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年出生，现当代女作家。原名潘希真。浙江永嘉人。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14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岁就读于教会中学。毕业于杭州三江大学中文系，师从词学家夏承焘。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1949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年赴台湾，在司法部门工作了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26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年，并任台湾中国文化学院、中央大学中文系教授，后定居美国。琦君以撰写散文开始她的创作生涯，而她现在已成散文大家。她的名字总是与台湾散文连在一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            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琦君出版有散文集、小说集及儿童文学作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30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余种，包括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烟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细纱灯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获中山文艺创作奖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三更有梦书当枕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桂花雨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细雨灯花落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读书与生活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千里怀人月在峰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与我同车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留子他年说梦痕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琦君寄小读者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琴心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菁姐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七月的哀伤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以及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琦君自选集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等。她是著名电视连续剧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橘子红了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的作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8736120" y="6567480"/>
            <a:ext cx="407880" cy="290520"/>
          </a:xfrm>
          <a:custGeom>
            <a:avLst/>
            <a:gdLst>
              <a:gd name="textAreaLeft" fmla="*/ 18000 w 407880"/>
              <a:gd name="textAreaRight" fmla="*/ 389880 w 407880"/>
              <a:gd name="textAreaTop" fmla="*/ 18000 h 290520"/>
              <a:gd name="textAreaBottom" fmla="*/ 272520 h 290520"/>
            </a:gdLst>
            <a:ahLst/>
            <a:rect l="textAreaLeft" t="textAreaTop" r="textAreaRight" b="textAreaBottom"/>
            <a:pathLst>
              <a:path w="30315" h="21600">
                <a:moveTo>
                  <a:pt x="0" y="0"/>
                </a:moveTo>
                <a:lnTo>
                  <a:pt x="30315" y="0"/>
                </a:lnTo>
                <a:lnTo>
                  <a:pt x="30315" y="21600"/>
                </a:lnTo>
                <a:lnTo>
                  <a:pt x="0" y="21600"/>
                </a:lnTo>
                <a:close/>
              </a:path>
              <a:path fill="lightenLess" w="30315" h="21600">
                <a:moveTo>
                  <a:pt x="0" y="0"/>
                </a:moveTo>
                <a:lnTo>
                  <a:pt x="30315" y="0"/>
                </a:lnTo>
                <a:lnTo>
                  <a:pt x="28965" y="1350"/>
                </a:lnTo>
                <a:lnTo>
                  <a:pt x="1350" y="1350"/>
                </a:lnTo>
                <a:close/>
              </a:path>
              <a:path fill="darken" w="30315" h="21600">
                <a:moveTo>
                  <a:pt x="30315" y="0"/>
                </a:moveTo>
                <a:lnTo>
                  <a:pt x="30315" y="21600"/>
                </a:lnTo>
                <a:lnTo>
                  <a:pt x="28965" y="20250"/>
                </a:lnTo>
                <a:lnTo>
                  <a:pt x="28965" y="1350"/>
                </a:lnTo>
                <a:close/>
              </a:path>
              <a:path fill="darkenLess" w="30315" h="21600">
                <a:moveTo>
                  <a:pt x="3031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965" y="20250"/>
                </a:lnTo>
                <a:close/>
              </a:path>
              <a:path fill="lighten" w="3031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315" h="21600">
                <a:moveTo>
                  <a:pt x="8114" y="10800"/>
                </a:moveTo>
                <a:lnTo>
                  <a:pt x="22201" y="3756"/>
                </a:lnTo>
                <a:lnTo>
                  <a:pt x="22201" y="1784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6524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5640" y="1652760"/>
            <a:ext cx="662940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．给下列加点字注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枸杞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gouqi)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门槛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kan)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过瘾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yin)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凑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cou)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酬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chou)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谢  煨炖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weidun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）两颊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jia)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家醅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pe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027"/>
          <p:cNvGrpSpPr/>
          <p:nvPr/>
        </p:nvGrpSpPr>
        <p:grpSpPr>
          <a:xfrm>
            <a:off x="1797120" y="2595600"/>
            <a:ext cx="183600" cy="153720"/>
            <a:chOff x="1797120" y="2595600"/>
            <a:chExt cx="183600" cy="153720"/>
          </a:xfrm>
        </p:grpSpPr>
        <p:sp>
          <p:nvSpPr>
            <p:cNvPr id="108" name="Line 1028"/>
            <p:cNvSpPr/>
            <p:nvPr/>
          </p:nvSpPr>
          <p:spPr>
            <a:xfrm>
              <a:off x="1797120" y="2595600"/>
              <a:ext cx="903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029"/>
            <p:cNvSpPr/>
            <p:nvPr/>
          </p:nvSpPr>
          <p:spPr>
            <a:xfrm flipH="1">
              <a:off x="1903680" y="2597040"/>
              <a:ext cx="770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1030"/>
          <p:cNvGrpSpPr/>
          <p:nvPr/>
        </p:nvGrpSpPr>
        <p:grpSpPr>
          <a:xfrm>
            <a:off x="2406600" y="2619360"/>
            <a:ext cx="183960" cy="153720"/>
            <a:chOff x="2406600" y="2619360"/>
            <a:chExt cx="183960" cy="153720"/>
          </a:xfrm>
        </p:grpSpPr>
        <p:sp>
          <p:nvSpPr>
            <p:cNvPr id="111" name="Line 1031"/>
            <p:cNvSpPr/>
            <p:nvPr/>
          </p:nvSpPr>
          <p:spPr>
            <a:xfrm>
              <a:off x="2406600" y="2619360"/>
              <a:ext cx="903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032"/>
            <p:cNvSpPr/>
            <p:nvPr/>
          </p:nvSpPr>
          <p:spPr>
            <a:xfrm flipH="1">
              <a:off x="2513520" y="2620800"/>
              <a:ext cx="770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1033"/>
          <p:cNvGrpSpPr/>
          <p:nvPr/>
        </p:nvGrpSpPr>
        <p:grpSpPr>
          <a:xfrm>
            <a:off x="4035600" y="2604960"/>
            <a:ext cx="183600" cy="153720"/>
            <a:chOff x="4035600" y="2604960"/>
            <a:chExt cx="183600" cy="153720"/>
          </a:xfrm>
        </p:grpSpPr>
        <p:sp>
          <p:nvSpPr>
            <p:cNvPr id="114" name="Line 1034"/>
            <p:cNvSpPr/>
            <p:nvPr/>
          </p:nvSpPr>
          <p:spPr>
            <a:xfrm>
              <a:off x="4035600" y="2604960"/>
              <a:ext cx="903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035"/>
            <p:cNvSpPr/>
            <p:nvPr/>
          </p:nvSpPr>
          <p:spPr>
            <a:xfrm flipH="1">
              <a:off x="4142160" y="2606400"/>
              <a:ext cx="770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1036"/>
          <p:cNvGrpSpPr/>
          <p:nvPr/>
        </p:nvGrpSpPr>
        <p:grpSpPr>
          <a:xfrm>
            <a:off x="6135840" y="2604960"/>
            <a:ext cx="183600" cy="153720"/>
            <a:chOff x="6135840" y="2604960"/>
            <a:chExt cx="183600" cy="153720"/>
          </a:xfrm>
        </p:grpSpPr>
        <p:sp>
          <p:nvSpPr>
            <p:cNvPr id="117" name="Line 1037"/>
            <p:cNvSpPr/>
            <p:nvPr/>
          </p:nvSpPr>
          <p:spPr>
            <a:xfrm>
              <a:off x="6135840" y="2604960"/>
              <a:ext cx="903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1038"/>
            <p:cNvSpPr/>
            <p:nvPr/>
          </p:nvSpPr>
          <p:spPr>
            <a:xfrm flipH="1">
              <a:off x="6242400" y="2606400"/>
              <a:ext cx="770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Line 1039"/>
          <p:cNvSpPr/>
          <p:nvPr/>
        </p:nvSpPr>
        <p:spPr>
          <a:xfrm>
            <a:off x="7607160" y="2625840"/>
            <a:ext cx="101880" cy="10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40"/>
          <p:cNvSpPr/>
          <p:nvPr/>
        </p:nvSpPr>
        <p:spPr>
          <a:xfrm>
            <a:off x="4559400" y="3606840"/>
            <a:ext cx="101520" cy="10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41"/>
          <p:cNvSpPr/>
          <p:nvPr/>
        </p:nvSpPr>
        <p:spPr>
          <a:xfrm flipH="1">
            <a:off x="1682280" y="3559320"/>
            <a:ext cx="101880" cy="10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42"/>
          <p:cNvSpPr/>
          <p:nvPr/>
        </p:nvSpPr>
        <p:spPr>
          <a:xfrm flipH="1">
            <a:off x="6678720" y="3597120"/>
            <a:ext cx="101520" cy="101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43"/>
          <p:cNvSpPr/>
          <p:nvPr/>
        </p:nvSpPr>
        <p:spPr>
          <a:xfrm>
            <a:off x="8273880" y="3692520"/>
            <a:ext cx="18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44"/>
          <p:cNvSpPr/>
          <p:nvPr/>
        </p:nvSpPr>
        <p:spPr>
          <a:xfrm flipV="1">
            <a:off x="4043520" y="3715920"/>
            <a:ext cx="169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045"/>
          <p:cNvSpPr/>
          <p:nvPr/>
        </p:nvSpPr>
        <p:spPr>
          <a:xfrm>
            <a:off x="8664480" y="6485040"/>
            <a:ext cx="479520" cy="372960"/>
          </a:xfrm>
          <a:custGeom>
            <a:avLst/>
            <a:gdLst>
              <a:gd name="textAreaLeft" fmla="*/ 23040 w 479520"/>
              <a:gd name="textAreaRight" fmla="*/ 456480 w 479520"/>
              <a:gd name="textAreaTop" fmla="*/ 23040 h 372960"/>
              <a:gd name="textAreaBottom" fmla="*/ 349920 h 372960"/>
            </a:gdLst>
            <a:ahLst/>
            <a:rect l="textAreaLeft" t="textAreaTop" r="textAreaRight" b="textAreaBottom"/>
            <a:pathLst>
              <a:path w="27765" h="21600">
                <a:moveTo>
                  <a:pt x="0" y="0"/>
                </a:moveTo>
                <a:lnTo>
                  <a:pt x="27765" y="0"/>
                </a:lnTo>
                <a:lnTo>
                  <a:pt x="27765" y="21600"/>
                </a:lnTo>
                <a:lnTo>
                  <a:pt x="0" y="21600"/>
                </a:lnTo>
                <a:close/>
              </a:path>
              <a:path fill="lightenLess" w="27765" h="21600">
                <a:moveTo>
                  <a:pt x="0" y="0"/>
                </a:moveTo>
                <a:lnTo>
                  <a:pt x="27765" y="0"/>
                </a:lnTo>
                <a:lnTo>
                  <a:pt x="26415" y="1350"/>
                </a:lnTo>
                <a:lnTo>
                  <a:pt x="1350" y="1350"/>
                </a:lnTo>
                <a:close/>
              </a:path>
              <a:path fill="darken" w="27765" h="21600">
                <a:moveTo>
                  <a:pt x="27765" y="0"/>
                </a:moveTo>
                <a:lnTo>
                  <a:pt x="27765" y="21600"/>
                </a:lnTo>
                <a:lnTo>
                  <a:pt x="26415" y="20250"/>
                </a:lnTo>
                <a:lnTo>
                  <a:pt x="26415" y="1350"/>
                </a:lnTo>
                <a:close/>
              </a:path>
              <a:path fill="darkenLess" w="27765" h="21600">
                <a:moveTo>
                  <a:pt x="2776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5" y="20250"/>
                </a:lnTo>
                <a:close/>
              </a:path>
              <a:path fill="lighten" w="2776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5" h="21600">
                <a:moveTo>
                  <a:pt x="6839" y="10800"/>
                </a:moveTo>
                <a:lnTo>
                  <a:pt x="20926" y="3756"/>
                </a:lnTo>
                <a:lnTo>
                  <a:pt x="20926" y="1784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929040"/>
            <a:ext cx="13716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动动脑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14240" y="623520"/>
            <a:ext cx="60958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作者怀念的仅仅是家乡的春酒吗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文章主要记叙了哪几件事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表达了作者怎么样的思想感情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3:53:0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23:32Z</dcterms:modified>
  <cp:revision>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