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AEA-804D-4A2A-B631-A0DC0D5B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D28-EEF2-41D0-B226-60CE3064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61E-5A6D-411C-ABD5-DCA09334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E72E-5237-4A2E-A6E1-ECCD281F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490-10E3-45A9-B37E-91E65E42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23D-4D21-4B61-BF9D-0C974545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478-E03D-4690-BB79-2F33FA13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8AD-C90F-4D7D-82F5-42721A4E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E46E-84B8-4647-9561-7112F3DA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BE3-BD20-4E61-B0C3-34B1128D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B34-76DB-431C-B884-7D74244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275-2D4F-4A3B-95E0-E5EBC979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4BF2-0E85-4405-9A9C-59EDC15B3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261,6,&#24187;&#28783;&#29255; 6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1,6,&#24187;&#28783;&#29255; 6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261,6,&#24187;&#28783;&#29255; 6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258,3,&#24187;&#28783;&#29255; 3" TargetMode="External"/><Relationship Id="rId3" Type="http://schemas.openxmlformats.org/officeDocument/2006/relationships/hyperlink" Target="259,4,&#24187;&#28783;&#29255; 4" TargetMode="External"/><Relationship Id="rId4" Type="http://schemas.openxmlformats.org/officeDocument/2006/relationships/hyperlink" Target="260,5,&#24187;&#28783;&#29255; 5" TargetMode="External"/><Relationship Id="rId5" Type="http://schemas.openxmlformats.org/officeDocument/2006/relationships/hyperlink" Target="261,6,&#24187;&#28783;&#29255; 6" TargetMode="External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263,2,&#24187;&#28783;&#29255; 2" TargetMode="External"/><Relationship Id="rId3" Type="http://schemas.openxmlformats.org/officeDocument/2006/relationships/hyperlink" Target="262,7,&#24187;&#28783;&#29255; 7" TargetMode="External"/><Relationship Id="rId4" Type="http://schemas.openxmlformats.org/officeDocument/2006/relationships/hyperlink" Target="268,12,&#24187;&#28783;&#29255; 12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299120" y="1268280"/>
            <a:ext cx="30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3960" y="1052640"/>
            <a:ext cx="182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Times New Roman"/>
              </a:rPr>
              <a:t>《春江晓景和江南春》课件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E:\资源库\四年级\3、古诗两首\西湖一角.jpg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4857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E52-FFE6-4E35-9D85-835B2B11BB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04920" y="1981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华文新魏"/>
              </a:rPr>
              <a:t>杜牧，字牧之，京兆万年（今陕西省西安市）人。二十六岁中进土，曾做过幕僚，很不得志。他关心民生疾苦，在任地方官期间为人民做了一些好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143000" y="1600200"/>
            <a:ext cx="7086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绿映红：绿树红花相互掩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水村山郭：依山傍水的村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酒旗风：酒家的酒幌子在风中飘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ffff"/>
                </a:solidFill>
                <a:latin typeface="Times New Roman"/>
                <a:ea typeface="华文新魏"/>
              </a:rPr>
              <a:t>楼台：指佛寺中的建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9907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惠崇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春江晓景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竹  外  桃  花  三  两  枝 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春  江  水  暖  鸭  先  知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蒌  蒿  满  地  芦  芽  短 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     </a:t>
            </a:r>
            <a:r>
              <a:rPr b="0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正  是  河  豚  欲  上  时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37160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057400" y="64008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课文插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410080" y="64008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作者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114800" y="6400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注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7391520" y="64008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下一首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28600" y="17524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苏轼：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字子瞻，号东坡居士，眉山（今四川眉山县）人。他在诗、词、散文的创作上都有很高造诣。惠崇</a:t>
            </a:r>
            <a:r>
              <a:rPr b="0" lang="en-US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《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春江晓景</a:t>
            </a:r>
            <a:r>
              <a:rPr b="0" lang="en-US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》</a:t>
            </a:r>
            <a:r>
              <a:rPr b="0" lang="zh-CN" sz="3600" spc="-1" strike="noStrike">
                <a:solidFill>
                  <a:srgbClr val="ff3300"/>
                </a:solidFill>
                <a:latin typeface="方正舒体"/>
                <a:ea typeface="方正舒体"/>
              </a:rPr>
              <a:t>这首诗就是他为好友惠崇的这幅画题写的。</a:t>
            </a:r>
            <a:r>
              <a:rPr b="0" lang="zh-CN" sz="3200" spc="-1" strike="noStrike">
                <a:solidFill>
                  <a:srgbClr val="ff3300"/>
                </a:solidFill>
                <a:latin typeface="方正舒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924680" y="6172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80880" y="1523880"/>
            <a:ext cx="7772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蒌蒿：长在洼地的一种野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芦芽：芦苇的嫩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河豚：味道鲜美但肝脏等部位有剧毒的鱼。在近海，每年春天逆江而上，在淡水中产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7924680" y="6400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447920" y="762120"/>
            <a:ext cx="5943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江 南 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千 里 莺 啼 绿 映 红 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水 村 山 郭 酒 旗 风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南 朝 四 百 八 十 寺 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多 少 楼 台 烟 雨 中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64008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图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124080" y="64008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注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5"/>
          <p:cNvSpPr/>
          <p:nvPr/>
        </p:nvSpPr>
        <p:spPr>
          <a:xfrm>
            <a:off x="1763640" y="30351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E:\资源库\四年级\3、古诗两首\江南春图.jpg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E:\资源库\四年级\3、古诗两首\江南春图（文征明).jpg"/>
          <p:cNvPicPr/>
          <p:nvPr/>
        </p:nvPicPr>
        <p:blipFill>
          <a:blip r:embed="rId2"/>
          <a:stretch/>
        </p:blipFill>
        <p:spPr>
          <a:xfrm>
            <a:off x="1752480" y="990720"/>
            <a:ext cx="5562720" cy="404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819520" y="5257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江南春（文征明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E:\资源库\四年级\3、古诗两首\西湖两岸.jpg"/>
          <p:cNvPicPr/>
          <p:nvPr/>
        </p:nvPicPr>
        <p:blipFill>
          <a:blip r:embed="rId2"/>
          <a:stretch/>
        </p:blipFill>
        <p:spPr>
          <a:xfrm>
            <a:off x="1219320" y="838080"/>
            <a:ext cx="6324480" cy="4743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04:17:1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45:3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