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1B8-AEF0-4721-A796-9AE5B286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4A5-0DB3-4719-A065-B99799A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A07-6F2D-42F9-8540-EC47EDD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98D-F933-4C9F-851B-93940099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FAC-9EF5-45B9-AC1A-9A42BE7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BF5-1E76-4D12-86CA-F926EF1D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469-E6D6-493F-BFCE-D248F18B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903-A7A6-44B7-BD29-380871E8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64F-118C-40D5-91D8-1259FA4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693-80ED-4154-B188-55E799A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370-0E5D-4D45-A75C-5B6EF78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776-1552-4ECC-A319-DC54118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986-735E-4815-A8FB-E9784E5CFC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160020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ACK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23623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73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869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213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57C-19BE-486E-9629-9B53C8F863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kids"/>
          <p:cNvPicPr/>
          <p:nvPr/>
        </p:nvPicPr>
        <p:blipFill>
          <a:blip r:embed="rId2"/>
          <a:stretch/>
        </p:blipFill>
        <p:spPr>
          <a:xfrm>
            <a:off x="2057400" y="1371600"/>
            <a:ext cx="476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0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1:1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