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656-994A-4D64-8123-5D6CCB30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04D-2947-4898-9D2B-CB2DD245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9065-2F99-4513-8904-F750999D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7DC-5BA8-462D-9C98-30FC9123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A16-B095-4DF0-A39C-ACF98789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74F-2DBE-468A-BCA9-5BF34ADA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80F-5E1F-46DA-90B7-AE3D86AF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5F6-307D-4044-A465-516A1EF1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110-002C-4C52-B2B2-3BE338B6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8F6-AAAA-4CB2-AA37-132C3D81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9F1-EEA2-4BC7-BB86-E59FF556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770-1C28-469A-85CD-AF0889E9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E32-8F39-44AC-9F19-C6C2B3BCA9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-441720"/>
            <a:ext cx="7848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5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978600" y="6369120"/>
            <a:ext cx="20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mic Sans MS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omic Sans MS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1131840" y="765000"/>
            <a:ext cx="31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倒数的认识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2492280"/>
                <a:ext cx="1676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复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513240" y="2492280"/>
                <a:ext cx="2117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372360" y="2492280"/>
                <a:ext cx="15429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Text Box 8"/>
          <p:cNvSpPr/>
          <p:nvPr/>
        </p:nvSpPr>
        <p:spPr>
          <a:xfrm>
            <a:off x="2556000" y="27496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435640" y="270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81200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DBF-2253-498F-A4AA-4824D624C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3960" y="1989000"/>
            <a:ext cx="7696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乘积是</a:t>
            </a:r>
            <a:r>
              <a:rPr b="1" lang="en-US" sz="6600" spc="-1" strike="noStrike">
                <a:solidFill>
                  <a:srgbClr val="703dff"/>
                </a:solidFill>
                <a:latin typeface="宋体"/>
              </a:rPr>
              <a:t>1</a:t>
            </a: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的两个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03dff"/>
                </a:solidFill>
                <a:latin typeface="宋体"/>
              </a:rPr>
              <a:t>互为倒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5600" y="198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乘积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219120" y="19890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065600" y="31989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互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2"/>
          <p:cNvSpPr/>
          <p:nvPr/>
        </p:nvSpPr>
        <p:spPr>
          <a:xfrm>
            <a:off x="250920" y="620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85680"/>
            <a:ext cx="4321080" cy="1575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345960"/>
            <a:ext cx="93528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1735200"/>
            <a:ext cx="2519280" cy="1131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068720" y="1735200"/>
            <a:ext cx="2232000" cy="1117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64000" y="1692360"/>
            <a:ext cx="411480" cy="1060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39640" y="2959200"/>
            <a:ext cx="2519640" cy="1131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068720" y="2959200"/>
            <a:ext cx="2232000" cy="111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380200" y="2930400"/>
            <a:ext cx="377640" cy="1060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2050920" y="41148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求一个数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(0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除外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703dff"/>
                </a:solidFill>
                <a:latin typeface="宋体"/>
              </a:rPr>
              <a:t>的倒数，只要把这个数的分子、分母调换位置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6834240" y="6369120"/>
            <a:ext cx="21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5" descr=""/>
          <p:cNvPicPr/>
          <p:nvPr/>
        </p:nvPicPr>
        <p:blipFill>
          <a:blip r:embed="rId1"/>
          <a:stretch/>
        </p:blipFill>
        <p:spPr>
          <a:xfrm>
            <a:off x="316080" y="698400"/>
            <a:ext cx="7448400" cy="5869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b2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6:48:02Z</dcterms:created>
  <dc:creator/>
  <dc:description/>
  <dc:language>en-US</dc:language>
  <cp:lastModifiedBy/>
  <dcterms:modified xsi:type="dcterms:W3CDTF">2015-07-04T13:36:07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