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2EA-3812-4FA1-8CEF-36B7CAC9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2B0-BE46-47D5-B1DF-2AA8480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AE3-685E-42EC-A515-4D3EB3EA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266-21F7-4ECF-97C8-4B1DC1BF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739-DE24-48F8-B16B-B5351C6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F6A-3A62-4BEF-94A2-B2F82C0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18F-97FC-46A9-8A5B-491322E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B6C-E3DD-4821-9165-8D4DD52C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BC1-7253-4830-B3EE-80411283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424-D39E-4579-A7C7-5BF22FD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A0C-C21D-4A73-AED5-E72BB0C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B75-1901-410E-9685-401508C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F1B-3633-4B05-90EE-EC4097CCDF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B2E-43AB-4B55-8642-C8A5F40B90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4977000" y="296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0c0"/>
                </a:solidFill>
                <a:latin typeface="方正清刻本悦宋简体"/>
                <a:ea typeface="方正清刻本悦宋简体"/>
              </a:rPr>
              <a:t>浪漫心形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ake Me To Your Heart" descr=""/>
          <p:cNvPicPr/>
          <p:nvPr/>
        </p:nvPicPr>
        <p:blipFill>
          <a:blip r:embed="rId1"/>
          <a:stretch/>
        </p:blipFill>
        <p:spPr>
          <a:xfrm>
            <a:off x="-1106640" y="44830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3240" y="863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动态卡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表 6" descr=""/>
          <p:cNvPicPr/>
          <p:nvPr/>
        </p:nvPicPr>
        <p:blipFill>
          <a:blip r:embed="rId1"/>
          <a:stretch/>
        </p:blipFill>
        <p:spPr>
          <a:xfrm>
            <a:off x="1595520" y="-345960"/>
            <a:ext cx="8999280" cy="75517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9"/>
          <p:cNvSpPr/>
          <p:nvPr/>
        </p:nvSpPr>
        <p:spPr>
          <a:xfrm>
            <a:off x="2781000" y="7373880"/>
            <a:ext cx="6629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7e6e6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J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S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A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W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R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Y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D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SOM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W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O GI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IT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D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"/>
          <p:cNvSpPr/>
          <p:nvPr/>
        </p:nvSpPr>
        <p:spPr>
          <a:xfrm>
            <a:off x="3141000" y="5645160"/>
            <a:ext cx="5910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J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A 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R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Y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M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G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2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表 6" descr=""/>
          <p:cNvPicPr/>
          <p:nvPr/>
        </p:nvPicPr>
        <p:blipFill>
          <a:blip r:embed="rId1"/>
          <a:stretch/>
        </p:blipFill>
        <p:spPr>
          <a:xfrm>
            <a:off x="2666880" y="15840"/>
            <a:ext cx="6858000" cy="6789600"/>
          </a:xfrm>
          <a:prstGeom prst="rect">
            <a:avLst/>
          </a:prstGeom>
          <a:ln w="0">
            <a:noFill/>
          </a:ln>
        </p:spPr>
      </p:pic>
      <p:sp>
        <p:nvSpPr>
          <p:cNvPr id="49" name="任意多边形 5"/>
          <p:cNvSpPr/>
          <p:nvPr/>
        </p:nvSpPr>
        <p:spPr>
          <a:xfrm>
            <a:off x="2622600" y="5997600"/>
            <a:ext cx="6946920" cy="18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表 6" descr=""/>
          <p:cNvPicPr/>
          <p:nvPr/>
        </p:nvPicPr>
        <p:blipFill>
          <a:blip r:embed="rId1"/>
          <a:stretch/>
        </p:blipFill>
        <p:spPr>
          <a:xfrm>
            <a:off x="1881360" y="0"/>
            <a:ext cx="8429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A52-FC88-468B-A291-3957FEB4174D}" type="slidenum">
              <a:t>5</a:t>
            </a:fld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表 6" descr=""/>
          <p:cNvPicPr/>
          <p:nvPr/>
        </p:nvPicPr>
        <p:blipFill>
          <a:blip r:embed="rId1"/>
          <a:stretch/>
        </p:blipFill>
        <p:spPr>
          <a:xfrm>
            <a:off x="2651040" y="-15840"/>
            <a:ext cx="688968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表 6" descr=""/>
          <p:cNvPicPr/>
          <p:nvPr/>
        </p:nvPicPr>
        <p:blipFill>
          <a:blip r:embed="rId1"/>
          <a:stretch/>
        </p:blipFill>
        <p:spPr>
          <a:xfrm>
            <a:off x="1325520" y="249120"/>
            <a:ext cx="9541080" cy="63597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"/>
          <p:cNvSpPr/>
          <p:nvPr/>
        </p:nvSpPr>
        <p:spPr>
          <a:xfrm>
            <a:off x="5929920" y="5254560"/>
            <a:ext cx="33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方正宋一简体"/>
                <a:ea typeface="方正宋一简体"/>
              </a:rPr>
              <a:t>爱情是遇见你以后发生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表 6" descr=""/>
          <p:cNvPicPr/>
          <p:nvPr/>
        </p:nvPicPr>
        <p:blipFill>
          <a:blip r:embed="rId1"/>
          <a:stretch/>
        </p:blipFill>
        <p:spPr>
          <a:xfrm>
            <a:off x="1901880" y="-765000"/>
            <a:ext cx="8388360" cy="838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5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2:05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