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45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45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45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45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45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45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45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45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45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45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714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5092560" y="2494080"/>
            <a:ext cx="4051440" cy="43639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332560" y="6558120"/>
            <a:ext cx="8596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ADCA38E3-FB0F-408B-B5BE-CC6DF87D60B2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6381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29240" y="1197000"/>
            <a:ext cx="312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电信经典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1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1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1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16000" y="3645000"/>
            <a:ext cx="768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中国风ppt模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zhongguofen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2T02:33:0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8:05:43Z</dcterms:modified>
  <cp:revision>7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