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C6D9-3FEC-4713-BC09-EE5C9F648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CAC0-9B4A-4C35-AF06-3AA924D6D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7C4F-6A11-44AB-B493-A70C89803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3772-3966-4E12-9D27-DDCBFF3878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D087-13C2-4CF7-A835-383BACFDC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55C4-D5F2-4790-9EAE-43AD6956A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3A7D-1CB6-44F0-873A-BF73FF898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C0F0-34A0-4B15-8C88-2FB12F872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89000"/>
            <a:ext cx="59054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4644-21E8-4F48-98AD-59955BA27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94BC-1079-4A20-A577-705E26B44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EC44-63CC-4F7B-8C25-E477F3CAE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353B-C4A1-4BB8-A577-7997F1AEE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43280" y="189000"/>
            <a:ext cx="5905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059280" y="6473520"/>
            <a:ext cx="3178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922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62B3-B4A3-415E-A567-863F55577AA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1700280"/>
            <a:ext cx="3924360" cy="31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19640" y="1700280"/>
            <a:ext cx="5724360" cy="28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635280" y="1989000"/>
            <a:ext cx="5508720" cy="36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6389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3581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35280" cy="98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805360"/>
            <a:ext cx="5070600" cy="571680"/>
          </a:xfrm>
          <a:prstGeom prst="rect">
            <a:avLst/>
          </a:prstGeom>
          <a:solidFill>
            <a:srgbClr val="009999">
              <a:alpha val="51000"/>
            </a:srgbClr>
          </a:solidFill>
          <a:ln w="22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58120" y="4428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电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2880" y="34354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2E93-2E0A-49AE-A112-D258838DF2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8:39:2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06:1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