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17E-7629-4147-8A73-896F3D6A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5F6-FADE-4F53-AF83-8BB457C8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1E99-EEEA-42C5-9C69-25594F8C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B66F-CFA9-475B-B9FE-0ECA3F18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F9E0-EF8C-4267-AA7F-43205CEC8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E351-0B89-41B2-AC64-A8B47EBA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0EA4-0EB4-467B-8147-B28931B1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83CC-E33E-445A-A452-FBD044D1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29B4-4665-4FC4-86BE-6ED46F3D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DD30-507E-489C-A82B-AC3F2297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DBF4-892C-4367-B350-368EAB15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461C-6AC1-4822-85A6-C78B80B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F615-A124-4A50-B188-D123A45F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714-8426-4791-B328-B5354168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6590-670D-4B61-AD87-D5FE8119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F441-4BBB-48AD-9D76-4E61D624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2239-42CE-4B22-84B4-A0F013428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CD08-0D07-4596-8098-C4DD3351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D90DF-B35C-4225-B95D-B0619D86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3339-3872-40B3-B457-5B7A3A47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5CF2-F971-4A53-8840-A1B794FB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4DFD6-D0D1-4807-93EB-15D1DCB5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F1F-8358-4D19-9DA2-BFE72395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5F793-D7B8-4726-9E8B-9AF40805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EBE53-35FD-4F1E-BBC4-A6FBA4E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A79A7-DFB9-4B2B-9C40-B97566E1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8285-9E12-47BA-9153-BD0B63F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C82DC-4128-48D9-A5C5-962586B6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6C41F-EB0A-4902-9750-A017C7F5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ACB8-E4D6-48C7-B1DB-1472308B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2949-65F8-4C12-811C-DF407BBB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F0DE5-B334-4C4F-9031-0105447E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0BAC1-ADBF-403F-B155-CCA18E90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0C8-D2D1-4E94-AE45-D16190D8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47FD8-9468-4CD5-89D1-06FE03C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0311-B345-42FC-8DAA-AEF2005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C41B6-2ECC-433A-B198-FF3533E7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AF7A-2D7B-4960-BCE9-7361734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3573-8733-4F40-A65B-6EC52D84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F62D3-8D84-4C67-8B90-CE54C185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813D2-068D-4BF4-BD2B-69DB9837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3BAB-CF63-4C5A-BE6E-45ED0CA1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A6B8C-3C13-4B56-9DED-8ABAE8E4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0E16-9C26-4685-8079-842CE317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8D0-A0D8-4B5D-8469-2B4AEDC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D64-16DE-4467-9604-8EAB3E0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30A-A1D1-4F8F-B313-15F763A8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B0CE-F765-49EB-A68A-1929FF20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6ED0-E8D8-4359-AFBA-B4CABBE4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9842-5CFD-4C0D-9F01-7E8AD009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AD8-F1F6-43E0-B5B6-19AE5C8E5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1CF-FF2C-4184-98EC-0F6BDD840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28720" y="4726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"/>
          <p:cNvSpPr/>
          <p:nvPr/>
        </p:nvSpPr>
        <p:spPr>
          <a:xfrm>
            <a:off x="1722240" y="328608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电子行业</a:t>
            </a: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70880" y="318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1268280"/>
            <a:ext cx="823104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304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ulim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876240"/>
            <a:ext cx="662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Gulim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5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3" name=""/>
          <p:cNvSpPr/>
          <p:nvPr/>
        </p:nvSpPr>
        <p:spPr>
          <a:xfrm>
            <a:off x="1116000" y="3645000"/>
            <a:ext cx="7688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中国风ppt模板</a:t>
            </a: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http://www.eeppt.com/moban/zhongguofeng/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3CD1-C6BB-4412-B614-E1AB74131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7670880" y="318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3049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ulim"/>
              </a:rPr>
              <a:t>Click To Type Slide Title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5:21:1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30:01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