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D9E-5BDA-463B-B16F-A96E1C69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BD80-6DF2-4E64-A683-88A4F4B0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B35-3B21-4A10-BE2A-46D2C2D4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792-6901-4830-B632-F2B64B59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F1E-2370-4817-B2F1-1EB33D92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686-6296-4F75-9693-E2FAC022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663F-7F8F-46AB-9A17-1463D84E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D45-3492-4ADF-BB4B-D591206B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A1F-062B-4A5F-A473-C31C7D42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7F1-B392-46C7-832F-6CEB8F23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772-74A4-4083-9433-D698FB8E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4F97-AA0E-4570-AAE2-ED847327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5D24-0DA6-4C96-B1FB-ECC4A62063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85840" y="-71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4212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6283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18547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35040" y="1052640"/>
            <a:ext cx="31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父亲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662760" y="-71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4000680" y="250020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640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05680" y="-71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39265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24976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4283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7837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805680" y="-71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40690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283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4979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0E7-536F-49E8-BD3F-ED0145E7F7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773640" y="-3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585792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38548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068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926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9640" y="20876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-3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56964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27835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15688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64267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5:45:06Z</dcterms:modified>
  <cp:revision>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