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7EC-AD74-4B01-9912-91B6E37F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B04-59CE-4906-8FB2-920F8B78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EEE-D86E-4BB1-B0BD-516B05D4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D2E-64EC-4BBB-B4A2-8F9E994C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A05-99A7-4FE7-BA73-4BBAF691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9F3-4DF4-46A9-B63D-956B32D1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43F-1CE4-471D-BD5B-EBAF6158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4F6-2CC5-4FD5-A7CB-D8515D50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D1B-FF23-437F-AEA1-821353D1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6F2-DAA7-437F-9687-E4B1EB2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878-90DC-4386-8F58-818F77EA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FA3-1D2F-4A15-875B-153328C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294A-DAF7-4BCD-BBF4-CA17CFED607D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ppt宝藏_www.pptbz.com_古典扇子\ppt宝藏_www.pptbz.com_古典扇子\ppt宝藏_www.pptbz.com_古典扇子_3.jpg"/>
          <p:cNvPicPr/>
          <p:nvPr/>
        </p:nvPicPr>
        <p:blipFill>
          <a:blip r:embed="rId1"/>
          <a:stretch/>
        </p:blipFill>
        <p:spPr>
          <a:xfrm>
            <a:off x="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7728120" y="1197000"/>
            <a:ext cx="731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350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002840" y="249228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古典扇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Administrator\桌面\ppt宝藏_www.pptbz.com_古典扇子\ppt宝藏_www.pptbz.com_古典扇子\ppt宝藏_www.pptbz.com_古典扇子_2.jpg"/>
          <p:cNvPicPr/>
          <p:nvPr/>
        </p:nvPicPr>
        <p:blipFill>
          <a:blip r:embed="rId1"/>
          <a:stretch/>
        </p:blipFill>
        <p:spPr>
          <a:xfrm>
            <a:off x="3240" y="600120"/>
            <a:ext cx="9140760" cy="5826240"/>
          </a:xfrm>
          <a:prstGeom prst="rect">
            <a:avLst/>
          </a:prstGeom>
          <a:ln w="0">
            <a:noFill/>
          </a:ln>
        </p:spPr>
      </p:pic>
      <p:sp>
        <p:nvSpPr>
          <p:cNvPr id="79" name="矩形 5"/>
          <p:cNvSpPr/>
          <p:nvPr/>
        </p:nvSpPr>
        <p:spPr>
          <a:xfrm>
            <a:off x="7864920" y="1254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谢谢观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istrator\桌面\ppt宝藏_www.pptbz.com_古典扇子\ppt宝藏_www.pptbz.com_古典扇子\ppt宝藏_www.pptbz.com_古典扇子_1.jpg"/>
          <p:cNvPicPr/>
          <p:nvPr/>
        </p:nvPicPr>
        <p:blipFill>
          <a:blip r:embed="rId1"/>
          <a:stretch/>
        </p:blipFill>
        <p:spPr>
          <a:xfrm>
            <a:off x="3240" y="600120"/>
            <a:ext cx="9140760" cy="5826240"/>
          </a:xfrm>
          <a:prstGeom prst="rect">
            <a:avLst/>
          </a:prstGeom>
          <a:ln w="0">
            <a:noFill/>
          </a:ln>
        </p:spPr>
      </p:pic>
      <p:sp>
        <p:nvSpPr>
          <p:cNvPr id="46" name="矩形 3"/>
          <p:cNvSpPr/>
          <p:nvPr/>
        </p:nvSpPr>
        <p:spPr>
          <a:xfrm>
            <a:off x="455760" y="2597040"/>
            <a:ext cx="5461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1692360" y="910080"/>
            <a:ext cx="5461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975040" y="910080"/>
            <a:ext cx="5461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istrator\桌面\ppt宝藏_www.pptbz.com_古典扇子\ppt宝藏_www.pptbz.com_古典扇子\ppt宝藏_www.pptbz.com_古典扇子_4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istrator\桌面\ppt宝藏_www.pptbz.com_古典扇子\ppt宝藏_www.pptbz.com_古典扇子\ppt宝藏_www.pptbz.com_古典扇子_5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54" name="矩形 3"/>
          <p:cNvSpPr/>
          <p:nvPr/>
        </p:nvSpPr>
        <p:spPr>
          <a:xfrm>
            <a:off x="507960" y="257400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1731960" y="88704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017880" y="88704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istrator\桌面\ppt宝藏_www.pptbz.com_古典扇子\ppt宝藏_www.pptbz.com_古典扇子\ppt宝藏_www.pptbz.com_古典扇子_7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58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istrator\桌面\ppt宝藏_www.pptbz.com_古典扇子\ppt宝藏_www.pptbz.com_古典扇子\ppt宝藏_www.pptbz.com_古典扇子_6.jpg"/>
          <p:cNvPicPr/>
          <p:nvPr/>
        </p:nvPicPr>
        <p:blipFill>
          <a:blip r:embed="rId1"/>
          <a:stretch/>
        </p:blipFill>
        <p:spPr>
          <a:xfrm>
            <a:off x="-6480" y="620640"/>
            <a:ext cx="9150480" cy="580572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331920" y="27525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1555560" y="10659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41480" y="10659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istrator\桌面\ppt宝藏_www.pptbz.com_古典扇子\ppt宝藏_www.pptbz.com_古典扇子\ppt宝藏_www.pptbz.com_古典扇子_8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66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eppt.com/moban/zhongguofeng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EE1-3D9A-4AE8-BB26-F3A1CF97EF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istrator\桌面\ppt宝藏_www.pptbz.com_古典扇子\ppt宝藏_www.pptbz.com_古典扇子\ppt宝藏_www.pptbz.com_古典扇子_9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74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9097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8:50:3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40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