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3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CA9-827D-474B-AE89-7796C9ED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2A9-065F-4A4A-8AB8-9DE214A0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15F-B99A-4115-BF70-60E21958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09F-8DBB-4E28-A41C-2DB7D534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C73-BC16-4631-B290-AC75D0D1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1C5-BA0C-4105-B358-230FF4D9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B59-F3B5-49A5-8165-C063B6EC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30C-572C-4815-B2E8-CF11DDFF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ED0-4558-4138-B288-B888A04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503-4C19-4EA0-8449-00F7B62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172-64A3-4F75-A093-D3F5E603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EC8-9E59-4327-BCC0-A447AA9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3D1F-5AB7-4898-BD88-E901A6D9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3200" y="0"/>
                </a:ln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5126600">
            <a:off x="2060640" y="628560"/>
            <a:ext cx="6432480" cy="5988240"/>
          </a:xfrm>
          <a:prstGeom prst="blockArc">
            <a:avLst>
              <a:gd name="adj1" fmla="val 15103810"/>
              <a:gd name="adj2" fmla="val 17296190"/>
              <a:gd name="adj3" fmla="val 42384"/>
            </a:avLst>
          </a:prstGeom>
          <a:solidFill>
            <a:srgbClr val="ff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9040" y="3031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점 사업 분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" y="833400"/>
            <a:ext cx="3930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사업부문별 균형과 내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아웃소싱을 통한 원가절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3413"/>
                </a:ln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ff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25960" y="25160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2856800">
            <a:off x="2453040" y="-73800"/>
            <a:ext cx="7002360" cy="70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023" swAng="1813340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023" swAng="1813340"/>
              </a:path>
            </a:pathLst>
          </a:custGeom>
          <a:noFill/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3413"/>
                </a:ln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64640" y="447192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86600" y="337500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7840" y="44053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3722760"/>
            <a:ext cx="199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Web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Publ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DB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6960" y="23572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656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7920" y="6922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韩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rot="21429000">
            <a:off x="-243000" y="2483280"/>
            <a:ext cx="8896320" cy="40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0" y="4624"/>
                </a:moveTo>
                <a:arcTo wR="10800" hR="10800" stAng="-8707316" swAng="12686963"/>
                <a:lnTo>
                  <a:pt x="10800" y="10800"/>
                </a:lnTo>
                <a:close/>
              </a:path>
              <a:path fill="none" w="21600" h="21600">
                <a:moveTo>
                  <a:pt x="1940" y="4624"/>
                </a:moveTo>
                <a:arcTo wR="10800" hR="10800" stAng="-8707316" swAng="12686963"/>
              </a:path>
            </a:pathLst>
          </a:custGeom>
          <a:gradFill rotWithShape="0">
            <a:gsLst>
              <a:gs pos="0">
                <a:srgbClr val="6586a8"/>
              </a:gs>
              <a:gs pos="100000">
                <a:srgbClr val="99ccff"/>
              </a:gs>
            </a:gsLst>
            <a:lin ang="13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3040" y="3897360"/>
            <a:ext cx="3670200" cy="137304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50000">
                <a:srgbClr val="eaeaea"/>
              </a:gs>
              <a:gs pos="100000">
                <a:srgbClr val="cbcb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61120" y="35100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eCompany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치체인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3040" y="3794040"/>
            <a:ext cx="3670200" cy="1373400"/>
          </a:xfrm>
          <a:prstGeom prst="ellipse">
            <a:avLst/>
          </a:prstGeom>
          <a:gradFill rotWithShape="0">
            <a:gsLst>
              <a:gs pos="0">
                <a:srgbClr val="a886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46280" y="3009960"/>
            <a:ext cx="6095520" cy="27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8" y="4924"/>
                </a:moveTo>
                <a:arcTo wR="10800" hR="10800" stAng="-8822319" swAng="12931100"/>
                <a:lnTo>
                  <a:pt x="10800" y="10800"/>
                </a:lnTo>
                <a:close/>
              </a:path>
              <a:path fill="none" w="21600" h="21600">
                <a:moveTo>
                  <a:pt x="1738" y="4924"/>
                </a:moveTo>
                <a:arcTo wR="10800" hR="10800" stAng="-8822319" swAng="12931100"/>
              </a:path>
            </a:pathLst>
          </a:custGeom>
          <a:noFill/>
          <a:ln w="635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68840" y="5130720"/>
            <a:ext cx="1092240" cy="109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SCM/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90840" y="3102120"/>
            <a:ext cx="1091880" cy="1091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DW/C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67000" y="4214880"/>
            <a:ext cx="480960" cy="480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47960" y="4456080"/>
            <a:ext cx="482760" cy="480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32240" y="4524480"/>
            <a:ext cx="480960" cy="480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15080" y="4456080"/>
            <a:ext cx="480960" cy="4809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45000" y="4282920"/>
            <a:ext cx="480960" cy="4827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62120" y="3989520"/>
            <a:ext cx="771480" cy="20448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79960" y="3556080"/>
            <a:ext cx="420480" cy="4334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244840" y="3652920"/>
            <a:ext cx="717480" cy="3366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00840" y="4368960"/>
            <a:ext cx="1195200" cy="1728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62560" y="4937040"/>
            <a:ext cx="324000" cy="35892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08960" y="1693800"/>
            <a:ext cx="124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Gulim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06680" y="1685880"/>
            <a:ext cx="1501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Gulim"/>
              </a:rPr>
              <a:t>Stock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64960" y="5724360"/>
            <a:ext cx="109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Gulim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20880" y="2243160"/>
            <a:ext cx="0" cy="85896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933560" y="2242800"/>
            <a:ext cx="0" cy="84132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6600" y="2166840"/>
            <a:ext cx="1433520" cy="34308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635200" y="167652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635200" y="187020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628720" y="204948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97280" y="1582560"/>
            <a:ext cx="169920" cy="1717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97280" y="1789200"/>
            <a:ext cx="169920" cy="171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97280" y="1995480"/>
            <a:ext cx="171360" cy="171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37240" y="39258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Gulim"/>
              </a:rPr>
              <a:t>e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585960" y="574200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585960" y="593568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579480" y="611352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44760" y="5638680"/>
            <a:ext cx="171720" cy="1699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4760" y="5845320"/>
            <a:ext cx="171720" cy="1695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6560" y="6051600"/>
            <a:ext cx="169920" cy="1699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110200" y="5816520"/>
            <a:ext cx="394200" cy="112680"/>
            <a:chOff x="5110200" y="5816520"/>
            <a:chExt cx="394200" cy="112680"/>
          </a:xfrm>
        </p:grpSpPr>
        <p:sp>
          <p:nvSpPr>
            <p:cNvPr id="457" name=""/>
            <p:cNvSpPr/>
            <p:nvPr/>
          </p:nvSpPr>
          <p:spPr>
            <a:xfrm flipH="1">
              <a:off x="5110200" y="5816520"/>
              <a:ext cx="37800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28200" y="5929200"/>
              <a:ext cx="37620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H="1">
            <a:off x="3132000" y="168444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132000" y="187812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125520" y="205740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1360" y="2085840"/>
            <a:ext cx="0" cy="37800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064040" y="2069640"/>
            <a:ext cx="0" cy="37620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51040" y="3000240"/>
            <a:ext cx="6095520" cy="27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01" y="3028"/>
                </a:moveTo>
                <a:arcTo wR="10800" hR="10800" stAng="-8038338" swAng="11127337"/>
                <a:lnTo>
                  <a:pt x="10800" y="10800"/>
                </a:lnTo>
                <a:close/>
              </a:path>
              <a:path fill="none" w="21600" h="21600">
                <a:moveTo>
                  <a:pt x="3301" y="3028"/>
                </a:moveTo>
                <a:arcTo wR="10800" hR="10800" stAng="-8038338" swAng="11127337"/>
              </a:path>
            </a:pathLst>
          </a:custGeom>
          <a:noFill/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8200" y="2463840"/>
            <a:ext cx="1092240" cy="109224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43720" y="2585880"/>
            <a:ext cx="1091880" cy="109080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GW/K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96040" y="3808440"/>
            <a:ext cx="1092240" cy="109224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ERP/E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013360" y="170172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013360" y="189540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006880" y="207504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75440" y="1608120"/>
            <a:ext cx="169560" cy="171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75440" y="1814400"/>
            <a:ext cx="169560" cy="17172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75440" y="2021040"/>
            <a:ext cx="171360" cy="171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31920" y="4748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고객 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ata</a:t>
            </a: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30360" y="2736720"/>
            <a:ext cx="5689440" cy="1976400"/>
          </a:xfrm>
          <a:prstGeom prst="ellipse">
            <a:avLst/>
          </a:prstGeom>
          <a:solidFill>
            <a:srgbClr val="cd9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0800000">
            <a:off x="933120" y="2255400"/>
            <a:ext cx="7121520" cy="30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68" y="20958"/>
                </a:moveTo>
                <a:arcTo wR="10800" hR="10800" stAng="4208807" swAng="9337101"/>
                <a:lnTo>
                  <a:pt x="10800" y="10800"/>
                </a:lnTo>
                <a:close/>
              </a:path>
              <a:path fill="none" w="21600" h="21600">
                <a:moveTo>
                  <a:pt x="14468" y="20958"/>
                </a:moveTo>
                <a:arcTo wR="10800" hR="10800" stAng="4208807" swAng="9337101"/>
              </a:path>
            </a:pathLst>
          </a:custGeom>
          <a:solidFill>
            <a:srgbClr val="99ccff">
              <a:alpha val="70000"/>
            </a:srgbClr>
          </a:solidFill>
          <a:ln w="19080">
            <a:solidFill>
              <a:srgbClr val="3399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0800000">
            <a:off x="928800" y="2250360"/>
            <a:ext cx="7122960" cy="30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20" y="54"/>
                </a:moveTo>
                <a:arcTo wR="10800" hR="10800" stAng="-5744256" swAng="9674941"/>
                <a:lnTo>
                  <a:pt x="10800" y="10800"/>
                </a:lnTo>
                <a:close/>
              </a:path>
              <a:path fill="none" w="21600" h="21600">
                <a:moveTo>
                  <a:pt x="9720" y="54"/>
                </a:moveTo>
                <a:arcTo wR="10800" hR="10800" stAng="-5744256" swAng="9674941"/>
              </a:path>
            </a:pathLst>
          </a:custGeom>
          <a:solidFill>
            <a:srgbClr val="e5ccbf">
              <a:alpha val="70000"/>
            </a:srgbClr>
          </a:solidFill>
          <a:ln w="19080">
            <a:solidFill>
              <a:srgbClr val="ff66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425680" y="2650680"/>
            <a:ext cx="3897360" cy="16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31880" y="3486240"/>
            <a:ext cx="55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072960" y="2293920"/>
            <a:ext cx="2202120" cy="275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28800" y="3851280"/>
            <a:ext cx="1465200" cy="281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30360" y="4848120"/>
            <a:ext cx="146520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10360" y="3851280"/>
            <a:ext cx="146376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75520" y="2787480"/>
            <a:ext cx="146520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95160" y="2752560"/>
            <a:ext cx="1184400" cy="11829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167600" y="2732040"/>
            <a:ext cx="1236600" cy="12384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6275520" y="1741320"/>
            <a:ext cx="1171440" cy="1170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1482840" y="3870360"/>
            <a:ext cx="1179360" cy="1179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073320" y="3222720"/>
            <a:ext cx="4624560" cy="15192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695680" y="2209680"/>
            <a:ext cx="3390480" cy="1598400"/>
            <a:chOff x="2695680" y="2209680"/>
            <a:chExt cx="3390480" cy="1598400"/>
          </a:xfrm>
        </p:grpSpPr>
        <p:sp>
          <p:nvSpPr>
            <p:cNvPr id="491" name=""/>
            <p:cNvSpPr/>
            <p:nvPr/>
          </p:nvSpPr>
          <p:spPr>
            <a:xfrm>
              <a:off x="2695680" y="2230200"/>
              <a:ext cx="3390480" cy="157788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755e46"/>
                </a:gs>
                <a:gs pos="100000">
                  <a:srgbClr val="ffcc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80320" y="2237040"/>
              <a:ext cx="2217600" cy="9846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757546"/>
                </a:gs>
                <a:gs pos="100000">
                  <a:srgbClr val="ff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55600" y="2209680"/>
              <a:ext cx="1042200" cy="701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5e1700"/>
                </a:gs>
                <a:gs pos="100000">
                  <a:srgbClr val="cc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508200" y="3406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terprise 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75120" y="28494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36600" y="4343400"/>
            <a:ext cx="44038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Che"/>
              </a:rPr>
              <a:t>Data Warehousing/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12080" y="3300480"/>
            <a:ext cx="159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Web Lo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9800" y="3156120"/>
            <a:ext cx="1219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67440" y="2303640"/>
            <a:ext cx="161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Transactio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58920" y="4403880"/>
            <a:ext cx="16160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628640" y="2664000"/>
            <a:ext cx="1649520" cy="4600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63640" y="5873760"/>
            <a:ext cx="1649520" cy="4586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0" y="5894280"/>
            <a:ext cx="1649520" cy="459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19880" y="2494080"/>
            <a:ext cx="1649520" cy="4586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78000" y="2665440"/>
            <a:ext cx="4964040" cy="2205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2f5e75"/>
              </a:gs>
              <a:gs pos="100000">
                <a:srgbClr val="66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87720" y="2952720"/>
            <a:ext cx="3192480" cy="143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755e2f"/>
              </a:gs>
              <a:gs pos="100000">
                <a:srgbClr val="ffcc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57520" y="2952720"/>
            <a:ext cx="2266920" cy="839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711c00"/>
              </a:gs>
              <a:gs pos="100000">
                <a:srgbClr val="cc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811400">
            <a:off x="1509840" y="2489040"/>
            <a:ext cx="6551640" cy="2608560"/>
          </a:xfrm>
          <a:prstGeom prst="ellipse">
            <a:avLst/>
          </a:prstGeom>
          <a:noFill/>
          <a:ln cap="rnd" w="28440">
            <a:solidFill>
              <a:srgbClr val="66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2808360" y="2665440"/>
            <a:ext cx="915840" cy="54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5121360" y="4020840"/>
            <a:ext cx="1409760" cy="849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438880" y="2417400"/>
            <a:ext cx="895320" cy="64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808360" y="3863520"/>
            <a:ext cx="1528560" cy="109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111720" y="1239840"/>
            <a:ext cx="1478160" cy="1477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419880" y="4557600"/>
            <a:ext cx="1477800" cy="14781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328760" y="4624560"/>
            <a:ext cx="1479600" cy="14778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1374840" y="1460520"/>
            <a:ext cx="1477800" cy="14796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613880" y="204804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SM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43760" y="52880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SI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76920" y="5157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NI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91360" y="180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R&amp;D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68680" y="3073320"/>
            <a:ext cx="22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eB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Tota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840" y="547560"/>
            <a:ext cx="6202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eBiz Tota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11280" y="5584680"/>
            <a:ext cx="6426360" cy="1216080"/>
          </a:xfrm>
          <a:prstGeom prst="ellipse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465e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75120" y="4508640"/>
            <a:ext cx="3009600" cy="1719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12100"/>
              </a:gs>
              <a:gs pos="50000">
                <a:srgbClr val="808000"/>
              </a:gs>
              <a:gs pos="100000">
                <a:srgbClr val="212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075120" y="4508640"/>
            <a:ext cx="3009600" cy="879480"/>
            <a:chOff x="3075120" y="4508640"/>
            <a:chExt cx="3009600" cy="879480"/>
          </a:xfrm>
        </p:grpSpPr>
        <p:sp>
          <p:nvSpPr>
            <p:cNvPr id="526" name=""/>
            <p:cNvSpPr/>
            <p:nvPr/>
          </p:nvSpPr>
          <p:spPr>
            <a:xfrm>
              <a:off x="3075120" y="4508640"/>
              <a:ext cx="3009600" cy="87948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50000">
                  <a:srgbClr val="3b3b00"/>
                </a:gs>
                <a:gs pos="100000">
                  <a:srgbClr val="8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365280" y="4844880"/>
              <a:ext cx="1072800" cy="3538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4698360" y="4854240"/>
              <a:ext cx="1168200" cy="312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071880" y="3551400"/>
            <a:ext cx="3009960" cy="1719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83500"/>
              </a:gs>
              <a:gs pos="50000">
                <a:srgbClr val="99cc00"/>
              </a:gs>
              <a:gs pos="100000">
                <a:srgbClr val="283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66920" y="3430440"/>
            <a:ext cx="695520" cy="1719360"/>
          </a:xfrm>
          <a:prstGeom prst="rightArrow">
            <a:avLst>
              <a:gd name="adj1" fmla="val 64361"/>
              <a:gd name="adj2" fmla="val 6050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61320" y="322596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ustom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61320" y="391644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ustomer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61320" y="461340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ustomer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122880" y="3440160"/>
            <a:ext cx="695520" cy="1719360"/>
          </a:xfrm>
          <a:prstGeom prst="rightArrow">
            <a:avLst>
              <a:gd name="adj1" fmla="val 64361"/>
              <a:gd name="adj2" fmla="val 6050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3720" y="325440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Supplie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3720" y="394488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Supplier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3720" y="464184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Supplier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92840" y="4218120"/>
            <a:ext cx="0" cy="815760"/>
          </a:xfrm>
          <a:prstGeom prst="line">
            <a:avLst/>
          </a:prstGeom>
          <a:ln w="19080">
            <a:solidFill>
              <a:srgbClr val="99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83120" y="5180040"/>
            <a:ext cx="0" cy="849240"/>
          </a:xfrm>
          <a:prstGeom prst="line">
            <a:avLst/>
          </a:prstGeom>
          <a:ln w="19080">
            <a:solidFill>
              <a:srgbClr val="808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070080" y="3541680"/>
            <a:ext cx="3009960" cy="879480"/>
            <a:chOff x="3070080" y="3541680"/>
            <a:chExt cx="3009960" cy="879480"/>
          </a:xfrm>
        </p:grpSpPr>
        <p:sp>
          <p:nvSpPr>
            <p:cNvPr id="541" name=""/>
            <p:cNvSpPr/>
            <p:nvPr/>
          </p:nvSpPr>
          <p:spPr>
            <a:xfrm>
              <a:off x="3070080" y="3541680"/>
              <a:ext cx="3009960" cy="8794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360600" y="3877920"/>
              <a:ext cx="1073160" cy="3538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4694040" y="3887280"/>
              <a:ext cx="1168560" cy="312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056040" y="2550960"/>
            <a:ext cx="3009960" cy="17193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d1a2d"/>
              </a:gs>
              <a:gs pos="50000">
                <a:srgbClr val="7067af"/>
              </a:gs>
              <a:gs pos="100000">
                <a:srgbClr val="1d1a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873760" y="3191040"/>
            <a:ext cx="0" cy="834840"/>
          </a:xfrm>
          <a:prstGeom prst="line">
            <a:avLst/>
          </a:prstGeom>
          <a:ln w="19080">
            <a:solidFill>
              <a:srgbClr val="7067a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62160" y="2532240"/>
            <a:ext cx="3009960" cy="879120"/>
            <a:chOff x="3062160" y="2532240"/>
            <a:chExt cx="3009960" cy="879120"/>
          </a:xfrm>
        </p:grpSpPr>
        <p:sp>
          <p:nvSpPr>
            <p:cNvPr id="547" name=""/>
            <p:cNvSpPr/>
            <p:nvPr/>
          </p:nvSpPr>
          <p:spPr>
            <a:xfrm>
              <a:off x="3062160" y="2532240"/>
              <a:ext cx="3009960" cy="879120"/>
            </a:xfrm>
            <a:prstGeom prst="ellipse">
              <a:avLst/>
            </a:prstGeom>
            <a:gradFill rotWithShape="0">
              <a:gsLst>
                <a:gs pos="0">
                  <a:srgbClr val="7067af"/>
                </a:gs>
                <a:gs pos="50000">
                  <a:srgbClr val="332f50"/>
                </a:gs>
                <a:gs pos="100000">
                  <a:srgbClr val="7067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352680" y="2868480"/>
              <a:ext cx="1073160" cy="3535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4686120" y="2877840"/>
              <a:ext cx="1168560" cy="3124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355920" y="4243320"/>
            <a:ext cx="0" cy="816120"/>
          </a:xfrm>
          <a:prstGeom prst="line">
            <a:avLst/>
          </a:prstGeom>
          <a:ln w="19080">
            <a:solidFill>
              <a:srgbClr val="99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46560" y="5205240"/>
            <a:ext cx="0" cy="849600"/>
          </a:xfrm>
          <a:prstGeom prst="line">
            <a:avLst/>
          </a:prstGeom>
          <a:ln w="19080">
            <a:solidFill>
              <a:srgbClr val="808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36840" y="3216240"/>
            <a:ext cx="0" cy="835200"/>
          </a:xfrm>
          <a:prstGeom prst="line">
            <a:avLst/>
          </a:prstGeom>
          <a:ln w="19080">
            <a:solidFill>
              <a:srgbClr val="7067a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62160" y="2004840"/>
            <a:ext cx="300996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062160" y="1857240"/>
            <a:ext cx="3003480" cy="1239840"/>
            <a:chOff x="3062160" y="1857240"/>
            <a:chExt cx="3003480" cy="1239840"/>
          </a:xfrm>
        </p:grpSpPr>
        <p:sp>
          <p:nvSpPr>
            <p:cNvPr id="555" name=""/>
            <p:cNvSpPr/>
            <p:nvPr/>
          </p:nvSpPr>
          <p:spPr>
            <a:xfrm>
              <a:off x="4560840" y="1857240"/>
              <a:ext cx="1082880" cy="618840"/>
            </a:xfrm>
            <a:custGeom>
              <a:avLst/>
              <a:gdLst/>
              <a:ahLst/>
              <a:rect l="l" t="t" r="r" b="b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2f50"/>
                </a:gs>
                <a:gs pos="100000">
                  <a:srgbClr val="7067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84080" y="1857240"/>
              <a:ext cx="1076760" cy="618840"/>
            </a:xfrm>
            <a:custGeom>
              <a:avLst/>
              <a:gdLst/>
              <a:ahLst/>
              <a:rect l="l" t="t" r="r" b="b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60840" y="2043720"/>
              <a:ext cx="1504800" cy="635760"/>
            </a:xfrm>
            <a:custGeom>
              <a:avLst/>
              <a:gdLst/>
              <a:ahLst/>
              <a:rect l="l" t="t" r="r" b="b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62160" y="2043720"/>
              <a:ext cx="2919240" cy="1053360"/>
            </a:xfrm>
            <a:custGeom>
              <a:avLst/>
              <a:gdLst/>
              <a:ahLst/>
              <a:rect l="l" t="t" r="r" b="b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57320" y="2219040"/>
              <a:ext cx="15876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5840" y="2377440"/>
              <a:ext cx="1304640" cy="31860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85720" y="27295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560" y="191556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72800" y="191556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01440" y="22438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3767040" y="3597120"/>
            <a:ext cx="1757520" cy="41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cac7e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Biz Consulting</a:t>
            </a:r>
            <a:endParaRPr b="0" lang="en-US" sz="1800" spc="-1" strike="noStrike">
              <a:ln w="0">
                <a:noFill/>
              </a:ln>
              <a:solidFill>
                <a:srgbClr val="cac7e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67040" y="4637160"/>
            <a:ext cx="1757520" cy="320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c5ff2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Biz Solutions</a:t>
            </a:r>
            <a:endParaRPr b="0" lang="en-US" sz="1800" spc="-1" strike="noStrike">
              <a:ln w="0">
                <a:noFill/>
              </a:ln>
              <a:solidFill>
                <a:srgbClr val="c5ff2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767040" y="5584680"/>
            <a:ext cx="1757520" cy="41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aca8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Biz Integration</a:t>
            </a:r>
            <a:endParaRPr b="0" lang="en-US" sz="1800" spc="-1" strike="noStrike">
              <a:ln w="0">
                <a:noFill/>
              </a:ln>
              <a:solidFill>
                <a:srgbClr val="aca8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436680" y="4827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Gulim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037280" y="1882800"/>
            <a:ext cx="1216080" cy="10429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59480" y="1949400"/>
            <a:ext cx="7808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SP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132680" y="1969920"/>
            <a:ext cx="182520" cy="1828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29440" y="218124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6200" y="241632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22960" y="2631960"/>
            <a:ext cx="182880" cy="182520"/>
          </a:xfrm>
          <a:prstGeom prst="ellips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9360" y="5430960"/>
            <a:ext cx="9153360" cy="12160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03760" y="4989600"/>
            <a:ext cx="3035520" cy="900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9560" y="4989600"/>
            <a:ext cx="2990880" cy="88092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166200" y="4584600"/>
            <a:ext cx="2734560" cy="1725480"/>
            <a:chOff x="3166200" y="4584600"/>
            <a:chExt cx="2734560" cy="1725480"/>
          </a:xfrm>
        </p:grpSpPr>
        <p:sp>
          <p:nvSpPr>
            <p:cNvPr id="579" name=""/>
            <p:cNvSpPr/>
            <p:nvPr/>
          </p:nvSpPr>
          <p:spPr>
            <a:xfrm>
              <a:off x="3195720" y="4603680"/>
              <a:ext cx="2698920" cy="1697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21a00"/>
                </a:gs>
                <a:gs pos="50000">
                  <a:srgbClr val="ff6600"/>
                </a:gs>
                <a:gs pos="100000">
                  <a:srgbClr val="421a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02200" y="4584600"/>
              <a:ext cx="2698560" cy="87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3166200" y="4991040"/>
              <a:ext cx="2734560" cy="896400"/>
              <a:chOff x="3166200" y="4991040"/>
              <a:chExt cx="2734560" cy="896400"/>
            </a:xfrm>
          </p:grpSpPr>
          <p:sp>
            <p:nvSpPr>
              <p:cNvPr id="582" name=""/>
              <p:cNvSpPr/>
              <p:nvPr/>
            </p:nvSpPr>
            <p:spPr>
              <a:xfrm>
                <a:off x="3166200" y="5008680"/>
                <a:ext cx="2719080" cy="87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0" y="11604"/>
                    </a:moveTo>
                    <a:arcTo wR="10800" hR="10800" stAng="256046" swAng="974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0" y="11604"/>
                    </a:moveTo>
                    <a:arcTo wR="10800" hR="10800" stAng="256046" swAng="9747847"/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81680" y="4991040"/>
                <a:ext cx="2719080" cy="87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0" y="11604"/>
                    </a:moveTo>
                    <a:arcTo wR="10800" hR="10800" stAng="256046" swAng="974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0" y="11604"/>
                    </a:moveTo>
                    <a:arcTo wR="10800" hR="10800" stAng="256046" swAng="9747847"/>
                  </a:path>
                </a:pathLst>
              </a:custGeom>
              <a:noFill/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4591080" y="5484600"/>
              <a:ext cx="12600" cy="825480"/>
              <a:chOff x="4591080" y="5484600"/>
              <a:chExt cx="12600" cy="825480"/>
            </a:xfrm>
          </p:grpSpPr>
          <p:sp>
            <p:nvSpPr>
              <p:cNvPr id="585" name=""/>
              <p:cNvSpPr/>
              <p:nvPr/>
            </p:nvSpPr>
            <p:spPr>
              <a:xfrm>
                <a:off x="4603680" y="548460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91080" y="54939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 flipH="1" flipV="1">
              <a:off x="4587840" y="4584600"/>
              <a:ext cx="12960" cy="8841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587840" y="4984200"/>
              <a:ext cx="0" cy="5000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458520" y="4761000"/>
              <a:ext cx="2159280" cy="524160"/>
              <a:chOff x="3458520" y="4761000"/>
              <a:chExt cx="2159280" cy="52416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3458520" y="4788000"/>
                <a:ext cx="2136240" cy="497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481560" y="4761000"/>
                <a:ext cx="2136240" cy="4971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3454200" y="5297400"/>
              <a:ext cx="12600" cy="825480"/>
              <a:chOff x="3454200" y="5297400"/>
              <a:chExt cx="12600" cy="825480"/>
            </a:xfrm>
          </p:grpSpPr>
          <p:sp>
            <p:nvSpPr>
              <p:cNvPr id="593" name=""/>
              <p:cNvSpPr/>
              <p:nvPr/>
            </p:nvSpPr>
            <p:spPr>
              <a:xfrm>
                <a:off x="3454200" y="529740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466800" y="53067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635800" y="5294160"/>
              <a:ext cx="12600" cy="825480"/>
              <a:chOff x="5635800" y="5294160"/>
              <a:chExt cx="12600" cy="825480"/>
            </a:xfrm>
          </p:grpSpPr>
          <p:sp>
            <p:nvSpPr>
              <p:cNvPr id="596" name=""/>
              <p:cNvSpPr/>
              <p:nvPr/>
            </p:nvSpPr>
            <p:spPr>
              <a:xfrm>
                <a:off x="5648400" y="529416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35800" y="530352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3617280" y="4728600"/>
              <a:ext cx="2069640" cy="579240"/>
              <a:chOff x="3617280" y="4728600"/>
              <a:chExt cx="2069640" cy="579240"/>
            </a:xfrm>
          </p:grpSpPr>
          <p:sp>
            <p:nvSpPr>
              <p:cNvPr id="599" name=""/>
              <p:cNvSpPr/>
              <p:nvPr/>
            </p:nvSpPr>
            <p:spPr>
              <a:xfrm>
                <a:off x="3617280" y="4740480"/>
                <a:ext cx="2037600" cy="567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49320" y="4728600"/>
                <a:ext cx="2037600" cy="5673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5608800" y="3979800"/>
            <a:ext cx="3049560" cy="900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603760" y="2968560"/>
            <a:ext cx="3035520" cy="900000"/>
          </a:xfrm>
          <a:prstGeom prst="rect">
            <a:avLst/>
          </a:prstGeom>
          <a:gradFill rotWithShape="0">
            <a:gsLst>
              <a:gs pos="0">
                <a:srgbClr val="8765a5"/>
              </a:gs>
              <a:gs pos="100000">
                <a:srgbClr val="3e2e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1360" y="3979800"/>
            <a:ext cx="3005280" cy="881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9560" y="2968560"/>
            <a:ext cx="2990880" cy="881280"/>
          </a:xfrm>
          <a:prstGeom prst="rect">
            <a:avLst/>
          </a:prstGeom>
          <a:gradFill rotWithShape="0">
            <a:gsLst>
              <a:gs pos="0">
                <a:srgbClr val="3e2e4c"/>
              </a:gs>
              <a:gs pos="100000">
                <a:srgbClr val="8765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159720" y="3522600"/>
            <a:ext cx="2734560" cy="1725480"/>
            <a:chOff x="3159720" y="3522600"/>
            <a:chExt cx="2734560" cy="1725480"/>
          </a:xfrm>
        </p:grpSpPr>
        <p:sp>
          <p:nvSpPr>
            <p:cNvPr id="606" name=""/>
            <p:cNvSpPr/>
            <p:nvPr/>
          </p:nvSpPr>
          <p:spPr>
            <a:xfrm>
              <a:off x="3189240" y="3541680"/>
              <a:ext cx="2698920" cy="1697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83500"/>
                </a:gs>
                <a:gs pos="50000">
                  <a:srgbClr val="99cc00"/>
                </a:gs>
                <a:gs pos="100000">
                  <a:srgbClr val="283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720" y="3522600"/>
              <a:ext cx="2698560" cy="8794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3159720" y="3929040"/>
              <a:ext cx="2734560" cy="896400"/>
              <a:chOff x="3159720" y="3929040"/>
              <a:chExt cx="2734560" cy="896400"/>
            </a:xfrm>
          </p:grpSpPr>
          <p:sp>
            <p:nvSpPr>
              <p:cNvPr id="609" name=""/>
              <p:cNvSpPr/>
              <p:nvPr/>
            </p:nvSpPr>
            <p:spPr>
              <a:xfrm>
                <a:off x="3159720" y="3946680"/>
                <a:ext cx="2719080" cy="87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0" y="11604"/>
                    </a:moveTo>
                    <a:arcTo wR="10800" hR="10800" stAng="256046" swAng="974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0" y="11604"/>
                    </a:moveTo>
                    <a:arcTo wR="10800" hR="10800" stAng="256046" swAng="9747847"/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75200" y="3929040"/>
                <a:ext cx="2719080" cy="87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0" y="11604"/>
                    </a:moveTo>
                    <a:arcTo wR="10800" hR="10800" stAng="256046" swAng="974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0" y="11604"/>
                    </a:moveTo>
                    <a:arcTo wR="10800" hR="10800" stAng="256046" swAng="9747847"/>
                  </a:path>
                </a:pathLst>
              </a:custGeom>
              <a:noFill/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584600" y="4422600"/>
              <a:ext cx="12600" cy="825480"/>
              <a:chOff x="4584600" y="4422600"/>
              <a:chExt cx="12600" cy="825480"/>
            </a:xfrm>
          </p:grpSpPr>
          <p:sp>
            <p:nvSpPr>
              <p:cNvPr id="612" name=""/>
              <p:cNvSpPr/>
              <p:nvPr/>
            </p:nvSpPr>
            <p:spPr>
              <a:xfrm>
                <a:off x="4597200" y="442260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84600" y="44319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flipH="1" flipV="1">
              <a:off x="4581360" y="3522600"/>
              <a:ext cx="12960" cy="8841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581360" y="3922200"/>
              <a:ext cx="0" cy="5000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452040" y="3699000"/>
              <a:ext cx="2159280" cy="524160"/>
              <a:chOff x="3452040" y="3699000"/>
              <a:chExt cx="2159280" cy="52416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3452040" y="3726000"/>
                <a:ext cx="2136240" cy="497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475080" y="3699000"/>
                <a:ext cx="2136240" cy="4971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447720" y="4235400"/>
              <a:ext cx="12600" cy="825480"/>
              <a:chOff x="3447720" y="4235400"/>
              <a:chExt cx="12600" cy="825480"/>
            </a:xfrm>
          </p:grpSpPr>
          <p:sp>
            <p:nvSpPr>
              <p:cNvPr id="620" name=""/>
              <p:cNvSpPr/>
              <p:nvPr/>
            </p:nvSpPr>
            <p:spPr>
              <a:xfrm>
                <a:off x="3447720" y="423540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60320" y="42447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629320" y="4232160"/>
              <a:ext cx="12600" cy="825480"/>
              <a:chOff x="5629320" y="4232160"/>
              <a:chExt cx="12600" cy="825480"/>
            </a:xfrm>
          </p:grpSpPr>
          <p:sp>
            <p:nvSpPr>
              <p:cNvPr id="623" name=""/>
              <p:cNvSpPr/>
              <p:nvPr/>
            </p:nvSpPr>
            <p:spPr>
              <a:xfrm>
                <a:off x="5641920" y="423216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29320" y="424152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10800" y="3666600"/>
              <a:ext cx="2069640" cy="579240"/>
              <a:chOff x="3610800" y="3666600"/>
              <a:chExt cx="2069640" cy="579240"/>
            </a:xfrm>
          </p:grpSpPr>
          <p:sp>
            <p:nvSpPr>
              <p:cNvPr id="626" name=""/>
              <p:cNvSpPr/>
              <p:nvPr/>
            </p:nvSpPr>
            <p:spPr>
              <a:xfrm>
                <a:off x="3610800" y="3678480"/>
                <a:ext cx="2037600" cy="567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42840" y="3666600"/>
                <a:ext cx="2037600" cy="5673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3153240" y="2532240"/>
            <a:ext cx="2734560" cy="1725480"/>
            <a:chOff x="3153240" y="2532240"/>
            <a:chExt cx="2734560" cy="1725480"/>
          </a:xfrm>
        </p:grpSpPr>
        <p:sp>
          <p:nvSpPr>
            <p:cNvPr id="629" name=""/>
            <p:cNvSpPr/>
            <p:nvPr/>
          </p:nvSpPr>
          <p:spPr>
            <a:xfrm>
              <a:off x="3182760" y="2551320"/>
              <a:ext cx="2698920" cy="1697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d1a2d"/>
                </a:gs>
                <a:gs pos="50000">
                  <a:srgbClr val="7067af"/>
                </a:gs>
                <a:gs pos="100000">
                  <a:srgbClr val="1d1a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89240" y="2532240"/>
              <a:ext cx="2698560" cy="879480"/>
            </a:xfrm>
            <a:prstGeom prst="ellipse">
              <a:avLst/>
            </a:prstGeom>
            <a:gradFill rotWithShape="0">
              <a:gsLst>
                <a:gs pos="0">
                  <a:srgbClr val="7067af"/>
                </a:gs>
                <a:gs pos="50000">
                  <a:srgbClr val="332f50"/>
                </a:gs>
                <a:gs pos="100000">
                  <a:srgbClr val="7067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3153240" y="2938680"/>
              <a:ext cx="2734560" cy="896400"/>
              <a:chOff x="3153240" y="2938680"/>
              <a:chExt cx="2734560" cy="896400"/>
            </a:xfrm>
          </p:grpSpPr>
          <p:sp>
            <p:nvSpPr>
              <p:cNvPr id="632" name=""/>
              <p:cNvSpPr/>
              <p:nvPr/>
            </p:nvSpPr>
            <p:spPr>
              <a:xfrm>
                <a:off x="3153240" y="2956320"/>
                <a:ext cx="2719080" cy="87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0" y="11604"/>
                    </a:moveTo>
                    <a:arcTo wR="10800" hR="10800" stAng="256046" swAng="974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0" y="11604"/>
                    </a:moveTo>
                    <a:arcTo wR="10800" hR="10800" stAng="256046" swAng="9747847"/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168720" y="2938680"/>
                <a:ext cx="2719080" cy="87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0" y="11604"/>
                    </a:moveTo>
                    <a:arcTo wR="10800" hR="10800" stAng="256046" swAng="974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0" y="11604"/>
                    </a:moveTo>
                    <a:arcTo wR="10800" hR="10800" stAng="256046" swAng="9747847"/>
                  </a:path>
                </a:pathLst>
              </a:custGeom>
              <a:noFill/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578120" y="3432240"/>
              <a:ext cx="12600" cy="825480"/>
              <a:chOff x="4578120" y="3432240"/>
              <a:chExt cx="12600" cy="825480"/>
            </a:xfrm>
          </p:grpSpPr>
          <p:sp>
            <p:nvSpPr>
              <p:cNvPr id="635" name=""/>
              <p:cNvSpPr/>
              <p:nvPr/>
            </p:nvSpPr>
            <p:spPr>
              <a:xfrm>
                <a:off x="4590720" y="343224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578120" y="344160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 flipH="1" flipV="1">
              <a:off x="4574880" y="2532240"/>
              <a:ext cx="12960" cy="8841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574880" y="2931840"/>
              <a:ext cx="0" cy="5000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445560" y="2708640"/>
              <a:ext cx="2159280" cy="524160"/>
              <a:chOff x="3445560" y="2708640"/>
              <a:chExt cx="2159280" cy="52416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3445560" y="2735640"/>
                <a:ext cx="2136240" cy="497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468600" y="2708640"/>
                <a:ext cx="2136240" cy="4971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3441240" y="3245040"/>
              <a:ext cx="12600" cy="825480"/>
              <a:chOff x="3441240" y="3245040"/>
              <a:chExt cx="12600" cy="825480"/>
            </a:xfrm>
          </p:grpSpPr>
          <p:sp>
            <p:nvSpPr>
              <p:cNvPr id="643" name=""/>
              <p:cNvSpPr/>
              <p:nvPr/>
            </p:nvSpPr>
            <p:spPr>
              <a:xfrm>
                <a:off x="3441240" y="324504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53840" y="325440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5622840" y="3241800"/>
              <a:ext cx="12600" cy="825480"/>
              <a:chOff x="5622840" y="3241800"/>
              <a:chExt cx="12600" cy="825480"/>
            </a:xfrm>
          </p:grpSpPr>
          <p:sp>
            <p:nvSpPr>
              <p:cNvPr id="646" name=""/>
              <p:cNvSpPr/>
              <p:nvPr/>
            </p:nvSpPr>
            <p:spPr>
              <a:xfrm>
                <a:off x="5635440" y="3241800"/>
                <a:ext cx="0" cy="81612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22840" y="32511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604320" y="2676240"/>
              <a:ext cx="2069640" cy="579240"/>
              <a:chOff x="3604320" y="2676240"/>
              <a:chExt cx="2069640" cy="579240"/>
            </a:xfrm>
          </p:grpSpPr>
          <p:sp>
            <p:nvSpPr>
              <p:cNvPr id="649" name=""/>
              <p:cNvSpPr/>
              <p:nvPr/>
            </p:nvSpPr>
            <p:spPr>
              <a:xfrm>
                <a:off x="3604320" y="2688120"/>
                <a:ext cx="2037600" cy="567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6360" y="2676240"/>
                <a:ext cx="2037600" cy="5673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"/>
          <p:cNvSpPr/>
          <p:nvPr/>
        </p:nvSpPr>
        <p:spPr>
          <a:xfrm>
            <a:off x="3189240" y="2081160"/>
            <a:ext cx="269892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189240" y="1909800"/>
            <a:ext cx="2693520" cy="1239840"/>
            <a:chOff x="3189240" y="1909800"/>
            <a:chExt cx="2693520" cy="1239840"/>
          </a:xfrm>
        </p:grpSpPr>
        <p:sp>
          <p:nvSpPr>
            <p:cNvPr id="653" name=""/>
            <p:cNvSpPr/>
            <p:nvPr/>
          </p:nvSpPr>
          <p:spPr>
            <a:xfrm>
              <a:off x="4533480" y="1909800"/>
              <a:ext cx="971280" cy="618840"/>
            </a:xfrm>
            <a:custGeom>
              <a:avLst/>
              <a:gdLst/>
              <a:ahLst/>
              <a:rect l="l" t="t" r="r" b="b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2f50"/>
                </a:gs>
                <a:gs pos="100000">
                  <a:srgbClr val="7067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67600" y="1909800"/>
              <a:ext cx="965520" cy="618840"/>
            </a:xfrm>
            <a:custGeom>
              <a:avLst/>
              <a:gdLst/>
              <a:ahLst/>
              <a:rect l="l" t="t" r="r" b="b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3480" y="2096280"/>
              <a:ext cx="1349280" cy="635760"/>
            </a:xfrm>
            <a:custGeom>
              <a:avLst/>
              <a:gdLst/>
              <a:ahLst/>
              <a:rect l="l" t="t" r="r" b="b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096280"/>
              <a:ext cx="2618280" cy="1053360"/>
            </a:xfrm>
            <a:custGeom>
              <a:avLst/>
              <a:gdLst/>
              <a:ahLst/>
              <a:rect l="l" t="t" r="r" b="b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12400" y="2271600"/>
              <a:ext cx="14238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27960" y="2430000"/>
              <a:ext cx="1170000" cy="31860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98320" y="2782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27960" y="1968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4640" y="1968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90200" y="22964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3931560" y="3502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eC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50480" y="350208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W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50120" y="38973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IRM/P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35800" y="38955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M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032000" y="55832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50120" y="5581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49040" y="5977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PA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08320" y="597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32600" y="5108400"/>
            <a:ext cx="20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Network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Autom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Enterpris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20240" y="450864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CRM/D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49040" y="4471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EIP/E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49400" y="4862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ERP/S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18800" y="48798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GW/K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32600" y="4149720"/>
            <a:ext cx="16761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cff33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Arial"/>
                <a:ea typeface="Gulim"/>
              </a:rPr>
              <a:t>SI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33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Arial"/>
                <a:ea typeface="Gulim"/>
              </a:rPr>
              <a:t>SI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33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Arial"/>
                <a:ea typeface="Gulim"/>
              </a:rPr>
              <a:t>SI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34040" y="3141720"/>
            <a:ext cx="162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cccff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Gulim"/>
              </a:rPr>
              <a:t>Web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Gulim"/>
              </a:rPr>
              <a:t>Web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Gulim"/>
              </a:rPr>
              <a:t>Web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739800" y="5280120"/>
            <a:ext cx="1479600" cy="29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>
                        <a:alpha val="3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5000"/>
                    </a:srgbClr>
                  </a:outerShdw>
                </a:effectLst>
                <a:latin typeface="Arial Black"/>
              </a:rPr>
              <a:t>NI Area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1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9040" y="4289400"/>
            <a:ext cx="1479600" cy="29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>
                        <a:alpha val="3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5000"/>
                    </a:srgbClr>
                  </a:outerShdw>
                </a:effectLst>
                <a:latin typeface="Arial Black"/>
              </a:rPr>
              <a:t>SI Area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1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38280" y="3282840"/>
            <a:ext cx="2133360" cy="29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ffffff">
                        <a:alpha val="3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5000"/>
                    </a:srgbClr>
                  </a:outerShdw>
                </a:effectLst>
                <a:latin typeface="Arial Black"/>
              </a:rPr>
              <a:t>Web SI Area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1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1" name=""/>
          <p:cNvSpPr/>
          <p:nvPr/>
        </p:nvSpPr>
        <p:spPr>
          <a:xfrm>
            <a:off x="436680" y="4827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Gulim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72440" y="1589040"/>
            <a:ext cx="1216080" cy="10429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694280" y="1655640"/>
            <a:ext cx="7657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Web 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ystem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64600" y="211608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461360" y="191124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58120" y="1693800"/>
            <a:ext cx="182520" cy="182520"/>
          </a:xfrm>
          <a:prstGeom prst="ellipse">
            <a:avLst/>
          </a:prstGeom>
          <a:solidFill>
            <a:srgbClr val="8f4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470720" y="2332080"/>
            <a:ext cx="182520" cy="18252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 flipV="1">
            <a:off x="3292560" y="4069800"/>
            <a:ext cx="4241880" cy="709560"/>
          </a:xfrm>
          <a:prstGeom prst="parallelogram">
            <a:avLst>
              <a:gd name="adj" fmla="val 149455"/>
            </a:avLst>
          </a:prstGeom>
          <a:gradFill rotWithShape="0">
            <a:gsLst>
              <a:gs pos="0">
                <a:srgbClr val="ff2994"/>
              </a:gs>
              <a:gs pos="100000">
                <a:srgbClr val="420a26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282840" y="5175360"/>
            <a:ext cx="4245120" cy="690480"/>
          </a:xfrm>
          <a:prstGeom prst="parallelogram">
            <a:avLst>
              <a:gd name="adj" fmla="val 153702"/>
            </a:avLst>
          </a:prstGeom>
          <a:gradFill rotWithShape="0">
            <a:gsLst>
              <a:gs pos="0">
                <a:srgbClr val="b98667"/>
              </a:gs>
              <a:gs pos="100000">
                <a:srgbClr val="30231a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282840" y="296532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6a58a4"/>
              </a:gs>
              <a:gs pos="100000">
                <a:srgbClr val="1b172a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292560" y="1860120"/>
            <a:ext cx="4241880" cy="641520"/>
          </a:xfrm>
          <a:prstGeom prst="parallelogram">
            <a:avLst>
              <a:gd name="adj" fmla="val 165091"/>
            </a:avLst>
          </a:prstGeom>
          <a:gradFill rotWithShape="0">
            <a:gsLst>
              <a:gs pos="0">
                <a:srgbClr val="2b66a7"/>
              </a:gs>
              <a:gs pos="100000">
                <a:srgbClr val="0b1a2b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59080" y="1860480"/>
            <a:ext cx="0" cy="33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219400" y="4070520"/>
            <a:ext cx="4241880" cy="979200"/>
          </a:xfrm>
          <a:prstGeom prst="parallelogram">
            <a:avLst>
              <a:gd name="adj" fmla="val 108300"/>
            </a:avLst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62440" y="2963880"/>
            <a:ext cx="1039680" cy="2081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209680" y="5175360"/>
            <a:ext cx="4245120" cy="979200"/>
          </a:xfrm>
          <a:prstGeom prst="parallelogram">
            <a:avLst>
              <a:gd name="adj" fmla="val 108382"/>
            </a:avLst>
          </a:prstGeom>
          <a:gradFill rotWithShape="0">
            <a:gsLst>
              <a:gs pos="0">
                <a:srgbClr val="63564e"/>
              </a:gs>
              <a:gs pos="100000">
                <a:srgbClr val="d8bcaa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09680" y="296388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c475c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187720" y="2839680"/>
            <a:ext cx="0" cy="33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405400" y="2839680"/>
            <a:ext cx="0" cy="33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62440" y="1857240"/>
            <a:ext cx="1039680" cy="208152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77840" y="1860480"/>
            <a:ext cx="6950160" cy="180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20960" y="1862280"/>
            <a:ext cx="0" cy="9777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047600" y="617364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19400" y="1860480"/>
            <a:ext cx="4241880" cy="979560"/>
          </a:xfrm>
          <a:prstGeom prst="parallelogram">
            <a:avLst>
              <a:gd name="adj" fmla="val 108260"/>
            </a:avLst>
          </a:prstGeom>
          <a:gradFill rotWithShape="0">
            <a:gsLst>
              <a:gs pos="0">
                <a:srgbClr val="2a4562"/>
              </a:gs>
              <a:gs pos="100000">
                <a:srgbClr val="5d96d5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33560" y="3416400"/>
            <a:ext cx="31006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384720" y="220680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W/E-CRM / C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7480" y="551340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-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835720" y="4638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72440" y="46213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07920" y="34732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GW/K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550400" y="35244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211920" y="30639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547040" y="2502000"/>
            <a:ext cx="0" cy="3363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461280" y="183348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66680" y="283860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063800" y="395928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060560" y="506088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3680" y="3192480"/>
            <a:ext cx="111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&amp;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36760" y="43466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4800" y="549756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Market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17720" y="28684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914480" y="39895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11240" y="511020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06840" y="458136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984560" y="4194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79440" y="30733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IP/E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75200" y="4226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01800" y="426096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&amp;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54720" y="220680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699320" y="1862280"/>
            <a:ext cx="0" cy="9777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96080" y="28684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693200" y="39895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89960" y="511020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736400" y="32781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736760" y="2206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737120" y="55040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B2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5560" y="444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Gulim"/>
              </a:rPr>
              <a:t>eBiz Sector &amp;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3200" y="0"/>
                </a:ln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5126600">
            <a:off x="2060640" y="628560"/>
            <a:ext cx="6432480" cy="5988240"/>
          </a:xfrm>
          <a:prstGeom prst="blockArc">
            <a:avLst>
              <a:gd name="adj1" fmla="val 15103810"/>
              <a:gd name="adj2" fmla="val 17296190"/>
              <a:gd name="adj3" fmla="val 42384"/>
            </a:avLst>
          </a:prstGeom>
          <a:solidFill>
            <a:srgbClr val="ff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9040" y="3031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점 사업 분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6400" y="833400"/>
            <a:ext cx="3930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사업부문별 균형과 내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ko-KR" sz="1800" spc="-1" strike="noStrike">
                <a:solidFill>
                  <a:srgbClr val="ffcc00"/>
                </a:solidFill>
                <a:latin typeface="Gulim"/>
                <a:ea typeface="Gulim"/>
              </a:rPr>
              <a:t>아웃소싱을 통한 원가절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3413"/>
                </a:ln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ff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25960" y="25160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12856800">
            <a:off x="2453040" y="-73800"/>
            <a:ext cx="7002360" cy="70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023" swAng="1813340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023" swAng="1813340"/>
              </a:path>
            </a:pathLst>
          </a:custGeom>
          <a:noFill/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3413"/>
                </a:ln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164640" y="447192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86600" y="337500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57840" y="44053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6400" y="3722760"/>
            <a:ext cx="199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Web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Publ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Gulim"/>
                <a:ea typeface="Gulim"/>
              </a:rPr>
              <a:t>DB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096960" y="23572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5e7517">
                  <a:alpha val="0"/>
                </a:srgbClr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601640" y="824040"/>
            <a:ext cx="6161040" cy="5328360"/>
            <a:chOff x="1601640" y="824040"/>
            <a:chExt cx="6161040" cy="5328360"/>
          </a:xfrm>
        </p:grpSpPr>
        <p:sp>
          <p:nvSpPr>
            <p:cNvPr id="758" name=""/>
            <p:cNvSpPr/>
            <p:nvPr/>
          </p:nvSpPr>
          <p:spPr>
            <a:xfrm>
              <a:off x="4011840" y="3812040"/>
              <a:ext cx="1875960" cy="187380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98840" y="427824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42f"/>
                </a:gs>
                <a:gs pos="100000">
                  <a:srgbClr val="1fb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01640" y="293580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11840" y="2403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14920" y="2935800"/>
              <a:ext cx="18759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98840" y="293580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48360" y="269820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88160" y="269820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43920" y="140508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67517"/>
                </a:gs>
                <a:gs pos="100000">
                  <a:srgbClr val="99ff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43920" y="82404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48000" y="473040"/>
            <a:ext cx="2766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629080" y="2165400"/>
            <a:ext cx="5991120" cy="863640"/>
          </a:xfrm>
          <a:prstGeom prst="rect">
            <a:avLst/>
          </a:prstGeom>
          <a:gradFill rotWithShape="0">
            <a:gsLst>
              <a:gs pos="0">
                <a:srgbClr val="752f00">
                  <a:alpha val="0"/>
                </a:srgbClr>
              </a:gs>
              <a:gs pos="100000">
                <a:srgbClr val="ff6600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68680" y="4863960"/>
            <a:ext cx="4151520" cy="1206720"/>
          </a:xfrm>
          <a:prstGeom prst="rect">
            <a:avLst/>
          </a:prstGeom>
          <a:gradFill rotWithShape="0">
            <a:gsLst>
              <a:gs pos="0">
                <a:srgbClr val="004646">
                  <a:alpha val="0"/>
                </a:srgbClr>
              </a:gs>
              <a:gs pos="100000">
                <a:srgbClr val="009999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127320" y="3029040"/>
            <a:ext cx="5492880" cy="931680"/>
          </a:xfrm>
          <a:prstGeom prst="rect">
            <a:avLst/>
          </a:prstGeom>
          <a:gradFill rotWithShape="0">
            <a:gsLst>
              <a:gs pos="0">
                <a:srgbClr val="5e4600">
                  <a:alpha val="0"/>
                </a:srgbClr>
              </a:gs>
              <a:gs pos="100000">
                <a:srgbClr val="cc9900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728880" y="3960720"/>
            <a:ext cx="4891320" cy="905040"/>
          </a:xfrm>
          <a:prstGeom prst="rect">
            <a:avLst/>
          </a:prstGeom>
          <a:gradFill rotWithShape="0">
            <a:gsLst>
              <a:gs pos="0">
                <a:srgbClr val="5e7517">
                  <a:alpha val="0"/>
                </a:srgbClr>
              </a:gs>
              <a:gs pos="100000">
                <a:srgbClr val="ccff33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60640" y="3029040"/>
            <a:ext cx="56595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28880" y="3960720"/>
            <a:ext cx="489132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17840" y="4865760"/>
            <a:ext cx="43023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1440" y="607068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90840" y="5221440"/>
            <a:ext cx="32806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607640" y="4167360"/>
            <a:ext cx="314352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074120" y="3333600"/>
            <a:ext cx="3359880" cy="276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10280" y="2367000"/>
            <a:ext cx="32788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41440" y="1598760"/>
            <a:ext cx="4677840" cy="4475880"/>
            <a:chOff x="541440" y="1598760"/>
            <a:chExt cx="4677840" cy="4475880"/>
          </a:xfrm>
        </p:grpSpPr>
        <p:grpSp>
          <p:nvGrpSpPr>
            <p:cNvPr id="782" name=""/>
            <p:cNvGrpSpPr/>
            <p:nvPr/>
          </p:nvGrpSpPr>
          <p:grpSpPr>
            <a:xfrm>
              <a:off x="541440" y="4569840"/>
              <a:ext cx="4677840" cy="1504800"/>
              <a:chOff x="541440" y="4569840"/>
              <a:chExt cx="4677840" cy="1504800"/>
            </a:xfrm>
          </p:grpSpPr>
          <p:sp>
            <p:nvSpPr>
              <p:cNvPr id="783" name=""/>
              <p:cNvSpPr/>
              <p:nvPr/>
            </p:nvSpPr>
            <p:spPr>
              <a:xfrm>
                <a:off x="1007280" y="4569840"/>
                <a:ext cx="3601440" cy="5407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41440" y="5105880"/>
                <a:ext cx="4172040" cy="96372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c5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222080" y="4578840"/>
                <a:ext cx="997200" cy="149580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043280" y="3770640"/>
              <a:ext cx="3480840" cy="1194840"/>
              <a:chOff x="1043280" y="3770640"/>
              <a:chExt cx="3480840" cy="1194840"/>
            </a:xfrm>
          </p:grpSpPr>
          <p:sp>
            <p:nvSpPr>
              <p:cNvPr id="787" name=""/>
              <p:cNvSpPr/>
              <p:nvPr/>
            </p:nvSpPr>
            <p:spPr>
              <a:xfrm>
                <a:off x="1389960" y="3770640"/>
                <a:ext cx="2679840" cy="4291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43280" y="4196160"/>
                <a:ext cx="3104640" cy="76536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406000"/>
                  </a:gs>
                  <a:gs pos="100000">
                    <a:srgbClr val="8cd2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82160" y="3777840"/>
                <a:ext cx="741960" cy="118764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437840" y="3053160"/>
              <a:ext cx="2570040" cy="1040040"/>
              <a:chOff x="1437840" y="3053160"/>
              <a:chExt cx="2570040" cy="1040040"/>
            </a:xfrm>
          </p:grpSpPr>
          <p:sp>
            <p:nvSpPr>
              <p:cNvPr id="791" name=""/>
              <p:cNvSpPr/>
              <p:nvPr/>
            </p:nvSpPr>
            <p:spPr>
              <a:xfrm>
                <a:off x="3381480" y="3053160"/>
                <a:ext cx="626400" cy="104004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72640" y="3053160"/>
                <a:ext cx="1797840" cy="28044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37840" y="3333600"/>
                <a:ext cx="2313360" cy="75312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820520" y="2319480"/>
              <a:ext cx="1678320" cy="914040"/>
              <a:chOff x="1820520" y="2319480"/>
              <a:chExt cx="1678320" cy="914040"/>
            </a:xfrm>
          </p:grpSpPr>
          <p:sp>
            <p:nvSpPr>
              <p:cNvPr id="795" name=""/>
              <p:cNvSpPr/>
              <p:nvPr/>
            </p:nvSpPr>
            <p:spPr>
              <a:xfrm>
                <a:off x="2172960" y="2325600"/>
                <a:ext cx="887040" cy="14616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820520" y="2468160"/>
                <a:ext cx="1504080" cy="76536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67120" y="2319480"/>
                <a:ext cx="531720" cy="90828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2214000" y="1598760"/>
              <a:ext cx="780840" cy="764280"/>
              <a:chOff x="2214000" y="1598760"/>
              <a:chExt cx="780840" cy="764280"/>
            </a:xfrm>
          </p:grpSpPr>
          <p:sp>
            <p:nvSpPr>
              <p:cNvPr id="799" name=""/>
              <p:cNvSpPr/>
              <p:nvPr/>
            </p:nvSpPr>
            <p:spPr>
              <a:xfrm>
                <a:off x="2214000" y="1598760"/>
                <a:ext cx="714960" cy="76428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53480" y="1598760"/>
                <a:ext cx="441360" cy="76068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1" name=""/>
          <p:cNvSpPr/>
          <p:nvPr/>
        </p:nvSpPr>
        <p:spPr>
          <a:xfrm>
            <a:off x="1823400" y="354348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058120" y="256392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76200" y="545004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76200" y="44258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1760" y="60753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Gulim"/>
              </a:rPr>
              <a:t>Source : Arthur D.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39440" y="590400"/>
            <a:ext cx="38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Gulim"/>
              </a:rPr>
              <a:t>eBusin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52800" y="66528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 e-Business </a:t>
            </a:r>
            <a:r>
              <a:rPr b="1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혁신 단계 </a:t>
            </a:r>
            <a:r>
              <a:rPr b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746440" y="1863720"/>
            <a:ext cx="4600440" cy="922320"/>
          </a:xfrm>
          <a:prstGeom prst="rect">
            <a:avLst/>
          </a:prstGeom>
          <a:gradFill rotWithShape="0">
            <a:gsLst>
              <a:gs pos="0">
                <a:srgbClr val="175e75">
                  <a:alpha val="0"/>
                </a:srgbClr>
              </a:gs>
              <a:gs pos="100000">
                <a:srgbClr val="33cc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73240" y="2786040"/>
            <a:ext cx="4600800" cy="944640"/>
          </a:xfrm>
          <a:prstGeom prst="rect">
            <a:avLst/>
          </a:prstGeom>
          <a:gradFill rotWithShape="0">
            <a:gsLst>
              <a:gs pos="0">
                <a:srgbClr val="175e75">
                  <a:alpha val="0"/>
                </a:srgbClr>
              </a:gs>
              <a:gs pos="100000">
                <a:srgbClr val="33cc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53000" y="3724200"/>
            <a:ext cx="4600440" cy="917640"/>
          </a:xfrm>
          <a:prstGeom prst="rect">
            <a:avLst/>
          </a:prstGeom>
          <a:gradFill rotWithShape="0">
            <a:gsLst>
              <a:gs pos="0">
                <a:srgbClr val="004e6a">
                  <a:alpha val="0"/>
                </a:srgbClr>
              </a:gs>
              <a:gs pos="100000">
                <a:srgbClr val="00abe8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80000" y="4641840"/>
            <a:ext cx="3962520" cy="1523880"/>
          </a:xfrm>
          <a:prstGeom prst="rect">
            <a:avLst/>
          </a:prstGeom>
          <a:gradFill rotWithShape="0">
            <a:gsLst>
              <a:gs pos="0">
                <a:srgbClr val="004b66">
                  <a:alpha val="0"/>
                </a:srgbClr>
              </a:gs>
              <a:gs pos="100000">
                <a:srgbClr val="00a4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25520" y="6178680"/>
            <a:ext cx="8217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68560" y="4654440"/>
            <a:ext cx="6786360" cy="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562040" y="3730680"/>
            <a:ext cx="5803920" cy="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028960" y="2787480"/>
            <a:ext cx="4765680" cy="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168560" y="4641840"/>
            <a:ext cx="3687480" cy="549360"/>
          </a:xfrm>
          <a:custGeom>
            <a:avLst/>
            <a:gdLst/>
            <a:ahLst/>
            <a:rect l="l" t="t" r="r" b="b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906720" y="3714840"/>
            <a:ext cx="863640" cy="1330200"/>
          </a:xfrm>
          <a:custGeom>
            <a:avLst/>
            <a:gdLst/>
            <a:ahLst/>
            <a:rect l="l" t="t" r="r" b="b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695600" y="3724200"/>
            <a:ext cx="2471760" cy="358920"/>
          </a:xfrm>
          <a:custGeom>
            <a:avLst/>
            <a:gdLst/>
            <a:ahLst/>
            <a:rect l="l" t="t" r="r" b="b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35160" y="4073400"/>
            <a:ext cx="3181320" cy="963720"/>
          </a:xfrm>
          <a:custGeom>
            <a:avLst/>
            <a:gdLst/>
            <a:ahLst/>
            <a:rect l="l" t="t" r="r" b="b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246400" y="2793960"/>
            <a:ext cx="1220760" cy="187200"/>
          </a:xfrm>
          <a:custGeom>
            <a:avLst/>
            <a:gdLst/>
            <a:ahLst/>
            <a:rect l="l" t="t" r="r" b="b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760400" y="2976480"/>
            <a:ext cx="2068560" cy="979560"/>
          </a:xfrm>
          <a:custGeom>
            <a:avLst/>
            <a:gdLst/>
            <a:ahLst/>
            <a:rect l="l" t="t" r="r" b="b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01840" y="1863720"/>
            <a:ext cx="982800" cy="977760"/>
          </a:xfrm>
          <a:custGeom>
            <a:avLst/>
            <a:gdLst/>
            <a:ahLst/>
            <a:rect l="l" t="t" r="r" b="b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336840" y="2786040"/>
            <a:ext cx="733680" cy="1162080"/>
          </a:xfrm>
          <a:custGeom>
            <a:avLst/>
            <a:gdLst/>
            <a:ahLst/>
            <a:rect l="l" t="t" r="r" b="b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92280" y="5186520"/>
            <a:ext cx="4268520" cy="979200"/>
          </a:xfrm>
          <a:custGeom>
            <a:avLst/>
            <a:gdLst/>
            <a:ahLst/>
            <a:rect l="l" t="t" r="r" b="b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59320" y="4651200"/>
            <a:ext cx="1020600" cy="1519560"/>
          </a:xfrm>
          <a:custGeom>
            <a:avLst/>
            <a:gdLst/>
            <a:ahLst/>
            <a:rect l="l" t="t" r="r" b="b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70200" y="1863720"/>
            <a:ext cx="604800" cy="973080"/>
          </a:xfrm>
          <a:custGeom>
            <a:avLst/>
            <a:gdLst/>
            <a:ahLst/>
            <a:rect l="l" t="t" r="r" b="b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60400" y="5472000"/>
            <a:ext cx="2919600" cy="3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695600" y="4425840"/>
            <a:ext cx="2792160" cy="3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62320" y="2475000"/>
            <a:ext cx="1334880" cy="178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95600" y="3300480"/>
            <a:ext cx="2249280" cy="41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299200" y="4834080"/>
            <a:ext cx="2719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49840" y="3828960"/>
            <a:ext cx="2719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공급업체와의 </a:t>
            </a:r>
            <a:r>
              <a:rPr b="1" lang="en-GB" sz="1100" spc="-1" strike="noStrike">
                <a:solidFill>
                  <a:srgbClr val="000000"/>
                </a:solidFill>
                <a:latin typeface="Gulim"/>
                <a:ea typeface="Gulim"/>
              </a:rPr>
              <a:t>Win-Win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05360" y="2886120"/>
            <a:ext cx="3787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제품 및 서비스의 재구성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예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개별화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최초 진입자의 이익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375000" y="2181240"/>
            <a:ext cx="271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81200" y="617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Gulim"/>
                <a:ea typeface="Gulim"/>
              </a:rPr>
              <a:t>출처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: P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14440" y="378000"/>
            <a:ext cx="45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eBusiness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의 기회요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25520" y="1863720"/>
            <a:ext cx="2041560" cy="431496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41280" y="1091880"/>
            <a:ext cx="6390720" cy="4820760"/>
            <a:chOff x="1241280" y="1091880"/>
            <a:chExt cx="6390720" cy="4820760"/>
          </a:xfrm>
        </p:grpSpPr>
        <p:sp>
          <p:nvSpPr>
            <p:cNvPr id="63" name=""/>
            <p:cNvSpPr/>
            <p:nvPr/>
          </p:nvSpPr>
          <p:spPr>
            <a:xfrm>
              <a:off x="2569680" y="435924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601600">
              <a:off x="1940400" y="253692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601600">
              <a:off x="1989720" y="2397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601600">
              <a:off x="1917000" y="2386800"/>
              <a:ext cx="4938840" cy="25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5cbdb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20602200">
              <a:off x="1960920" y="2383200"/>
              <a:ext cx="4891680" cy="254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829b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601600">
              <a:off x="1922400" y="2395440"/>
              <a:ext cx="4924440" cy="244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8f8fc6"/>
                </a:gs>
                <a:gs pos="100000">
                  <a:srgbClr val="33339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20602200">
              <a:off x="1931760" y="2391480"/>
              <a:ext cx="4942440" cy="252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52200" y="3632040"/>
              <a:ext cx="152028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fe6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539200">
              <a:off x="1600920" y="1875960"/>
              <a:ext cx="5670720" cy="325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95040" y="3925080"/>
              <a:ext cx="89172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fe6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0601600">
              <a:off x="3256200" y="301320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8840" y="359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9800" y="2549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4520" y="2810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01000" y="3862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84720" y="4452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24840" y="4111560"/>
              <a:ext cx="748440" cy="93060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601600">
              <a:off x="3344040" y="3230640"/>
              <a:ext cx="2241360" cy="9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1920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/>
          <p:nvPr/>
        </p:nvCxnSpPr>
        <p:spPr>
          <a:xfrm flipV="1" rot="10800000">
            <a:off x="6304680" y="207288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838080" y="2835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2361960" y="298764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514600" y="18446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/>
          <p:nvPr/>
        </p:nvCxnSpPr>
        <p:spPr>
          <a:xfrm>
            <a:off x="4038120" y="1996560"/>
            <a:ext cx="22932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7162920" y="4435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 rot="10800000">
            <a:off x="6552360" y="4053600"/>
            <a:ext cx="629640" cy="610560"/>
          </a:xfrm>
          <a:prstGeom prst="bentConnector3">
            <a:avLst>
              <a:gd name="adj1" fmla="val 51258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600200" y="5578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/>
          <p:nvPr/>
        </p:nvCxnSpPr>
        <p:spPr>
          <a:xfrm flipH="1" flipV="1" rot="5400000">
            <a:off x="2986200" y="5202360"/>
            <a:ext cx="70416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-843840" y="1539720"/>
            <a:ext cx="9177840" cy="91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92920" y="2976480"/>
            <a:ext cx="6304320" cy="630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850040" y="4240080"/>
            <a:ext cx="3790080" cy="379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13500000"/>
          </a:gra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-836280" y="1546200"/>
            <a:ext cx="9181440" cy="91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2142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21422"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83920" y="2973240"/>
            <a:ext cx="6302520" cy="630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524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52430"/>
              </a:path>
            </a:pathLst>
          </a:custGeom>
          <a:blipFill rotWithShape="0">
            <a:blip r:embed="rId2"/>
            <a:srcRect/>
            <a:stretch/>
          </a:blip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40320" y="4246560"/>
            <a:ext cx="3790080" cy="37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283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28366"/>
              </a:path>
            </a:pathLst>
          </a:custGeom>
          <a:blipFill rotWithShape="0">
            <a:blip r:embed="rId3"/>
            <a:srcRect/>
            <a:stretch/>
          </a:blip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27080" y="4464000"/>
            <a:ext cx="2559240" cy="954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Web 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Web SI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Web 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Web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95400" y="3211560"/>
            <a:ext cx="2593800" cy="1104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e-Biz / M-b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Biz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 Biz 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e-Biz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92160" y="1673280"/>
            <a:ext cx="2594160" cy="1388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e-Biz Total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Total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e- Biz Total 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 Biz Total Sol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39720" y="1352520"/>
            <a:ext cx="0" cy="496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6200000">
            <a:off x="-108000" y="3683520"/>
            <a:ext cx="14468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으뜸체"/>
              </a:rPr>
              <a:t>Business Val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745080" y="4557600"/>
            <a:ext cx="4265280" cy="157176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52360" y="581184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882760" y="567540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5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317720" y="539748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128840" y="3662280"/>
            <a:ext cx="1284840" cy="30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 가시화 단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344480" y="2281320"/>
            <a:ext cx="1284840" cy="30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안정적 성장 단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733920" y="3228840"/>
            <a:ext cx="3514680" cy="2905200"/>
          </a:xfrm>
          <a:custGeom>
            <a:avLst/>
            <a:gdLst/>
            <a:ahLst/>
            <a:rect l="l" t="t" r="r" b="b"/>
            <a:pathLst>
              <a:path w="2214" h="1830">
                <a:moveTo>
                  <a:pt x="0" y="1452"/>
                </a:moveTo>
                <a:lnTo>
                  <a:pt x="1656" y="174"/>
                </a:lnTo>
                <a:lnTo>
                  <a:pt x="1410" y="24"/>
                </a:lnTo>
                <a:lnTo>
                  <a:pt x="2214" y="0"/>
                </a:lnTo>
                <a:lnTo>
                  <a:pt x="2004" y="750"/>
                </a:lnTo>
                <a:lnTo>
                  <a:pt x="1920" y="498"/>
                </a:lnTo>
                <a:lnTo>
                  <a:pt x="312" y="1830"/>
                </a:lnTo>
                <a:lnTo>
                  <a:pt x="18" y="1818"/>
                </a:lnTo>
                <a:lnTo>
                  <a:pt x="0" y="145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695480" y="532764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677920" y="482112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970320" y="419724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7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20640" y="6319800"/>
            <a:ext cx="802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22040" y="6181560"/>
            <a:ext cx="18219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으뜸체"/>
              </a:rPr>
              <a:t>Degree of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735360" y="3219480"/>
            <a:ext cx="3522600" cy="290664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920040" y="4984920"/>
            <a:ext cx="1132560" cy="30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기반 조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69200" y="50976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단계별 사업 추진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30320" y="5522760"/>
            <a:ext cx="2558880" cy="730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Web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Web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Design/Compon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463760" y="5114880"/>
            <a:ext cx="3257640" cy="113184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57720" y="5078520"/>
            <a:ext cx="3257640" cy="1044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4691160"/>
            <a:ext cx="9142920" cy="2166840"/>
            <a:chOff x="0" y="4691160"/>
            <a:chExt cx="9142920" cy="2166840"/>
          </a:xfrm>
        </p:grpSpPr>
        <p:grpSp>
          <p:nvGrpSpPr>
            <p:cNvPr id="868" name=""/>
            <p:cNvGrpSpPr/>
            <p:nvPr/>
          </p:nvGrpSpPr>
          <p:grpSpPr>
            <a:xfrm>
              <a:off x="4570200" y="4691160"/>
              <a:ext cx="4572720" cy="2166840"/>
              <a:chOff x="4570200" y="4691160"/>
              <a:chExt cx="4572720" cy="2166840"/>
            </a:xfrm>
          </p:grpSpPr>
          <p:sp>
            <p:nvSpPr>
              <p:cNvPr id="869" name=""/>
              <p:cNvSpPr/>
              <p:nvPr/>
            </p:nvSpPr>
            <p:spPr>
              <a:xfrm>
                <a:off x="4570200" y="4691160"/>
                <a:ext cx="4572720" cy="1648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570200" y="4691160"/>
                <a:ext cx="4572720" cy="194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570200" y="4691160"/>
                <a:ext cx="433764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570200" y="4691160"/>
                <a:ext cx="363276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570200" y="4691160"/>
                <a:ext cx="297180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570200" y="4691160"/>
                <a:ext cx="230580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570200" y="4691160"/>
                <a:ext cx="171972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0200" y="4691160"/>
                <a:ext cx="113544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570200" y="4691160"/>
                <a:ext cx="54756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70200" y="4691160"/>
                <a:ext cx="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570200" y="4691160"/>
                <a:ext cx="4572720" cy="142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570200" y="4691160"/>
                <a:ext cx="4572720" cy="122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570200" y="4691160"/>
                <a:ext cx="4572720" cy="1058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570200" y="4691160"/>
                <a:ext cx="4572720" cy="886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609800" y="4691160"/>
                <a:ext cx="4532760" cy="739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70200" y="4691160"/>
                <a:ext cx="4572720" cy="591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570200" y="4691160"/>
                <a:ext cx="4572720" cy="466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70200" y="4691160"/>
                <a:ext cx="4572720" cy="343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70200" y="4691160"/>
                <a:ext cx="4572720" cy="245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570200" y="4691160"/>
                <a:ext cx="4572720" cy="145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570200" y="4691160"/>
                <a:ext cx="4572720" cy="72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4691160"/>
              <a:ext cx="4569840" cy="2166840"/>
              <a:chOff x="0" y="4691160"/>
              <a:chExt cx="4569840" cy="2166840"/>
            </a:xfrm>
          </p:grpSpPr>
          <p:sp>
            <p:nvSpPr>
              <p:cNvPr id="891" name=""/>
              <p:cNvSpPr/>
              <p:nvPr/>
            </p:nvSpPr>
            <p:spPr>
              <a:xfrm flipH="1">
                <a:off x="0" y="4691160"/>
                <a:ext cx="456984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0" y="4691160"/>
                <a:ext cx="4569840" cy="1648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0" y="4691160"/>
                <a:ext cx="4569840" cy="194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236880" y="4691160"/>
                <a:ext cx="433260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940320" y="4691160"/>
                <a:ext cx="362952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601280" y="4691160"/>
                <a:ext cx="296820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266560" y="4691160"/>
                <a:ext cx="230328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2856240" y="4691160"/>
                <a:ext cx="171324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439440" y="4691160"/>
                <a:ext cx="113040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4026960" y="4691160"/>
                <a:ext cx="542520" cy="2166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0" y="4691160"/>
                <a:ext cx="4569840" cy="142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0" y="4691160"/>
                <a:ext cx="4569840" cy="122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0" y="4691160"/>
                <a:ext cx="4569840" cy="1058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0" y="4691160"/>
                <a:ext cx="4569840" cy="886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0" y="4691160"/>
                <a:ext cx="4531680" cy="739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0" y="4691160"/>
                <a:ext cx="4569840" cy="591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0" y="4691160"/>
                <a:ext cx="4569840" cy="466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0" y="4691160"/>
                <a:ext cx="4569840" cy="343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0" y="4691160"/>
                <a:ext cx="4569840" cy="245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0" y="4691160"/>
                <a:ext cx="4569840" cy="145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0" y="4691160"/>
                <a:ext cx="4569840" cy="72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4713480"/>
              <a:ext cx="9142920" cy="1847160"/>
              <a:chOff x="0" y="4713480"/>
              <a:chExt cx="9142920" cy="184716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0" y="5756040"/>
                <a:ext cx="9142920" cy="804600"/>
                <a:chOff x="0" y="5756040"/>
                <a:chExt cx="9142920" cy="80460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0" y="656064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0" y="626364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0" y="599544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0" y="575604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0" y="4713480"/>
                <a:ext cx="9142920" cy="837720"/>
                <a:chOff x="0" y="4713480"/>
                <a:chExt cx="9142920" cy="83772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0" y="55512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0" y="5353920"/>
                  <a:ext cx="914292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0" y="5174640"/>
                  <a:ext cx="9142920" cy="54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0" y="5032080"/>
                  <a:ext cx="91015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0" y="4909680"/>
                  <a:ext cx="9142920" cy="684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0" y="4830840"/>
                  <a:ext cx="9142920" cy="43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0" y="4786560"/>
                  <a:ext cx="9142920" cy="111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9600" y="4738680"/>
                  <a:ext cx="910296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0" y="471348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8" name=""/>
          <p:cNvSpPr/>
          <p:nvPr/>
        </p:nvSpPr>
        <p:spPr>
          <a:xfrm rot="924000">
            <a:off x="4516200" y="2435400"/>
            <a:ext cx="2886120" cy="3333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50000">
                <a:srgbClr val="eaeaea"/>
              </a:gs>
              <a:gs pos="100000">
                <a:srgbClr val="cbcbcb"/>
              </a:gs>
            </a:gsLst>
            <a:lin ang="7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rot="924000">
            <a:off x="758520" y="2463840"/>
            <a:ext cx="2886120" cy="3333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be4ae"/>
              </a:gs>
              <a:gs pos="50000">
                <a:srgbClr val="fae3b7"/>
              </a:gs>
              <a:gs pos="100000">
                <a:srgbClr val="fbe4ae"/>
              </a:gs>
            </a:gsLst>
            <a:lin ang="7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924000">
            <a:off x="2315880" y="2508120"/>
            <a:ext cx="939600" cy="1028880"/>
          </a:xfrm>
          <a:custGeom>
            <a:avLst/>
            <a:gdLst/>
            <a:ahLst/>
            <a:rect l="l" t="t" r="r" b="b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88600"/>
              </a:gs>
              <a:gs pos="100000">
                <a:srgbClr val="ffcc00"/>
              </a:gs>
            </a:gsLst>
            <a:lin ang="125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924000">
            <a:off x="2603520" y="3024360"/>
            <a:ext cx="965160" cy="1457280"/>
          </a:xfrm>
          <a:custGeom>
            <a:avLst/>
            <a:gdLst/>
            <a:ahLst/>
            <a:rect l="l" t="t" r="r" b="b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896c7e"/>
              </a:gs>
              <a:gs pos="100000">
                <a:srgbClr val="d0a4c0"/>
              </a:gs>
            </a:gsLst>
            <a:lin ang="125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rot="924000">
            <a:off x="402840" y="3742920"/>
            <a:ext cx="2852640" cy="1895400"/>
          </a:xfrm>
          <a:custGeom>
            <a:avLst/>
            <a:gdLst/>
            <a:ahLst/>
            <a:rect l="l" t="t" r="r" b="b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567273"/>
              </a:gs>
              <a:gs pos="100000">
                <a:srgbClr val="83aeaf"/>
              </a:gs>
            </a:gsLst>
            <a:lin ang="125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rot="924000">
            <a:off x="818640" y="2506320"/>
            <a:ext cx="965520" cy="115236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862100"/>
              </a:gs>
              <a:gs pos="100000">
                <a:srgbClr val="cc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924000">
            <a:off x="1427040" y="2260440"/>
            <a:ext cx="924120" cy="1019160"/>
          </a:xfrm>
          <a:custGeom>
            <a:avLst/>
            <a:gdLst/>
            <a:ahLst/>
            <a:rect l="l" t="t" r="r" b="b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rot="924000">
            <a:off x="6083280" y="2494080"/>
            <a:ext cx="824040" cy="981000"/>
          </a:xfrm>
          <a:custGeom>
            <a:avLst/>
            <a:gdLst/>
            <a:ahLst/>
            <a:rect l="l" t="t" r="r" b="b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924000">
            <a:off x="6189840" y="2886120"/>
            <a:ext cx="1022040" cy="2562120"/>
          </a:xfrm>
          <a:custGeom>
            <a:avLst/>
            <a:gdLst/>
            <a:ahLst/>
            <a:rect l="l" t="t" r="r" b="b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50497e"/>
              </a:gs>
              <a:gs pos="100000">
                <a:srgbClr val="7a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924000">
            <a:off x="4893840" y="4614840"/>
            <a:ext cx="158436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708484"/>
              </a:gs>
              <a:gs pos="100000">
                <a:srgbClr val="abc8c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924000">
            <a:off x="4331880" y="4211640"/>
            <a:ext cx="924120" cy="1076400"/>
          </a:xfrm>
          <a:custGeom>
            <a:avLst/>
            <a:gdLst/>
            <a:ahLst/>
            <a:rect l="l" t="t" r="r" b="b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a865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924000">
            <a:off x="4281480" y="3886200"/>
            <a:ext cx="792000" cy="714240"/>
          </a:xfrm>
          <a:custGeom>
            <a:avLst/>
            <a:gdLst/>
            <a:ahLst/>
            <a:rect l="l" t="t" r="r" b="b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a886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rot="924000">
            <a:off x="4551480" y="2176560"/>
            <a:ext cx="1434960" cy="200952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862100"/>
              </a:gs>
              <a:gs pos="100000">
                <a:srgbClr val="cc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429560" y="497844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89920" y="30495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626480" y="265284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353320" y="280512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34560" y="36846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563520" y="39117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58520" y="507672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96720" y="28702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085440" y="276696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518720" y="44686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461480" y="399420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655040" y="2443320"/>
            <a:ext cx="1147680" cy="160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972920" y="2593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S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C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K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H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788240" y="2670120"/>
            <a:ext cx="163440" cy="16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788240" y="2879640"/>
            <a:ext cx="163440" cy="16344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788240" y="307980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788240" y="328932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788240" y="349884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788240" y="370836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932120" y="217980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192400" y="2182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23640" y="1936800"/>
            <a:ext cx="219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SCM </a:t>
            </a:r>
            <a:r>
              <a:rPr b="1" i="1" lang="en-US" sz="900" spc="-1" strike="noStrike">
                <a:solidFill>
                  <a:srgbClr val="ffff00"/>
                </a:solidFill>
                <a:latin typeface="Arial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ff00"/>
                </a:solidFill>
                <a:latin typeface="Arial"/>
                <a:ea typeface="GulimChe"/>
              </a:rPr>
              <a:t>Supply Chain Managem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85960" y="370512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585800" y="373212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5218200" y="2063880"/>
            <a:ext cx="311040" cy="52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529240" y="2066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48680" y="1836720"/>
            <a:ext cx="2588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ERM </a:t>
            </a:r>
            <a:r>
              <a:rPr b="1" i="1" lang="en-US" sz="900" spc="-1" strike="noStrike">
                <a:solidFill>
                  <a:srgbClr val="ffff00"/>
                </a:solidFill>
                <a:latin typeface="Arial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ff00"/>
                </a:solidFill>
                <a:latin typeface="Arial"/>
                <a:ea typeface="GulimChe"/>
              </a:rPr>
              <a:t>Enterprise Resource Managem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888120" y="515880"/>
            <a:ext cx="5226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SI Development &amp;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9360" y="4689360"/>
            <a:ext cx="9142920" cy="2162160"/>
            <a:chOff x="9360" y="4689360"/>
            <a:chExt cx="9142920" cy="2162160"/>
          </a:xfrm>
        </p:grpSpPr>
        <p:grpSp>
          <p:nvGrpSpPr>
            <p:cNvPr id="970" name=""/>
            <p:cNvGrpSpPr/>
            <p:nvPr/>
          </p:nvGrpSpPr>
          <p:grpSpPr>
            <a:xfrm>
              <a:off x="4579560" y="4689360"/>
              <a:ext cx="4572720" cy="2162160"/>
              <a:chOff x="4579560" y="4689360"/>
              <a:chExt cx="4572720" cy="2162160"/>
            </a:xfrm>
          </p:grpSpPr>
          <p:sp>
            <p:nvSpPr>
              <p:cNvPr id="971" name=""/>
              <p:cNvSpPr/>
              <p:nvPr/>
            </p:nvSpPr>
            <p:spPr>
              <a:xfrm>
                <a:off x="4579560" y="4689360"/>
                <a:ext cx="4572720" cy="1645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79560" y="4689360"/>
                <a:ext cx="4572720" cy="1937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579560" y="4689360"/>
                <a:ext cx="433764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579560" y="4689360"/>
                <a:ext cx="363276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79560" y="4689360"/>
                <a:ext cx="297180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579560" y="4689360"/>
                <a:ext cx="230580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9560" y="4689360"/>
                <a:ext cx="171972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79560" y="4689360"/>
                <a:ext cx="113544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79560" y="4689360"/>
                <a:ext cx="54756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79560" y="4689360"/>
                <a:ext cx="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79560" y="4689360"/>
                <a:ext cx="4572720" cy="1423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79560" y="4689360"/>
                <a:ext cx="4572720" cy="1225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9560" y="4689360"/>
                <a:ext cx="4572720" cy="1055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9560" y="4689360"/>
                <a:ext cx="4572720" cy="884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619160" y="4689360"/>
                <a:ext cx="4532760" cy="737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79560" y="4689360"/>
                <a:ext cx="4572720" cy="59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79560" y="4689360"/>
                <a:ext cx="4572720" cy="465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579560" y="4689360"/>
                <a:ext cx="4572720" cy="342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579560" y="4689360"/>
                <a:ext cx="4572720" cy="244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579560" y="4689360"/>
                <a:ext cx="4572720" cy="144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579560" y="4689360"/>
                <a:ext cx="4572720" cy="72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9360" y="4689360"/>
              <a:ext cx="4569840" cy="2162160"/>
              <a:chOff x="9360" y="4689360"/>
              <a:chExt cx="4569840" cy="2162160"/>
            </a:xfrm>
          </p:grpSpPr>
          <p:sp>
            <p:nvSpPr>
              <p:cNvPr id="993" name=""/>
              <p:cNvSpPr/>
              <p:nvPr/>
            </p:nvSpPr>
            <p:spPr>
              <a:xfrm flipH="1">
                <a:off x="9360" y="4689360"/>
                <a:ext cx="456984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9360" y="4689360"/>
                <a:ext cx="4569840" cy="1645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9360" y="4689360"/>
                <a:ext cx="4569840" cy="1937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246240" y="4689360"/>
                <a:ext cx="433260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949680" y="4689360"/>
                <a:ext cx="362952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1610640" y="4689360"/>
                <a:ext cx="296820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275920" y="4689360"/>
                <a:ext cx="230328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865600" y="4689360"/>
                <a:ext cx="171324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3448800" y="4689360"/>
                <a:ext cx="113040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036320" y="4689360"/>
                <a:ext cx="542520" cy="2162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9360" y="4689360"/>
                <a:ext cx="4569840" cy="1423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9360" y="4689360"/>
                <a:ext cx="4569840" cy="1225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9360" y="4689360"/>
                <a:ext cx="4569840" cy="1055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9360" y="4689360"/>
                <a:ext cx="4569840" cy="884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9360" y="4689360"/>
                <a:ext cx="4531680" cy="737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9360" y="4689360"/>
                <a:ext cx="4569840" cy="59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9360" y="4689360"/>
                <a:ext cx="4569840" cy="465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9360" y="4689360"/>
                <a:ext cx="4569840" cy="342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9360" y="4689360"/>
                <a:ext cx="4569840" cy="244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9360" y="4689360"/>
                <a:ext cx="4569840" cy="144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9360" y="4689360"/>
                <a:ext cx="4569840" cy="72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9360" y="4711680"/>
              <a:ext cx="9142920" cy="1843200"/>
              <a:chOff x="9360" y="4711680"/>
              <a:chExt cx="9142920" cy="1843200"/>
            </a:xfrm>
          </p:grpSpPr>
          <p:grpSp>
            <p:nvGrpSpPr>
              <p:cNvPr id="1015" name=""/>
              <p:cNvGrpSpPr/>
              <p:nvPr/>
            </p:nvGrpSpPr>
            <p:grpSpPr>
              <a:xfrm>
                <a:off x="9360" y="5752080"/>
                <a:ext cx="9142920" cy="802800"/>
                <a:chOff x="9360" y="5752080"/>
                <a:chExt cx="9142920" cy="80280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9360" y="655488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9360" y="62586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9360" y="599076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9360" y="575208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9360" y="4711680"/>
                <a:ext cx="9142920" cy="835920"/>
                <a:chOff x="9360" y="4711680"/>
                <a:chExt cx="9142920" cy="8359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9360" y="55476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9360" y="5350680"/>
                  <a:ext cx="914292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9360" y="5172120"/>
                  <a:ext cx="9142920" cy="54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9360" y="5029560"/>
                  <a:ext cx="91015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9360" y="4907520"/>
                  <a:ext cx="9142920" cy="684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360" y="4828680"/>
                  <a:ext cx="9142920" cy="43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9360" y="4784760"/>
                  <a:ext cx="9142920" cy="111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960" y="4736880"/>
                  <a:ext cx="910296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9360" y="471168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0" name="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340000" y="2421000"/>
            <a:ext cx="4478760" cy="2495520"/>
            <a:chOff x="2340000" y="2421000"/>
            <a:chExt cx="4478760" cy="2495520"/>
          </a:xfrm>
        </p:grpSpPr>
        <p:sp>
          <p:nvSpPr>
            <p:cNvPr id="1032" name="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777195">
                    <a:alpha val="75294"/>
                  </a:srgbClr>
                </a:gs>
                <a:gs pos="50000">
                  <a:srgbClr val="ffffff">
                    <a:alpha val="76078"/>
                  </a:srgbClr>
                </a:gs>
                <a:gs pos="100000">
                  <a:srgbClr val="777195">
                    <a:alpha val="7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2340000" y="2421000"/>
              <a:ext cx="4478760" cy="2193480"/>
              <a:chOff x="2340000" y="2421000"/>
              <a:chExt cx="4478760" cy="2193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2341440" y="2432160"/>
                <a:ext cx="4457880" cy="21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873" y="14695"/>
                    </a:moveTo>
                    <a:arcTo wR="10800" hR="10800" stAng="1268452" swAng="121988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873" y="14695"/>
                    </a:moveTo>
                    <a:arcTo wR="10800" hR="10800" stAng="1268452" swAng="12198820"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360880" y="2428920"/>
                <a:ext cx="4457880" cy="218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014" y="3315"/>
                    </a:moveTo>
                    <a:arcTo wR="10800" hR="10800" stAng="-8167860" swAng="28156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014" y="3315"/>
                    </a:moveTo>
                    <a:arcTo wR="10800" hR="10800" stAng="-8167860" swAng="2815615"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340000" y="2428920"/>
                <a:ext cx="4460040" cy="218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20" y="1"/>
                    </a:moveTo>
                    <a:arcTo wR="10800" hR="10800" stAng="-5361867" swAng="27696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20" y="1"/>
                    </a:moveTo>
                    <a:arcTo wR="10800" hR="10800" stAng="-5361867" swAng="2769695"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342880" y="2421000"/>
                <a:ext cx="4460760" cy="21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87" y="3016"/>
                    </a:moveTo>
                    <a:arcTo wR="10800" hR="10800" stAng="-2766891" swAng="41001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87" y="3016"/>
                    </a:moveTo>
                    <a:arcTo wR="10800" hR="10800" stAng="-2766891" swAng="4100129"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8" name=""/>
          <p:cNvSpPr/>
          <p:nvPr/>
        </p:nvSpPr>
        <p:spPr>
          <a:xfrm>
            <a:off x="439560" y="463680"/>
            <a:ext cx="446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eBiz Service &amp;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351160" y="2435400"/>
            <a:ext cx="4457880" cy="21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73" y="14695"/>
                </a:moveTo>
                <a:arcTo wR="10800" hR="10800" stAng="1268452" swAng="12198820"/>
                <a:lnTo>
                  <a:pt x="10800" y="10800"/>
                </a:lnTo>
                <a:close/>
              </a:path>
              <a:path fill="none" w="21600" h="21600">
                <a:moveTo>
                  <a:pt x="20873" y="14695"/>
                </a:moveTo>
                <a:arcTo wR="10800" hR="10800" stAng="1268452" swAng="12198820"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2165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70240" y="2432160"/>
            <a:ext cx="445860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14" y="3315"/>
                </a:moveTo>
                <a:arcTo wR="10800" hR="10800" stAng="-8167860" swAng="2815615"/>
                <a:lnTo>
                  <a:pt x="10800" y="10800"/>
                </a:lnTo>
                <a:close/>
              </a:path>
              <a:path fill="none" w="21600" h="21600">
                <a:moveTo>
                  <a:pt x="3014" y="3315"/>
                </a:moveTo>
                <a:arcTo wR="10800" hR="10800" stAng="-8167860" swAng="2815615"/>
              </a:path>
            </a:pathLst>
          </a:custGeom>
          <a:gradFill rotWithShape="0">
            <a:gsLst>
              <a:gs pos="0">
                <a:srgbClr val="ba8cb5"/>
              </a:gs>
              <a:gs pos="100000">
                <a:srgbClr val="7a5c7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349720" y="2432160"/>
            <a:ext cx="446004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20" y="1"/>
                </a:moveTo>
                <a:arcTo wR="10800" hR="10800" stAng="-5361867" swAng="2769695"/>
                <a:lnTo>
                  <a:pt x="10800" y="10800"/>
                </a:lnTo>
                <a:close/>
              </a:path>
              <a:path fill="none" w="21600" h="21600">
                <a:moveTo>
                  <a:pt x="10920" y="1"/>
                </a:moveTo>
                <a:arcTo wR="10800" hR="10800" stAng="-5361867" swAng="2769695"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a84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352600" y="2423880"/>
            <a:ext cx="4460760" cy="218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87" y="3016"/>
                </a:moveTo>
                <a:arcTo wR="10800" hR="10800" stAng="-2766891" swAng="4100129"/>
                <a:lnTo>
                  <a:pt x="10800" y="10800"/>
                </a:lnTo>
                <a:close/>
              </a:path>
              <a:path fill="none" w="21600" h="21600">
                <a:moveTo>
                  <a:pt x="18287" y="3016"/>
                </a:moveTo>
                <a:arcTo wR="10800" hR="10800" stAng="-2766891" swAng="4100129"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88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332f50"/>
              </a:gs>
              <a:gs pos="50000">
                <a:srgbClr val="7067af"/>
              </a:gs>
              <a:gs pos="100000">
                <a:srgbClr val="332f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09680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200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Gulim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2365200" y="2435400"/>
            <a:ext cx="4408920" cy="21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73" y="14695"/>
                </a:moveTo>
                <a:arcTo wR="10800" hR="10800" stAng="1268452" swAng="12198820"/>
                <a:lnTo>
                  <a:pt x="10800" y="10800"/>
                </a:lnTo>
                <a:close/>
              </a:path>
              <a:path fill="none" w="21600" h="21600">
                <a:moveTo>
                  <a:pt x="20873" y="14695"/>
                </a:moveTo>
                <a:arcTo wR="10800" hR="10800" stAng="1268452" swAng="12198820"/>
              </a:path>
            </a:pathLst>
          </a:custGeom>
          <a:noFill/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Network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774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5715000" y="3581280"/>
            <a:ext cx="838080" cy="838440"/>
            <a:chOff x="5715000" y="3581280"/>
            <a:chExt cx="838080" cy="838440"/>
          </a:xfrm>
        </p:grpSpPr>
        <p:pic>
          <p:nvPicPr>
            <p:cNvPr id="1064" name="" descr=""/>
            <p:cNvPicPr/>
            <p:nvPr/>
          </p:nvPicPr>
          <p:blipFill>
            <a:blip r:embed="rId2"/>
            <a:stretch/>
          </p:blipFill>
          <p:spPr>
            <a:xfrm>
              <a:off x="5715000" y="3581280"/>
              <a:ext cx="8380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 txBox="1"/>
            <p:nvPr/>
          </p:nvSpPr>
          <p:spPr>
            <a:xfrm>
              <a:off x="5747040" y="3913200"/>
              <a:ext cx="773640" cy="26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1800" spc="-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743200" y="2057400"/>
            <a:ext cx="1828800" cy="1828800"/>
            <a:chOff x="2743200" y="2057400"/>
            <a:chExt cx="1828800" cy="1828800"/>
          </a:xfrm>
        </p:grpSpPr>
        <p:pic>
          <p:nvPicPr>
            <p:cNvPr id="1067" name="" descr=""/>
            <p:cNvPicPr/>
            <p:nvPr/>
          </p:nvPicPr>
          <p:blipFill>
            <a:blip r:embed="rId3"/>
            <a:stretch/>
          </p:blipFill>
          <p:spPr>
            <a:xfrm>
              <a:off x="2743200" y="205740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 txBox="1"/>
            <p:nvPr/>
          </p:nvSpPr>
          <p:spPr>
            <a:xfrm>
              <a:off x="2813400" y="2781000"/>
              <a:ext cx="1688040" cy="58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1800" spc="-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250920" y="4437000"/>
            <a:ext cx="1752480" cy="1674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752840" cy="165888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6"/>
          <a:stretch/>
        </p:blipFill>
        <p:spPr>
          <a:xfrm>
            <a:off x="2819520" y="4800600"/>
            <a:ext cx="1752480" cy="1573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7"/>
          <a:stretch/>
        </p:blipFill>
        <p:spPr>
          <a:xfrm>
            <a:off x="5410080" y="4800600"/>
            <a:ext cx="1438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2133720" y="1338120"/>
            <a:ext cx="49273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B2C-9644-456E-9589-3042E7453A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1087560" y="1025640"/>
            <a:ext cx="6837120" cy="5759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57440" y="2136600"/>
            <a:ext cx="5149800" cy="299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dc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6080" y="2127240"/>
            <a:ext cx="5600160" cy="3244320"/>
            <a:chOff x="1216080" y="2127240"/>
            <a:chExt cx="5600160" cy="3244320"/>
          </a:xfrm>
        </p:grpSpPr>
        <p:grpSp>
          <p:nvGrpSpPr>
            <p:cNvPr id="94" name=""/>
            <p:cNvGrpSpPr/>
            <p:nvPr/>
          </p:nvGrpSpPr>
          <p:grpSpPr>
            <a:xfrm>
              <a:off x="1218960" y="2127240"/>
              <a:ext cx="5564880" cy="247680"/>
              <a:chOff x="1218960" y="2127240"/>
              <a:chExt cx="5564880" cy="24768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1218960" y="212724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47360" y="212724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234800" y="2419200"/>
              <a:ext cx="5564880" cy="247680"/>
              <a:chOff x="1234800" y="2419200"/>
              <a:chExt cx="5564880" cy="2476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1234800" y="241920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63200" y="241920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250640" y="2711520"/>
              <a:ext cx="5565600" cy="247680"/>
              <a:chOff x="1250640" y="2711520"/>
              <a:chExt cx="5565600" cy="24768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1250640" y="2711520"/>
                <a:ext cx="4287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79400" y="2711520"/>
                <a:ext cx="513684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218960" y="3022560"/>
              <a:ext cx="5564880" cy="247680"/>
              <a:chOff x="1218960" y="3022560"/>
              <a:chExt cx="5564880" cy="24768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1218960" y="302256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47360" y="302256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216080" y="3324240"/>
              <a:ext cx="5564880" cy="247680"/>
              <a:chOff x="1216080" y="3324240"/>
              <a:chExt cx="5564880" cy="24768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1216080" y="332424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44480" y="332424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2200" y="3625920"/>
              <a:ext cx="5564880" cy="247680"/>
              <a:chOff x="1222200" y="3625920"/>
              <a:chExt cx="5564880" cy="24768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1222200" y="362592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50600" y="362592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238040" y="3917880"/>
              <a:ext cx="5564880" cy="247680"/>
              <a:chOff x="1238040" y="3917880"/>
              <a:chExt cx="5564880" cy="24768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1238040" y="391788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66440" y="391788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244160" y="4219560"/>
              <a:ext cx="5565600" cy="247680"/>
              <a:chOff x="1244160" y="4219560"/>
              <a:chExt cx="5565600" cy="24768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1244160" y="4219560"/>
                <a:ext cx="4287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2920" y="4219560"/>
                <a:ext cx="513684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231560" y="4530600"/>
              <a:ext cx="5565600" cy="247680"/>
              <a:chOff x="1231560" y="4530600"/>
              <a:chExt cx="5565600" cy="24768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1231560" y="4530600"/>
                <a:ext cx="4287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60320" y="4530600"/>
                <a:ext cx="513684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218960" y="4832280"/>
              <a:ext cx="5564880" cy="247680"/>
              <a:chOff x="1218960" y="4832280"/>
              <a:chExt cx="5564880" cy="24768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1218960" y="483228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47360" y="483228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216080" y="5124240"/>
              <a:ext cx="5564880" cy="247320"/>
              <a:chOff x="1216080" y="5124240"/>
              <a:chExt cx="5564880" cy="2473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1216080" y="5124240"/>
                <a:ext cx="428400" cy="2473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44480" y="512460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650600" y="2127240"/>
              <a:ext cx="0" cy="3006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77920" y="5124600"/>
            <a:ext cx="5613480" cy="284040"/>
          </a:xfrm>
          <a:prstGeom prst="parallelogram">
            <a:avLst>
              <a:gd name="adj" fmla="val 170730"/>
            </a:avLst>
          </a:prstGeom>
          <a:gradFill rotWithShape="0">
            <a:gsLst>
              <a:gs pos="0">
                <a:srgbClr val="332f50"/>
              </a:gs>
              <a:gs pos="100000">
                <a:srgbClr val="7067af">
                  <a:alpha val="8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867680" y="5415120"/>
            <a:ext cx="4471560" cy="276480"/>
            <a:chOff x="1867680" y="5415120"/>
            <a:chExt cx="4471560" cy="276480"/>
          </a:xfrm>
        </p:grpSpPr>
        <p:sp>
          <p:nvSpPr>
            <p:cNvPr id="130" name=""/>
            <p:cNvSpPr/>
            <p:nvPr/>
          </p:nvSpPr>
          <p:spPr>
            <a:xfrm>
              <a:off x="186768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3916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3944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1092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084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1112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963800" y="4325760"/>
            <a:ext cx="447480" cy="97488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3800" y="4059360"/>
            <a:ext cx="447480" cy="482400"/>
          </a:xfrm>
          <a:prstGeom prst="can">
            <a:avLst>
              <a:gd name="adj" fmla="val 42439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800" y="3718080"/>
            <a:ext cx="447480" cy="58392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3800" y="3043080"/>
            <a:ext cx="447480" cy="85572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2880" y="2382840"/>
            <a:ext cx="44136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61760" y="187164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  <a:ea typeface="Gulim"/>
              </a:rPr>
              <a:t>단위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  <a:ea typeface="Gulim"/>
              </a:rPr>
              <a:t>천억엔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2680" y="2127240"/>
            <a:ext cx="1551240" cy="131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98800" y="22734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기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74320" y="255096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서비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78280" y="280836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방송서비스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3280" y="31129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서비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66080" y="2279520"/>
            <a:ext cx="218880" cy="155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75440" y="2565360"/>
            <a:ext cx="219240" cy="15552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5160" y="2841480"/>
            <a:ext cx="218880" cy="1558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94520" y="3117960"/>
            <a:ext cx="219240" cy="1555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7880" y="4338720"/>
            <a:ext cx="447840" cy="974520"/>
          </a:xfrm>
          <a:prstGeom prst="can">
            <a:avLst>
              <a:gd name="adj" fmla="val 11564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7880" y="4071960"/>
            <a:ext cx="447840" cy="406440"/>
          </a:xfrm>
          <a:prstGeom prst="can">
            <a:avLst>
              <a:gd name="adj" fmla="val 42439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7880" y="3622680"/>
            <a:ext cx="447840" cy="666720"/>
          </a:xfrm>
          <a:prstGeom prst="can">
            <a:avLst>
              <a:gd name="adj" fmla="val 2143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7880" y="2998800"/>
            <a:ext cx="447840" cy="81756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32320" y="4179960"/>
            <a:ext cx="447480" cy="114624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32320" y="4075200"/>
            <a:ext cx="447480" cy="396720"/>
          </a:xfrm>
          <a:prstGeom prst="can">
            <a:avLst>
              <a:gd name="adj" fmla="val 42439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32320" y="3429000"/>
            <a:ext cx="447480" cy="87300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32320" y="2832120"/>
            <a:ext cx="447480" cy="79848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16400" y="4097160"/>
            <a:ext cx="447840" cy="124164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16400" y="3921120"/>
            <a:ext cx="447840" cy="455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16400" y="3390840"/>
            <a:ext cx="447840" cy="78912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6400" y="2798640"/>
            <a:ext cx="447840" cy="74628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4360" y="4113360"/>
            <a:ext cx="447480" cy="124128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94360" y="3936960"/>
            <a:ext cx="447480" cy="455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94360" y="3181320"/>
            <a:ext cx="447480" cy="101448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4760"/>
            <a:ext cx="447480" cy="71424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2600" y="4110120"/>
            <a:ext cx="447840" cy="124128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2600" y="3933720"/>
            <a:ext cx="447840" cy="455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2600" y="2987640"/>
            <a:ext cx="447840" cy="120816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2600" y="2606760"/>
            <a:ext cx="447840" cy="71424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17560" y="4917960"/>
            <a:ext cx="10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출처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정보통신부 자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flipV="1">
            <a:off x="6605640" y="1774800"/>
            <a:ext cx="0" cy="293544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9600" y="2279520"/>
            <a:ext cx="80784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81640" y="2201760"/>
            <a:ext cx="807840" cy="808200"/>
          </a:xfrm>
          <a:prstGeom prst="cube">
            <a:avLst>
              <a:gd name="adj" fmla="val 3333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21360" y="227952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224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224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7224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81600" y="230184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83000" y="4691160"/>
            <a:ext cx="1336680" cy="133812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1960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7048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2136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1960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7048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2136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1960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048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2136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6068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156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6100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188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6068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156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100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188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6068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156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6100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188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068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156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6100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188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5120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208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5296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0032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5120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0208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5296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3649680"/>
            <a:ext cx="806400" cy="806400"/>
          </a:xfrm>
          <a:prstGeom prst="cube">
            <a:avLst>
              <a:gd name="adj" fmla="val 33333"/>
            </a:avLst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5120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0208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5296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02080" y="3021120"/>
            <a:ext cx="808200" cy="80784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440" y="2806560"/>
            <a:ext cx="807840" cy="808200"/>
          </a:xfrm>
          <a:prstGeom prst="cube">
            <a:avLst>
              <a:gd name="adj" fmla="val 3333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6320" y="5722920"/>
            <a:ext cx="3152520" cy="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4320" y="32842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8900000">
            <a:off x="5492160" y="493560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640" y="57214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07040" y="2766960"/>
            <a:ext cx="1741320" cy="174168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55800" y="4276800"/>
            <a:ext cx="2349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3640" y="3214800"/>
            <a:ext cx="184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Gulim"/>
              </a:rPr>
              <a:t>Business &amp; IT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7240" y="40273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cbff"/>
                </a:solidFill>
                <a:latin typeface="Arial"/>
                <a:ea typeface="Gulim"/>
              </a:rPr>
              <a:t>Supply Chai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4880" y="3463920"/>
            <a:ext cx="3786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0160" y="474840"/>
            <a:ext cx="543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eBiz Enterpris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783480" y="1801800"/>
            <a:ext cx="1598400" cy="1595520"/>
          </a:xfrm>
          <a:prstGeom prst="wedgeRectCallout">
            <a:avLst>
              <a:gd name="adj1" fmla="val -60527"/>
              <a:gd name="adj2" fmla="val 70296"/>
            </a:avLst>
          </a:prstGeom>
          <a:gradFill rotWithShape="0">
            <a:gsLst>
              <a:gs pos="0">
                <a:srgbClr val="d8dfa3">
                  <a:alpha val="33333"/>
                </a:srgbClr>
              </a:gs>
              <a:gs pos="100000">
                <a:srgbClr val="383a2a"/>
              </a:gs>
            </a:gsLst>
            <a:lin ang="135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4816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45120" y="42242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4352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4192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4816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45120" y="3533760"/>
            <a:ext cx="84600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4352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4192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4816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45120" y="284472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352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4192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4816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45120" y="2154240"/>
            <a:ext cx="84600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4352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4192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73680" y="4492800"/>
            <a:ext cx="84600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7208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7048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73680" y="380196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208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7048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73680" y="3111480"/>
            <a:ext cx="84600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7208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7048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3680" y="2422440"/>
            <a:ext cx="84600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7208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7048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528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368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0640" y="47592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9904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0528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368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00640" y="406872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528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368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00640" y="337968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9904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528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368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00640" y="26892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9904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3384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3224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29200" y="5027760"/>
            <a:ext cx="84600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2760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3384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3224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29200" y="4336920"/>
            <a:ext cx="84600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3384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3224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9200" y="364644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2760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33840" y="29574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32240" y="29574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29200" y="2928960"/>
            <a:ext cx="1542960" cy="844560"/>
          </a:xfrm>
          <a:prstGeom prst="cube">
            <a:avLst>
              <a:gd name="adj" fmla="val 25000"/>
            </a:avLst>
          </a:prstGeom>
          <a:solidFill>
            <a:srgbClr val="b9a5c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9000" y="3833640"/>
            <a:ext cx="191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4915080"/>
            <a:ext cx="294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0200" y="411120"/>
            <a:ext cx="33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SI Busine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1480" y="2425680"/>
            <a:ext cx="1676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SI consul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SI develop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SI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/W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ew techn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86480" y="4167360"/>
            <a:ext cx="203508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Times New Roman"/>
                <a:ea typeface="Gulim"/>
              </a:rPr>
              <a:t>Network Inte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  </a:t>
            </a: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- Network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  </a:t>
            </a: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- Network Integ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  </a:t>
            </a: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- Network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18280" y="1954080"/>
            <a:ext cx="979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  <a:ea typeface="Gulim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ff33"/>
                </a:solidFill>
                <a:latin typeface="Arial"/>
                <a:ea typeface="Gulim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a5ff"/>
                </a:solidFill>
                <a:latin typeface="Arial"/>
                <a:ea typeface="Gulim"/>
              </a:rPr>
              <a:t>Solution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Gulim"/>
              </a:rPr>
              <a:t>SM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  <a:ea typeface="Gulim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fa3"/>
                </a:solidFill>
                <a:latin typeface="Arial"/>
                <a:ea typeface="Gulim"/>
              </a:rPr>
              <a:t>R&amp;D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2b1f8"/>
                </a:solidFill>
                <a:latin typeface="Arial"/>
                <a:ea typeface="Gulim"/>
              </a:rPr>
              <a:t>Consulting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78520" y="3092400"/>
            <a:ext cx="141480" cy="141480"/>
          </a:xfrm>
          <a:prstGeom prst="rect">
            <a:avLst/>
          </a:prstGeom>
          <a:solidFill>
            <a:srgbClr val="098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80320" y="1969920"/>
            <a:ext cx="141120" cy="141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81760" y="2157480"/>
            <a:ext cx="141480" cy="141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78520" y="2340000"/>
            <a:ext cx="141480" cy="141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80320" y="2532240"/>
            <a:ext cx="141120" cy="141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7080" y="2709720"/>
            <a:ext cx="141120" cy="14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78520" y="2901960"/>
            <a:ext cx="14148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 rot="10800000">
            <a:off x="3557520" y="2114280"/>
            <a:ext cx="1657440" cy="3143160"/>
          </a:xfrm>
          <a:custGeom>
            <a:avLst/>
            <a:gdLst/>
            <a:ahLst/>
            <a:rect l="l" t="t" r="r" b="b"/>
            <a:pathLst>
              <a:path w="174" h="330">
                <a:moveTo>
                  <a:pt x="76" y="330"/>
                </a:moveTo>
                <a:cubicBezTo>
                  <a:pt x="136" y="301"/>
                  <a:pt x="174" y="240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76" y="33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16200000"/>
          </a:gra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887480" y="4254480"/>
            <a:ext cx="1827360" cy="974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664160" y="1784160"/>
            <a:ext cx="2392200" cy="3305520"/>
            <a:chOff x="4664160" y="1784160"/>
            <a:chExt cx="2392200" cy="3305520"/>
          </a:xfrm>
        </p:grpSpPr>
        <p:sp>
          <p:nvSpPr>
            <p:cNvPr id="310" name=""/>
            <p:cNvSpPr/>
            <p:nvPr/>
          </p:nvSpPr>
          <p:spPr>
            <a:xfrm rot="10800000">
              <a:off x="5389200" y="3432240"/>
              <a:ext cx="933480" cy="165744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97" y="0"/>
                  </a:moveTo>
                  <a:cubicBezTo>
                    <a:pt x="63" y="0"/>
                    <a:pt x="29" y="10"/>
                    <a:pt x="0" y="29"/>
                  </a:cubicBezTo>
                  <a:lnTo>
                    <a:pt x="98" y="174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47100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800000">
              <a:off x="4664160" y="1784160"/>
              <a:ext cx="1457280" cy="1647720"/>
            </a:xfrm>
            <a:custGeom>
              <a:avLst/>
              <a:gdLst/>
              <a:ahLst/>
              <a:rect l="l" t="t" r="r" b="b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800000">
              <a:off x="5389560" y="3070440"/>
              <a:ext cx="1666800" cy="174312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77" y="0"/>
                  </a:moveTo>
                  <a:cubicBezTo>
                    <a:pt x="29" y="33"/>
                    <a:pt x="1" y="87"/>
                    <a:pt x="1" y="144"/>
                  </a:cubicBezTo>
                  <a:cubicBezTo>
                    <a:pt x="0" y="158"/>
                    <a:pt x="2" y="171"/>
                    <a:pt x="5" y="183"/>
                  </a:cubicBezTo>
                  <a:lnTo>
                    <a:pt x="175" y="14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69200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5388120" y="1946160"/>
              <a:ext cx="1619280" cy="148572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0ac00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 rot="15351600">
            <a:off x="1734840" y="-177480"/>
            <a:ext cx="7229520" cy="7229520"/>
          </a:xfrm>
          <a:prstGeom prst="blockArc">
            <a:avLst>
              <a:gd name="adj1" fmla="val 13740879"/>
              <a:gd name="adj2" fmla="val 18659121"/>
              <a:gd name="adj3" fmla="val 2250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5553200">
            <a:off x="1561680" y="-96480"/>
            <a:ext cx="7229520" cy="7229520"/>
          </a:xfrm>
          <a:prstGeom prst="blockArc">
            <a:avLst>
              <a:gd name="adj1" fmla="val 15199202"/>
              <a:gd name="adj2" fmla="val 17200798"/>
              <a:gd name="adj3" fmla="val 2366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3696800">
            <a:off x="1725480" y="-201240"/>
            <a:ext cx="7229520" cy="7229520"/>
          </a:xfrm>
          <a:prstGeom prst="blockArc">
            <a:avLst>
              <a:gd name="adj1" fmla="val 15374675"/>
              <a:gd name="adj2" fmla="val 17025325"/>
              <a:gd name="adj3" fmla="val 20681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87120" y="1657080"/>
            <a:ext cx="3538440" cy="1832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079440" y="3475080"/>
            <a:ext cx="2290680" cy="3173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4400" y="2860560"/>
            <a:ext cx="1563480" cy="15620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14760" y="351792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Gulim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19120" y="3678120"/>
            <a:ext cx="1903680" cy="74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Forecasting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Opportunity Management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Configurat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…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6080" y="4981680"/>
            <a:ext cx="25369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Forecasting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Customer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Spare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……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2240" y="2592360"/>
            <a:ext cx="25369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Foreca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Persona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Campaig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Marketing Encyclop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85000" y="2544840"/>
            <a:ext cx="107136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21440" y="3678120"/>
            <a:ext cx="107136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49720" y="211464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75240" y="442116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60840" y="3395520"/>
            <a:ext cx="1325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e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4320" y="538200"/>
            <a:ext cx="68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Solution &amp; Service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GulimChe"/>
              </a:rPr>
              <a:t>-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SI Development &amp;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2349360"/>
            <a:ext cx="1033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3441600"/>
            <a:ext cx="1033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4749840"/>
            <a:ext cx="103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 rot="16200000">
            <a:off x="1370520" y="859680"/>
            <a:ext cx="5675400" cy="56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69" y="19372"/>
                </a:moveTo>
                <a:arcTo wR="10800" hR="10800" stAng="3152220" swAng="12677940"/>
                <a:lnTo>
                  <a:pt x="10800" y="10800"/>
                </a:lnTo>
                <a:close/>
              </a:path>
              <a:path fill="none" w="21600" h="21600">
                <a:moveTo>
                  <a:pt x="17369" y="19372"/>
                </a:moveTo>
                <a:arcTo wR="10800" hR="10800" stAng="3152220" swAng="12677940"/>
              </a:path>
            </a:pathLst>
          </a:custGeom>
          <a:noFill/>
          <a:ln w="28440">
            <a:solidFill>
              <a:srgbClr val="c0c0c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3456000"/>
            <a:ext cx="1351080" cy="1276200"/>
          </a:xfrm>
          <a:prstGeom prst="wedgeRectCallout">
            <a:avLst>
              <a:gd name="adj1" fmla="val -91597"/>
              <a:gd name="adj2" fmla="val -32337"/>
            </a:avLst>
          </a:prstGeom>
          <a:gradFill rotWithShape="0">
            <a:gsLst>
              <a:gs pos="0">
                <a:srgbClr val="7067af"/>
              </a:gs>
              <a:gs pos="100000">
                <a:srgbClr val="332f50">
                  <a:alpha val="0"/>
                </a:srgbClr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059920" y="1627200"/>
            <a:ext cx="4255560" cy="425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81" y="460"/>
                </a:moveTo>
                <a:arcTo wR="10800" hR="10800" stAng="-6407140" swAng="2243744"/>
                <a:lnTo>
                  <a:pt x="10800" y="10800"/>
                </a:lnTo>
                <a:close/>
              </a:path>
              <a:path fill="none" w="21600" h="21600">
                <a:moveTo>
                  <a:pt x="7681" y="460"/>
                </a:moveTo>
                <a:arcTo wR="10800" hR="10800" stAng="-6407140" swAng="2243744"/>
              </a:path>
            </a:pathLst>
          </a:custGeom>
          <a:noFill/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16120" y="2062080"/>
            <a:ext cx="3238560" cy="3314880"/>
          </a:xfrm>
          <a:custGeom>
            <a:avLst/>
            <a:gdLst/>
            <a:ahLst/>
            <a:rect l="l" t="t" r="r" b="b"/>
            <a:pathLst>
              <a:path w="340" h="348">
                <a:moveTo>
                  <a:pt x="0" y="228"/>
                </a:moveTo>
                <a:cubicBezTo>
                  <a:pt x="24" y="299"/>
                  <a:pt x="90" y="347"/>
                  <a:pt x="166" y="347"/>
                </a:cubicBezTo>
                <a:cubicBezTo>
                  <a:pt x="262" y="348"/>
                  <a:pt x="340" y="270"/>
                  <a:pt x="340" y="174"/>
                </a:cubicBezTo>
                <a:cubicBezTo>
                  <a:pt x="340" y="77"/>
                  <a:pt x="262" y="0"/>
                  <a:pt x="166" y="0"/>
                </a:cubicBezTo>
                <a:lnTo>
                  <a:pt x="166" y="174"/>
                </a:lnTo>
                <a:lnTo>
                  <a:pt x="0" y="228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30440" y="3195720"/>
            <a:ext cx="1666800" cy="1038240"/>
          </a:xfrm>
          <a:custGeom>
            <a:avLst/>
            <a:gdLst/>
            <a:ahLst/>
            <a:rect l="l" t="t" r="r" b="b"/>
            <a:pathLst>
              <a:path w="175" h="109">
                <a:moveTo>
                  <a:pt x="9" y="0"/>
                </a:moveTo>
                <a:cubicBezTo>
                  <a:pt x="3" y="18"/>
                  <a:pt x="1" y="36"/>
                  <a:pt x="1" y="54"/>
                </a:cubicBezTo>
                <a:cubicBezTo>
                  <a:pt x="0" y="73"/>
                  <a:pt x="3" y="91"/>
                  <a:pt x="9" y="109"/>
                </a:cubicBezTo>
                <a:lnTo>
                  <a:pt x="175" y="55"/>
                </a:lnTo>
                <a:lnTo>
                  <a:pt x="9" y="0"/>
                </a:lnTo>
                <a:close/>
              </a:path>
            </a:pathLst>
          </a:cu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16120" y="2376360"/>
            <a:ext cx="1581120" cy="1343160"/>
          </a:xfrm>
          <a:custGeom>
            <a:avLst/>
            <a:gdLst/>
            <a:ahLst/>
            <a:rect l="l" t="t" r="r" b="b"/>
            <a:pathLst>
              <a:path w="166" h="141">
                <a:moveTo>
                  <a:pt x="64" y="0"/>
                </a:moveTo>
                <a:cubicBezTo>
                  <a:pt x="34" y="21"/>
                  <a:pt x="12" y="51"/>
                  <a:pt x="0" y="86"/>
                </a:cubicBezTo>
                <a:lnTo>
                  <a:pt x="166" y="141"/>
                </a:lnTo>
                <a:lnTo>
                  <a:pt x="64" y="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5960" y="2138400"/>
            <a:ext cx="971280" cy="1581120"/>
          </a:xfrm>
          <a:custGeom>
            <a:avLst/>
            <a:gdLst/>
            <a:ahLst/>
            <a:rect l="l" t="t" r="r" b="b"/>
            <a:pathLst>
              <a:path w="102" h="166">
                <a:moveTo>
                  <a:pt x="47" y="0"/>
                </a:moveTo>
                <a:cubicBezTo>
                  <a:pt x="30" y="6"/>
                  <a:pt x="14" y="14"/>
                  <a:pt x="0" y="25"/>
                </a:cubicBezTo>
                <a:lnTo>
                  <a:pt x="102" y="166"/>
                </a:lnTo>
                <a:lnTo>
                  <a:pt x="47" y="0"/>
                </a:lnTo>
                <a:close/>
              </a:path>
            </a:pathLst>
          </a:custGeom>
          <a:gradFill rotWithShape="0">
            <a:gsLst>
              <a:gs pos="0">
                <a:srgbClr val="332f50"/>
              </a:gs>
              <a:gs pos="100000">
                <a:srgbClr val="7067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73440" y="2062080"/>
            <a:ext cx="523800" cy="1657440"/>
          </a:xfrm>
          <a:custGeom>
            <a:avLst/>
            <a:gdLst/>
            <a:ahLst/>
            <a:rect l="l" t="t" r="r" b="b"/>
            <a:pathLst>
              <a:path w="55" h="174">
                <a:moveTo>
                  <a:pt x="54" y="0"/>
                </a:moveTo>
                <a:cubicBezTo>
                  <a:pt x="36" y="0"/>
                  <a:pt x="18" y="2"/>
                  <a:pt x="0" y="8"/>
                </a:cubicBezTo>
                <a:lnTo>
                  <a:pt x="55" y="174"/>
                </a:lnTo>
                <a:lnTo>
                  <a:pt x="54" y="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7478400">
            <a:off x="1858680" y="1375920"/>
            <a:ext cx="4694400" cy="4694040"/>
          </a:xfrm>
          <a:prstGeom prst="blockArc">
            <a:avLst>
              <a:gd name="adj1" fmla="val 8672637"/>
              <a:gd name="adj2" fmla="val 2127363"/>
              <a:gd name="adj3" fmla="val 44338"/>
            </a:avLst>
          </a:prstGeom>
          <a:gradFill rotWithShape="0">
            <a:gsLst>
              <a:gs pos="0">
                <a:srgbClr val="33ccff"/>
              </a:gs>
              <a:gs pos="50000">
                <a:srgbClr val="175e75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92640" y="3111480"/>
            <a:ext cx="1406520" cy="1406520"/>
          </a:xfrm>
          <a:prstGeom prst="ellipse">
            <a:avLst/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One-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72720" y="35672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64960" y="2890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87600" y="23954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57320" y="22874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84840" y="3405240"/>
            <a:ext cx="167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HY헤드라인M"/>
              </a:rPr>
              <a:t>BS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18240" y="3452760"/>
            <a:ext cx="1676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IT consul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IT develop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IT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/W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ew techn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94200" y="3824280"/>
            <a:ext cx="1389240" cy="0"/>
          </a:xfrm>
          <a:prstGeom prst="line">
            <a:avLst/>
          </a:prstGeom>
          <a:ln w="9360">
            <a:solidFill>
              <a:srgbClr val="b3b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06640" y="3244680"/>
            <a:ext cx="179280" cy="179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8480" y="3503520"/>
            <a:ext cx="179280" cy="179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76400" y="3760920"/>
            <a:ext cx="179280" cy="179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78040" y="3206880"/>
            <a:ext cx="11872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ireless 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88200" y="3732120"/>
            <a:ext cx="10209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eb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0240" y="3456000"/>
            <a:ext cx="906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eb Mai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2073240" y="1594440"/>
            <a:ext cx="4254120" cy="425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13" y="658"/>
                </a:moveTo>
                <a:arcTo wR="10800" hR="10800" stAng="-4193504" swAng="4164024"/>
                <a:lnTo>
                  <a:pt x="10800" y="10800"/>
                </a:lnTo>
                <a:close/>
              </a:path>
              <a:path fill="none" w="21600" h="21600">
                <a:moveTo>
                  <a:pt x="14513" y="658"/>
                </a:moveTo>
                <a:arcTo wR="10800" hR="10800" stAng="-4193504" swAng="4164024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92240" y="4014720"/>
            <a:ext cx="179640" cy="179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37120" y="4005360"/>
            <a:ext cx="5896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eb 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2640" y="473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Gulim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3160" y="3532320"/>
            <a:ext cx="9792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  <a:ea typeface="Gulim"/>
              </a:rPr>
              <a:t>BSP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  <a:ea typeface="Gulim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  <a:ea typeface="Gulim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  <a:ea typeface="Gulim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  <a:ea typeface="Gulim"/>
              </a:rPr>
              <a:t>Consulting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26360" y="3586320"/>
            <a:ext cx="182520" cy="18252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23120" y="378288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19880" y="399888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16640" y="4214880"/>
            <a:ext cx="182880" cy="182520"/>
          </a:xfrm>
          <a:prstGeom prst="ellips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23120" y="4430880"/>
            <a:ext cx="182520" cy="182520"/>
          </a:xfrm>
          <a:prstGeom prst="ellipse">
            <a:avLst/>
          </a:prstGeom>
          <a:solidFill>
            <a:srgbClr val="b85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71640" y="4995720"/>
            <a:ext cx="366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ecba5"/>
                </a:solidFill>
                <a:latin typeface="바탕"/>
                <a:ea typeface="바탕"/>
              </a:rPr>
              <a:t>BSP MU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(Business Service Provider Management Uni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 rot="16200000">
            <a:off x="2737800" y="226440"/>
            <a:ext cx="3910680" cy="758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03" y="20570"/>
                </a:moveTo>
                <a:arcTo wR="10800" hR="10800" stAng="3886230" swAng="19805739"/>
                <a:lnTo>
                  <a:pt x="10800" y="10800"/>
                </a:lnTo>
                <a:close/>
              </a:path>
              <a:path fill="none" w="21600" h="21600">
                <a:moveTo>
                  <a:pt x="15403" y="20570"/>
                </a:moveTo>
                <a:arcTo wR="10800" hR="10800" stAng="3886230" swAng="19805739"/>
              </a:path>
            </a:pathLst>
          </a:custGeom>
          <a:noFill/>
          <a:ln w="76320">
            <a:solidFill>
              <a:srgbClr val="d1cda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48520" y="531720"/>
            <a:ext cx="496548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eBusiness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3216960" y="1179720"/>
            <a:ext cx="3135240" cy="5689440"/>
          </a:xfrm>
          <a:prstGeom prst="blockArc">
            <a:avLst>
              <a:gd name="adj1" fmla="val 14002552"/>
              <a:gd name="adj2" fmla="val 18397448"/>
              <a:gd name="adj3" fmla="val 31440"/>
            </a:avLst>
          </a:prstGeom>
          <a:gradFill rotWithShape="0">
            <a:gsLst>
              <a:gs pos="0">
                <a:srgbClr val="59664a"/>
              </a:gs>
              <a:gs pos="100000">
                <a:srgbClr val="c3df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1940040" y="2563200"/>
            <a:ext cx="5689440" cy="3135240"/>
          </a:xfrm>
          <a:prstGeom prst="blockArc">
            <a:avLst>
              <a:gd name="adj1" fmla="val 13987163"/>
              <a:gd name="adj2" fmla="val 18412837"/>
              <a:gd name="adj3" fmla="val 25245"/>
            </a:avLst>
          </a:prstGeom>
          <a:gradFill rotWithShape="0">
            <a:gsLst>
              <a:gs pos="0">
                <a:srgbClr val="67495c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52640" y="2290680"/>
            <a:ext cx="5689440" cy="3135240"/>
          </a:xfrm>
          <a:prstGeom prst="blockArc">
            <a:avLst>
              <a:gd name="adj1" fmla="val 13633825"/>
              <a:gd name="adj2" fmla="val 18766175"/>
              <a:gd name="adj3" fmla="val 30569"/>
            </a:avLst>
          </a:prstGeom>
          <a:gradFill rotWithShape="0">
            <a:gsLst>
              <a:gs pos="0">
                <a:srgbClr val="d9c0a7"/>
              </a:gs>
              <a:gs pos="100000">
                <a:srgbClr val="645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44480" y="3398760"/>
            <a:ext cx="588960" cy="484200"/>
          </a:xfrm>
          <a:prstGeom prst="leftRightArrow">
            <a:avLst>
              <a:gd name="adj1" fmla="val 50000"/>
              <a:gd name="adj2" fmla="val 2432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57440" y="4062240"/>
            <a:ext cx="588960" cy="484200"/>
          </a:xfrm>
          <a:prstGeom prst="leftRightArrow">
            <a:avLst>
              <a:gd name="adj1" fmla="val 50000"/>
              <a:gd name="adj2" fmla="val 2432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280" y="3147840"/>
            <a:ext cx="1233360" cy="53820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280" y="3711600"/>
            <a:ext cx="1233360" cy="53820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8280" y="4287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45320" y="3227400"/>
            <a:ext cx="600120" cy="484200"/>
          </a:xfrm>
          <a:prstGeom prst="leftRightArrow">
            <a:avLst>
              <a:gd name="adj1" fmla="val 50000"/>
              <a:gd name="adj2" fmla="val 2478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99040" y="2395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tock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68080" y="52243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45320" y="3794040"/>
            <a:ext cx="600120" cy="484200"/>
          </a:xfrm>
          <a:prstGeom prst="leftRightArrow">
            <a:avLst>
              <a:gd name="adj1" fmla="val 50000"/>
              <a:gd name="adj2" fmla="val 2478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596360" y="3975120"/>
            <a:ext cx="1056960" cy="495000"/>
            <a:chOff x="7596360" y="3975120"/>
            <a:chExt cx="1056960" cy="495000"/>
          </a:xfrm>
        </p:grpSpPr>
        <p:sp>
          <p:nvSpPr>
            <p:cNvPr id="382" name=""/>
            <p:cNvSpPr/>
            <p:nvPr/>
          </p:nvSpPr>
          <p:spPr>
            <a:xfrm>
              <a:off x="7596360" y="40298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96360" y="397512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726320" y="3849840"/>
            <a:ext cx="405000" cy="522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8080200" y="3825720"/>
            <a:ext cx="406440" cy="5270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7580160" y="3097080"/>
            <a:ext cx="1057320" cy="497160"/>
            <a:chOff x="7580160" y="3097080"/>
            <a:chExt cx="1057320" cy="497160"/>
          </a:xfrm>
        </p:grpSpPr>
        <p:sp>
          <p:nvSpPr>
            <p:cNvPr id="387" name=""/>
            <p:cNvSpPr/>
            <p:nvPr/>
          </p:nvSpPr>
          <p:spPr>
            <a:xfrm>
              <a:off x="7580160" y="315216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80160" y="30970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7710480" y="2971800"/>
            <a:ext cx="405000" cy="523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8064360" y="2948040"/>
            <a:ext cx="405000" cy="527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762320" y="440388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47560" y="3533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ff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73400" y="401004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11320" y="2805120"/>
            <a:ext cx="3783240" cy="2079720"/>
          </a:xfrm>
          <a:prstGeom prst="donut">
            <a:avLst>
              <a:gd name="adj" fmla="val 25018"/>
            </a:avLst>
          </a:prstGeom>
          <a:gradFill rotWithShape="0">
            <a:gsLst>
              <a:gs pos="0">
                <a:srgbClr val="3f3b56"/>
              </a:gs>
              <a:gs pos="100000">
                <a:srgbClr val="8982b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9240" y="2800440"/>
            <a:ext cx="3783240" cy="2082600"/>
          </a:xfrm>
          <a:prstGeom prst="donut">
            <a:avLst>
              <a:gd name="adj" fmla="val 25018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6312800">
            <a:off x="3766680" y="1984320"/>
            <a:ext cx="2077920" cy="3773520"/>
          </a:xfrm>
          <a:prstGeom prst="blockArc">
            <a:avLst>
              <a:gd name="adj1" fmla="val 12719707"/>
              <a:gd name="adj2" fmla="val 19680293"/>
              <a:gd name="adj3" fmla="val 2534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1480" y="358452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0" y="3544920"/>
            <a:ext cx="1768680" cy="825480"/>
          </a:xfrm>
          <a:prstGeom prst="ellipse">
            <a:avLst/>
          </a:prstGeom>
          <a:gradFill rotWithShape="0">
            <a:gsLst>
              <a:gs pos="0">
                <a:srgbClr val="9f76a0"/>
              </a:gs>
              <a:gs pos="100000">
                <a:srgbClr val="4936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178160" y="381636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7603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Compan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3795840" y="1971360"/>
            <a:ext cx="2077920" cy="3773520"/>
          </a:xfrm>
          <a:prstGeom prst="blockArc">
            <a:avLst>
              <a:gd name="adj1" fmla="val 12719707"/>
              <a:gd name="adj2" fmla="val 19680293"/>
              <a:gd name="adj3" fmla="val 2534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28960" y="2800440"/>
            <a:ext cx="3773520" cy="2077920"/>
          </a:xfrm>
          <a:prstGeom prst="blockArc">
            <a:avLst>
              <a:gd name="adj1" fmla="val 13100681"/>
              <a:gd name="adj2" fmla="val 19299319"/>
              <a:gd name="adj3" fmla="val 256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0854600">
            <a:off x="2918880" y="2817360"/>
            <a:ext cx="3773520" cy="2079720"/>
          </a:xfrm>
          <a:prstGeom prst="blockArc">
            <a:avLst>
              <a:gd name="adj1" fmla="val 13987163"/>
              <a:gd name="adj2" fmla="val 18412837"/>
              <a:gd name="adj3" fmla="val 25245"/>
            </a:avLst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59880" y="450684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85160" y="297180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7800" y="366552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4800" y="38163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2560" y="1757520"/>
            <a:ext cx="4291200" cy="4290840"/>
          </a:xfrm>
          <a:prstGeom prst="ellipse">
            <a:avLst/>
          </a:prstGeom>
          <a:gradFill rotWithShape="0">
            <a:gsLst>
              <a:gs pos="0">
                <a:srgbClr val="b7bed3"/>
              </a:gs>
              <a:gs pos="100000">
                <a:srgbClr val="787d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21000" y="1757520"/>
            <a:ext cx="4291200" cy="42908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a886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44600" y="3903840"/>
            <a:ext cx="1555920" cy="1344600"/>
          </a:xfrm>
          <a:prstGeom prst="hexagon">
            <a:avLst>
              <a:gd name="adj" fmla="val 28929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P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244600" y="2558880"/>
            <a:ext cx="1555920" cy="1344960"/>
          </a:xfrm>
          <a:prstGeom prst="hexagon">
            <a:avLst>
              <a:gd name="adj" fmla="val 28921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95520" y="1886040"/>
            <a:ext cx="1554480" cy="1344600"/>
          </a:xfrm>
          <a:prstGeom prst="hexagon">
            <a:avLst>
              <a:gd name="adj" fmla="val 2890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95520" y="4575240"/>
            <a:ext cx="1554480" cy="1344600"/>
          </a:xfrm>
          <a:prstGeom prst="hexagon">
            <a:avLst>
              <a:gd name="adj" fmla="val 28902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E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45000" y="3903840"/>
            <a:ext cx="1555920" cy="1344600"/>
          </a:xfrm>
          <a:prstGeom prst="hexagon">
            <a:avLst>
              <a:gd name="adj" fmla="val 28929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Ma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45000" y="2558880"/>
            <a:ext cx="1555920" cy="1344960"/>
          </a:xfrm>
          <a:prstGeom prst="hexagon">
            <a:avLst>
              <a:gd name="adj" fmla="val 28921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B2E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19480" y="3040200"/>
            <a:ext cx="1941480" cy="1681200"/>
          </a:xfrm>
          <a:prstGeom prst="hexagon">
            <a:avLst>
              <a:gd name="adj" fmla="val 28870"/>
              <a:gd name="vf" fmla="val 11547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2887400">
            <a:off x="1863720" y="1545120"/>
            <a:ext cx="4708080" cy="47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8" y="14849"/>
                </a:moveTo>
                <a:arcTo wR="10800" hR="10800" stAng="9479001" swAng="14948473"/>
                <a:lnTo>
                  <a:pt x="10800" y="10800"/>
                </a:lnTo>
                <a:close/>
              </a:path>
              <a:path fill="none" w="21600" h="21600">
                <a:moveTo>
                  <a:pt x="788" y="14849"/>
                </a:moveTo>
                <a:arcTo wR="10800" hR="10800" stAng="9479001" swAng="14948473"/>
              </a:path>
            </a:pathLst>
          </a:custGeom>
          <a:noFill/>
          <a:ln w="2844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38880" y="371808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74880" y="351792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8800" y="419040"/>
            <a:ext cx="8755200" cy="6411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GulimChe"/>
              </a:rPr>
              <a:t>Business Fields 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Gulim"/>
              </a:rPr>
              <a:t>SI Development &amp;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4:48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56:41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