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786-2C67-4227-A143-87689B43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B03-086E-4772-995B-BC63E3BF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BC7-844C-44A6-B09E-17470D40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4CC-CAF2-4F4C-9D90-9FE29C96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B2B-3A2B-4A73-9185-F2085926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EE4-76F6-4475-B6F2-A228CE6F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0A1-66FC-4446-B5A4-1D62CC01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3E5-49E9-46AB-B91D-392D51D3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FEC-EAF1-48C5-BF3F-A7EBCFA7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5BD-D004-4C6D-AFA3-F9FA02B0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CC2-EB63-4433-A67A-76EE3C2D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64B-A24E-453C-B116-AD3544F8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70C1-C569-4B6B-B551-9DE9B96F63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26" descr="1077575-HStqhBwcO$eGR$F1qgAKjkEhFcodQM"/>
          <p:cNvPicPr/>
          <p:nvPr/>
        </p:nvPicPr>
        <p:blipFill>
          <a:blip r:embed="rId1"/>
          <a:stretch/>
        </p:blipFill>
        <p:spPr>
          <a:xfrm>
            <a:off x="10800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61480" y="227664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和我们一样享受春天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5232240" y="9810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17844973_84e4c0403d_o"/>
          <p:cNvPicPr/>
          <p:nvPr/>
        </p:nvPicPr>
        <p:blipFill>
          <a:blip r:embed="rId1"/>
          <a:stretch/>
        </p:blipFill>
        <p:spPr>
          <a:xfrm>
            <a:off x="228600" y="15228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1143000" y="533520"/>
            <a:ext cx="4648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蔚蓝色的大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是海鸥的乐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76720" y="2590920"/>
            <a:ext cx="4572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蔚蓝色的大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本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海鸥的乐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4720" y="530208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098-F99F-4D95-A7D7-46E63F8A20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xin_5321001080910015430487"/>
          <p:cNvPicPr/>
          <p:nvPr/>
        </p:nvPicPr>
        <p:blipFill>
          <a:blip r:embed="rId1"/>
          <a:stretch/>
        </p:blipFill>
        <p:spPr>
          <a:xfrm>
            <a:off x="3809880" y="2928960"/>
            <a:ext cx="152424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yj11083"/>
          <p:cNvPicPr/>
          <p:nvPr/>
        </p:nvPicPr>
        <p:blipFill>
          <a:blip r:embed="rId2"/>
          <a:stretch/>
        </p:blipFill>
        <p:spPr>
          <a:xfrm>
            <a:off x="2905200" y="2238480"/>
            <a:ext cx="3333600" cy="238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wgzzjz11"/>
          <p:cNvPicPr/>
          <p:nvPr/>
        </p:nvPicPr>
        <p:blipFill>
          <a:blip r:embed="rId3"/>
          <a:stretch/>
        </p:blipFill>
        <p:spPr>
          <a:xfrm>
            <a:off x="3119400" y="1943280"/>
            <a:ext cx="290520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Img211990233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676520" y="1371600"/>
            <a:ext cx="6400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仿宋_GB2312"/>
              </a:rPr>
              <a:t>可是巡弋的战舰和水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仿宋_GB2312"/>
              </a:rPr>
              <a:t>成了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不速之客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仿宋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这究竟是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4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467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1828800"/>
            <a:ext cx="6858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蓝的发黑的夜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本来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属于星星和月亮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可是如今频频发射的导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把星星的家园搅得很不安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这究竟是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304920" y="1219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编诗小能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133266653"/>
          <p:cNvPicPr/>
          <p:nvPr/>
        </p:nvPicPr>
        <p:blipFill>
          <a:blip r:embed="rId1"/>
          <a:stretch/>
        </p:blipFill>
        <p:spPr>
          <a:xfrm>
            <a:off x="228600" y="228600"/>
            <a:ext cx="4857840" cy="903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90720" y="2209680"/>
            <a:ext cx="7543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续写诗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 ————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的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本来是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可是————的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这究竟是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981080" y="1219320"/>
            <a:ext cx="670572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希望，我们祈盼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让战火中的孩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有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张课桌，平稳的课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被导弹的气浪掀翻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有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间教室，洁白的教室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免遭炸弹的弹片击穿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我们一样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鲜花中读书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我们一样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享受春天</a:t>
            </a:r>
            <a:r>
              <a:rPr b="0" lang="en-US" sz="3600" spc="-1" strike="noStrike">
                <a:solidFill>
                  <a:srgbClr val="0000ff"/>
                </a:solidFill>
                <a:latin typeface="Courier New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762120" y="205740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有———，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我们一样 ——，和我们一样—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133266653"/>
          <p:cNvPicPr/>
          <p:nvPr/>
        </p:nvPicPr>
        <p:blipFill>
          <a:blip r:embed="rId1"/>
          <a:stretch/>
        </p:blipFill>
        <p:spPr>
          <a:xfrm>
            <a:off x="228600" y="228600"/>
            <a:ext cx="4857840" cy="903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304920" y="1066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我会思考，我会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85800" y="3809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我们期望，我们祈盼—————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03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儿童和平公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5640" y="692280"/>
            <a:ext cx="8893080" cy="69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世界的儿童，宣告未来的和平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想要一个没有战争和武器的星球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要除掉疾病和破坏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再也不要憎恨和饥饿，再也不要无家可归。我们要消灭这一切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的大地给予我们足够的食品——我们将共享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的天空给予我们美丽的彩虹——我们将保卫它们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的河水给予我们不朽的生命——我们保持它们的洁净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要共同欢笑，共同游玩，共同工作，互相学习，探索和改善大家的生活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是为和平，为现在的和平，永久的和平，我们大家的和平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世界上的成年人和我们一起，你们丢掉的只是恐惧和悲伤。抓住我们的欢笑和想象，我们在一起，和平就是可能的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5:40:4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9:0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