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equence 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900000" y="551808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116000" y="364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843920" y="256536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精美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1:09:1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7T12:08:42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NXTAG2">
    <vt:lpwstr>0008005216000000000001024140</vt:lpwstr>
  </property>
</Properties>
</file>