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png" ContentType="image/png"/>
  <Override PartName="/ppt/media/image6.gif" ContentType="image/gif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BCD5-477A-4EDC-A4B6-089A6BAA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E57F-7095-4B5F-AB01-54E9464C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F7D-F410-4FE5-8B60-BF79A4CD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4F0-2517-435B-8455-A0B11245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3482-40B1-422E-9BA4-6030BF89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BD75-46CB-4FDA-9E94-A7A3C82C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CC08-E4E0-4B40-9B69-932A2CAD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64F2-11B2-4D8E-BC9B-EBC9461D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FD15-E27F-4EAF-B480-DF999360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123B-CEAD-4E95-A7D3-84B3C8CA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E100-C8DB-4631-B20F-33E7AF76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F78-9330-4599-9D12-A56242F5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BC93-25C1-4221-A456-5A546858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DF25-0DD6-4DFA-8D1D-1F51F39E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5A75-A22E-486E-BC2E-386B275E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74EC-E5AB-4972-98EF-5452CC1C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9D39-A838-43F6-A7EB-663028A7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ED846-C146-4FB8-B51F-78082CB8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17C3F-FC6C-4A7B-948C-D183F3B5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10DC9-1DE6-46F9-B648-E44D8199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AF1F7-C46C-499B-A9E8-E30DA132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8C7C8-8EEB-4307-99D4-4EBB1AA8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554C-82C0-4FAC-85A8-5DE05860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F6B65-5F71-4680-B21C-778457DD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A40B1-B336-4722-910D-F26A0DAC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B6C9D-195E-4216-B91E-7313A980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AB392-41C9-4245-9F76-160FD9C7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74355-1698-45AB-A907-B64BDB79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8F57A-5AE3-491B-BFC3-92F14C6E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F3B04-7232-44C5-9546-4751A809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257CE-3F2F-4C8B-AE27-FB880AB8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0632A-ED52-4426-9835-04EC5CD0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38E48-5C1B-4740-AF22-2969A68B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D4FE-3652-486D-95A8-0928E961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7B5E2-9565-499F-A063-49CC6754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E237E-43AC-4744-AB9B-B8659A35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46B41-C147-4021-A28F-789B36A0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344D7-0870-4378-82DF-9AD5F857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14621-6068-49A0-A418-BDED7708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41781-EBEA-414C-82AC-89C34038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793F6-701D-4B8C-A9CA-482CDFAD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14E97-29A0-4B78-9DB7-F0C5C2F6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EEBB3-18BA-40B3-8176-5047557D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F4B-983E-467D-BA9C-2D9F8310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EB0-F653-44F0-ACE3-6040BF93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6CF-8005-4659-B15D-1F1F145D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AB1-4B98-4B69-89CA-9C5DD9E9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14A-2375-45FC-B99F-65AE81B9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F57A-3FD7-485A-8893-CE77ECDED1D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0720" cy="2251440"/>
            <a:chOff x="7169760" y="-84960"/>
            <a:chExt cx="2430720" cy="22514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0720" cy="2251440"/>
              <a:chOff x="7169760" y="-84960"/>
              <a:chExt cx="2430720" cy="22514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0720" cy="2251440"/>
                <a:chOff x="7169760" y="-84960"/>
                <a:chExt cx="2430720" cy="22514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5720" y="113040"/>
                  <a:ext cx="24408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08200" y="522000"/>
                  <a:ext cx="4291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5440" y="284400"/>
                  <a:ext cx="80568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920"/>
                  <a:ext cx="12092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3840" y="1421640"/>
                  <a:ext cx="26964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2200" y="127692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5600" y="328320"/>
                  <a:ext cx="28872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49440" y="218160"/>
                  <a:ext cx="2858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88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BDBA-9849-4EA4-B388-3220CF4DFF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CDA4-4D69-4E83-B07F-D76A5482F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FA7A-4EBD-4782-8770-DAE17DD28D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zsky.cn/pic/images2/200741472228872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3,12,&#24187;&#28783;&#29255; 12" TargetMode="External"/><Relationship Id="rId3" Type="http://schemas.openxmlformats.org/officeDocument/2006/relationships/hyperlink" Target="263,13,&#24187;&#28783;&#29255; 13" TargetMode="External"/><Relationship Id="rId4" Type="http://schemas.openxmlformats.org/officeDocument/2006/relationships/hyperlink" Target="263,14,&#24187;&#28783;&#29255; 14" TargetMode="External"/><Relationship Id="rId5" Type="http://schemas.openxmlformats.org/officeDocument/2006/relationships/hyperlink" Target="263,15,&#24187;&#28783;&#29255; 15" TargetMode="Externa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6"/>
          <p:cNvSpPr/>
          <p:nvPr/>
        </p:nvSpPr>
        <p:spPr>
          <a:xfrm>
            <a:off x="1219320" y="1600200"/>
            <a:ext cx="6781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7016760" y="6423120"/>
            <a:ext cx="20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3359880" y="2286000"/>
            <a:ext cx="21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《假如没有灰尘》课件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6"/>
          <p:cNvSpPr/>
          <p:nvPr/>
        </p:nvSpPr>
        <p:spPr>
          <a:xfrm>
            <a:off x="4267080" y="2286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Picture 5" descr="2007414722288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22860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5638680" y="5562720"/>
            <a:ext cx="2743200" cy="711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914400" y="40384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假如大气中没有灰尘</a:t>
            </a:r>
            <a:r>
              <a:rPr b="0" lang="en-US" sz="44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0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强烈的阳光将使人无法睁开眼睛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8077320" y="5943600"/>
            <a:ext cx="914400" cy="914400"/>
          </a:xfrm>
          <a:prstGeom prst="smileyFace">
            <a:avLst>
              <a:gd name="adj" fmla="val 465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80880" y="1143000"/>
            <a:ext cx="830592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灰尘颗粒的直径一般在百万分之一毫米至几百分之一毫米之间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人眼能看见的灰尘是灰尘中的庞然大物，细小灰尘只有在电子显微镜下才能够看见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3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假如大气中没有灰尘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强烈的阳光将使人无法睁开眼睛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62120" y="5335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Comic Sans MS"/>
                <a:ea typeface="华文新魏"/>
              </a:rPr>
              <a:t>领悟说明方法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6095880" y="1752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Comic Sans MS"/>
              </a:rPr>
              <a:t>（</a:t>
            </a:r>
            <a:r>
              <a:rPr b="0" lang="zh-CN" sz="3600" spc="-1" strike="noStrike">
                <a:solidFill>
                  <a:srgbClr val="cc0066"/>
                </a:solidFill>
                <a:latin typeface="Comic Sans MS"/>
                <a:ea typeface="隶书"/>
              </a:rPr>
              <a:t>列数字</a:t>
            </a:r>
            <a:r>
              <a:rPr b="0" lang="zh-CN" sz="3600" spc="-1" strike="noStrike">
                <a:solidFill>
                  <a:srgbClr val="cc0066"/>
                </a:solidFill>
                <a:latin typeface="Comic Sans MS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095880" y="37339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3600" spc="-1" strike="noStrike">
                <a:solidFill>
                  <a:srgbClr val="cc0066"/>
                </a:solidFill>
                <a:latin typeface="Comic Sans MS"/>
              </a:rPr>
              <a:t>（</a:t>
            </a:r>
            <a:r>
              <a:rPr b="0" lang="zh-CN" sz="3600" spc="-1" strike="noStrike">
                <a:solidFill>
                  <a:srgbClr val="cc0066"/>
                </a:solidFill>
                <a:latin typeface="Comic Sans MS"/>
                <a:ea typeface="隶书"/>
              </a:rPr>
              <a:t>作比较</a:t>
            </a:r>
            <a:r>
              <a:rPr b="0" lang="zh-CN" sz="3600" spc="-1" strike="noStrike">
                <a:solidFill>
                  <a:srgbClr val="cc0066"/>
                </a:solidFill>
                <a:latin typeface="Comic Sans MS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095880" y="51814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990033"/>
                </a:solidFill>
                <a:latin typeface="Comic Sans MS"/>
              </a:rPr>
              <a:t>(</a:t>
            </a:r>
            <a:r>
              <a:rPr b="0" lang="zh-CN" sz="3600" spc="-1" strike="noStrike">
                <a:solidFill>
                  <a:srgbClr val="990033"/>
                </a:solidFill>
                <a:latin typeface="Comic Sans MS"/>
              </a:rPr>
              <a:t>假设</a:t>
            </a:r>
            <a:r>
              <a:rPr b="0" lang="en-US" sz="3600" spc="-1" strike="noStrike">
                <a:solidFill>
                  <a:srgbClr val="990033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1066680" y="83808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WordArt 8"/>
          <p:cNvSpPr txBox="1"/>
          <p:nvPr/>
        </p:nvSpPr>
        <p:spPr>
          <a:xfrm>
            <a:off x="685800" y="304920"/>
            <a:ext cx="4267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小练笔：</a:t>
            </a:r>
            <a:endParaRPr b="0" lang="en-US" sz="4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380880" y="2133720"/>
            <a:ext cx="84582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运用掌握的说明方法仿写一个事物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例：</a:t>
            </a:r>
            <a:r>
              <a:rPr b="0" lang="en-US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《</a:t>
            </a:r>
            <a:r>
              <a:rPr b="0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假如没有风</a:t>
            </a:r>
            <a:r>
              <a:rPr b="0" lang="en-US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       </a:t>
            </a:r>
            <a:r>
              <a:rPr b="0" lang="en-US" sz="4000" spc="-1" strike="noStrike">
                <a:solidFill>
                  <a:srgbClr val="006600"/>
                </a:solidFill>
                <a:latin typeface="华文仿宋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20050801161247274"/>
          <p:cNvPicPr/>
          <p:nvPr/>
        </p:nvPicPr>
        <p:blipFill>
          <a:blip r:embed="rId2"/>
          <a:stretch/>
        </p:blipFill>
        <p:spPr>
          <a:xfrm>
            <a:off x="0" y="617400"/>
            <a:ext cx="9144000" cy="62406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916360" y="2133360"/>
            <a:ext cx="122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勿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3564000" y="43718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lù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564000" y="2133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wù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4933800" y="213372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（勿使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565440" y="3284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āi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4930920" y="328464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（尘埃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4788000" y="43657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（湿漉漉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WordArt 10"/>
          <p:cNvSpPr txBox="1"/>
          <p:nvPr/>
        </p:nvSpPr>
        <p:spPr>
          <a:xfrm>
            <a:off x="826920" y="134136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6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6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3419640" y="545148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yùn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4932360" y="54514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（日晕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60000"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{994B30E2-A8A3-4A16-AB4A-AD9B3794FE66}"/>
          <p:cNvPicPr/>
          <p:nvPr/>
        </p:nvPicPr>
        <p:blipFill>
          <a:blip r:embed="rId2"/>
          <a:stretch/>
        </p:blipFill>
        <p:spPr>
          <a:xfrm>
            <a:off x="179280" y="765000"/>
            <a:ext cx="8785440" cy="5716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1954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  息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漉漉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  涸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  晕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2484360" y="177336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生活；生存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2411280" y="2349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形容物体潮湿的样子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2411280" y="3500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日光通过云层中的冰晶时，经折射而形成的光现象。在太阳周围形成彩色光环，内红外紫。日晕常被看做天气变化的预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2484360" y="29242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没有水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800528"/>
          <p:cNvPicPr/>
          <p:nvPr/>
        </p:nvPicPr>
        <p:blipFill>
          <a:blip r:embed="rId2">
            <a:lum bright="18000"/>
          </a:blip>
          <a:srcRect l="0" t="0" r="0" b="16185"/>
          <a:stretch/>
        </p:blipFill>
        <p:spPr>
          <a:xfrm>
            <a:off x="179280" y="765000"/>
            <a:ext cx="8785440" cy="57596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1116000" y="11970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因此，古往今来，人们总是“时时勤拂拭，勿使染尘埃”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1116000" y="270828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古往今来”是指从古代到现在；“拂拭”是指掸掉或擦掉灰尘，“勿”是“不要”的意思，“尘埃”就是尘土。这句话的字面意思是：从古代到现在，人们总是经常擦拭灰尘，使（物品）不沾染尘土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800528"/>
          <p:cNvPicPr/>
          <p:nvPr/>
        </p:nvPicPr>
        <p:blipFill>
          <a:blip r:embed="rId2">
            <a:lum bright="18000"/>
          </a:blip>
          <a:srcRect l="0" t="0" r="0" b="16185"/>
          <a:stretch/>
        </p:blipFill>
        <p:spPr>
          <a:xfrm>
            <a:off x="179280" y="765000"/>
            <a:ext cx="8785440" cy="57596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755640" y="9558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灰尘颗粒的直径一般在万分之一到百万分之一毫米之间。人眼能看到的灰尘，是灰尘中的庞然大物，细小的灰尘只有在高倍显微镜下才能看见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6920" y="335772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       “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庞然大物”是指庞大的东西。这段话首先运用列举数字的方法介绍了灰尘的大小，接着又运用对比的方法突出了灰尘非常细小的特点。这两种说明方法的运用，使说明的事物更加具体、真实、生动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800528"/>
          <p:cNvPicPr/>
          <p:nvPr/>
        </p:nvPicPr>
        <p:blipFill>
          <a:blip r:embed="rId2">
            <a:lum bright="18000"/>
          </a:blip>
          <a:srcRect l="0" t="0" r="0" b="16185"/>
          <a:stretch/>
        </p:blipFill>
        <p:spPr>
          <a:xfrm>
            <a:off x="179280" y="765000"/>
            <a:ext cx="8785440" cy="575964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684360" y="1125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阳光经过灰尘的反射，强度大大削弱，因而变得柔和。假如大气中没有灰尘，强烈的阳光将使人无法睁开眼睛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755640" y="306864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削弱”就是变弱。这段话先写阳光经过灰尘的反射，强度变弱，因而光线柔和、不刺人眼；接着又运用假设，说明没有经过灰尘反射的阳光非常强烈，使人睁不开眼睛。通过对比说明，突出了灰尘的的重要作用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157320" y="61945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800528"/>
          <p:cNvPicPr/>
          <p:nvPr/>
        </p:nvPicPr>
        <p:blipFill>
          <a:blip r:embed="rId2">
            <a:lum bright="18000"/>
          </a:blip>
          <a:srcRect l="0" t="0" r="0" b="16185"/>
          <a:stretch/>
        </p:blipFill>
        <p:spPr>
          <a:xfrm>
            <a:off x="179280" y="765000"/>
            <a:ext cx="8785440" cy="57596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1042920" y="141300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有趣的是，灰尘还有个“怪脾气”，容易反射光波较短的紫、蓝、青三色光，而“喜欢”吸收光波较长的其他色光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187280" y="350028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这句话运用拟人的手法，通过“怪脾气”“喜欢”这两个词语，将灰尘赋予人的性格特征，把灰尘的特点写得非常生动传神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强烈的阳光"/>
          <p:cNvPicPr/>
          <p:nvPr/>
        </p:nvPicPr>
        <p:blipFill>
          <a:blip r:embed="rId2"/>
          <a:stretch/>
        </p:blipFill>
        <p:spPr>
          <a:xfrm>
            <a:off x="179280" y="620640"/>
            <a:ext cx="8713800" cy="59040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3"/>
          <p:cNvSpPr/>
          <p:nvPr/>
        </p:nvSpPr>
        <p:spPr>
          <a:xfrm>
            <a:off x="3338280" y="2637000"/>
            <a:ext cx="206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灰尘大多具有吸湿功能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灰尘有的具有吸湿功能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684360" y="4005360"/>
            <a:ext cx="73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句好，“大多”指大多数，准确说明了灰尘中具有吸湿功能的灰尘的数量，而“有的”没有数量的意思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669960" y="9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826920" y="119700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比较下列句子，说说哪个表达效果更好，并说明理由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自由读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节最后一个句子，同桌讨论发现了什么？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-6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小节最后一个句子，都讲了灰尘的特点，都讲了人类离开灰尘就无法生存。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　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687680" y="3352680"/>
            <a:ext cx="439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默读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-6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小节，同桌合作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口头完成填空练习。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64008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强烈的阳光"/>
          <p:cNvPicPr/>
          <p:nvPr/>
        </p:nvPicPr>
        <p:blipFill>
          <a:blip r:embed="rId2"/>
          <a:stretch/>
        </p:blipFill>
        <p:spPr>
          <a:xfrm>
            <a:off x="179280" y="620640"/>
            <a:ext cx="8713800" cy="5904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"/>
          <p:cNvSpPr/>
          <p:nvPr/>
        </p:nvSpPr>
        <p:spPr>
          <a:xfrm>
            <a:off x="719280" y="1413000"/>
            <a:ext cx="75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分散的水汽便依附着灰尘而形成稳定的水滴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分散的水汽便依附着灰尘而变成稳定的水滴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11280" y="378936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句好，“形成”是逐渐发展生长而造成的，形象地写出了分散的水汽逐渐吸附灰尘所形成水滴的过程。而“变成” 则指改变而成，这里水的本质并没有改变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强烈的阳光"/>
          <p:cNvPicPr/>
          <p:nvPr/>
        </p:nvPicPr>
        <p:blipFill>
          <a:blip r:embed="rId2"/>
          <a:stretch/>
        </p:blipFill>
        <p:spPr>
          <a:xfrm>
            <a:off x="179280" y="620640"/>
            <a:ext cx="8713800" cy="59040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"/>
          <p:cNvSpPr/>
          <p:nvPr/>
        </p:nvSpPr>
        <p:spPr>
          <a:xfrm>
            <a:off x="900000" y="131616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只有正确地认识它们，才能趋利避害，造富人类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只有认识它们，才能趋利避害，造富人类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611280" y="393372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句好，仅仅“认识”是不能区分利和弊的，“正确的认识”是趋利避害的前提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{705B6624-B39B-413F-8B75-72B7EBC5AED6}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3"/>
          <p:cNvSpPr/>
          <p:nvPr/>
        </p:nvSpPr>
        <p:spPr>
          <a:xfrm>
            <a:off x="755640" y="1413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“灰尘颗粒的直径一般在万分之一到百万分之一毫米之间。”中的“一般”能否删去？为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WordArt 4"/>
          <p:cNvSpPr txBox="1"/>
          <p:nvPr/>
        </p:nvSpPr>
        <p:spPr>
          <a:xfrm>
            <a:off x="539640" y="836640"/>
            <a:ext cx="32767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体味用词的准确性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539640" y="342900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不能，一般指通常，大多数情况，表明了灰尘的直径大多数是在万分之一到百万分之一的范围内，但也有特殊情况，这个词在这里有限制的作用，删去后不符合客观情况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{705B6624-B39B-413F-8B75-72B7EBC5AED6}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3"/>
          <p:cNvSpPr/>
          <p:nvPr/>
        </p:nvSpPr>
        <p:spPr>
          <a:xfrm>
            <a:off x="755640" y="141300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“庞然大物”的原意是什么？它与“灰尘的直径一般在万分之一到百万分之一毫米之间”是否矛盾？为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611280" y="3284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形容体积大而笨重的东西。不矛盾，这里的庞然大物是指颗粒比较大，人肉眼能够看到的灰尘，它们与在高倍显微镜下才能看到的细小灰尘相比，就显得巨大笨重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{705B6624-B39B-413F-8B75-72B7EBC5AED6}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755640" y="198900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“阳光经过灰尘的反射，强度大大削弱一句中的“大大”有什么作用”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4760280" y="3645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突出了反射后阳光强度被削弱的程度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157320" y="61945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{83973B90-4376-4433-932A-018D037C0026}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42160"/>
          </a:xfrm>
          <a:prstGeom prst="rect">
            <a:avLst/>
          </a:prstGeom>
          <a:ln w="0">
            <a:noFill/>
          </a:ln>
        </p:spPr>
      </p:pic>
      <p:sp>
        <p:nvSpPr>
          <p:cNvPr id="314" name="WordArt 3"/>
          <p:cNvSpPr txBox="1"/>
          <p:nvPr/>
        </p:nvSpPr>
        <p:spPr>
          <a:xfrm>
            <a:off x="609480" y="685800"/>
            <a:ext cx="245772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2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华文彩云"/>
              </a:rPr>
              <a:t>灰尘的两面性</a:t>
            </a:r>
            <a:endParaRPr b="1" lang="en-US" sz="32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华文彩云"/>
              <a:ea typeface="华文彩云"/>
            </a:endParaRPr>
          </a:p>
        </p:txBody>
      </p:sp>
      <p:sp>
        <p:nvSpPr>
          <p:cNvPr id="315" name="WordArt 4"/>
          <p:cNvSpPr txBox="1"/>
          <p:nvPr/>
        </p:nvSpPr>
        <p:spPr>
          <a:xfrm>
            <a:off x="914400" y="1828800"/>
            <a:ext cx="5889600" cy="5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有碍环境卫生，危害人体健康。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16" name="WordArt 5"/>
          <p:cNvSpPr txBox="1"/>
          <p:nvPr/>
        </p:nvSpPr>
        <p:spPr>
          <a:xfrm>
            <a:off x="900000" y="2637000"/>
            <a:ext cx="755964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对人类、地球的生存及大自然，都具有巨大的作用。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826920" y="386064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文告诉我们：“任何事物都有它的两面性”。请你联系周围的事物，举一两个例子来说明这个道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7D9CB-9F5C-44F7-8643-E3902C5DA8B4}" type="slidenum">
              <a:t>26</a:t>
            </a:fld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{83973B90-4376-4433-932A-018D037C0026}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4216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611280" y="177336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灰尘，一方面，有碍卫生，对人体健康有一定的危害；另一方面，在削弱阳光调节气候等方面又有重要作用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717120" y="3716280"/>
            <a:ext cx="7697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蛇毒，一方面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另一方面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　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717120" y="5078520"/>
            <a:ext cx="7697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废品，一方面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另一方面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　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611280" y="692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根据事物有两面性的观点，仿照下面的句子，再造两个句子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228600" y="1143000"/>
          <a:ext cx="8763120" cy="5089680"/>
        </p:xfrm>
        <a:graphic>
          <a:graphicData uri="http://schemas.openxmlformats.org/drawingml/2006/table">
            <a:tbl>
              <a:tblPr/>
              <a:tblGrid>
                <a:gridCol w="3689280"/>
                <a:gridCol w="50738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    </a:t>
                      </a:r>
                      <a:r>
                        <a:rPr b="0" lang="zh-CN" sz="36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灰尘的特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6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灰尘的作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99"/>
                          </a:solidFill>
                          <a:latin typeface="Arial"/>
                          <a:ea typeface="黑体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660033"/>
                          </a:solidFill>
                          <a:latin typeface="Arial"/>
                          <a:ea typeface="黑体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40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WordArt 312"/>
          <p:cNvSpPr txBox="1"/>
          <p:nvPr/>
        </p:nvSpPr>
        <p:spPr>
          <a:xfrm>
            <a:off x="1447920" y="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宋体"/>
              </a:rPr>
              <a:t>填表：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6" name="Text Box 326"/>
          <p:cNvSpPr/>
          <p:nvPr/>
        </p:nvSpPr>
        <p:spPr>
          <a:xfrm>
            <a:off x="3200400" y="304920"/>
            <a:ext cx="266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330"/>
          <p:cNvSpPr/>
          <p:nvPr/>
        </p:nvSpPr>
        <p:spPr>
          <a:xfrm>
            <a:off x="457200" y="2743200"/>
            <a:ext cx="3505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99"/>
                </a:solidFill>
                <a:latin typeface="Comic Sans MS"/>
                <a:ea typeface="黑体"/>
              </a:rPr>
              <a:t>不加选择地散射七色阳光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331"/>
          <p:cNvSpPr/>
          <p:nvPr/>
        </p:nvSpPr>
        <p:spPr>
          <a:xfrm>
            <a:off x="380880" y="1676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Comic Sans MS"/>
                <a:ea typeface="黑体"/>
              </a:rPr>
              <a:t>吸收太阳部分光线的同时散射光线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332"/>
          <p:cNvSpPr/>
          <p:nvPr/>
        </p:nvSpPr>
        <p:spPr>
          <a:xfrm>
            <a:off x="3352680" y="22860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333"/>
          <p:cNvSpPr/>
          <p:nvPr/>
        </p:nvSpPr>
        <p:spPr>
          <a:xfrm>
            <a:off x="5368320" y="1957320"/>
            <a:ext cx="22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0033cc"/>
                </a:solidFill>
                <a:latin typeface="Comic Sans MS"/>
                <a:ea typeface="黑体"/>
              </a:rPr>
              <a:t>使阳光强度削弱</a:t>
            </a:r>
            <a:r>
              <a:rPr b="0" lang="zh-CN" sz="3200" spc="-1" strike="noStrike">
                <a:solidFill>
                  <a:srgbClr val="3333cc"/>
                </a:solidFill>
                <a:latin typeface="Comic Sans MS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335"/>
          <p:cNvSpPr/>
          <p:nvPr/>
        </p:nvSpPr>
        <p:spPr>
          <a:xfrm>
            <a:off x="4267080" y="2743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Comic Sans MS"/>
                <a:ea typeface="黑体"/>
              </a:rPr>
              <a:t>使天空随高度降低而逐渐由蓝变白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337"/>
          <p:cNvSpPr/>
          <p:nvPr/>
        </p:nvSpPr>
        <p:spPr>
          <a:xfrm>
            <a:off x="685800" y="3962520"/>
            <a:ext cx="3048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Comic Sans MS"/>
                <a:ea typeface="黑体"/>
              </a:rPr>
              <a:t>具有吸湿性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338"/>
          <p:cNvSpPr/>
          <p:nvPr/>
        </p:nvSpPr>
        <p:spPr>
          <a:xfrm>
            <a:off x="4191120" y="3733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Comic Sans MS"/>
                <a:ea typeface="黑体"/>
              </a:rPr>
              <a:t>使地面万物保持干燥；形成云雾，雨雪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40"/>
          <p:cNvSpPr/>
          <p:nvPr/>
        </p:nvSpPr>
        <p:spPr>
          <a:xfrm>
            <a:off x="685800" y="5029200"/>
            <a:ext cx="297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99"/>
                </a:solidFill>
                <a:latin typeface="Comic Sans MS"/>
                <a:ea typeface="黑体"/>
              </a:rPr>
              <a:t>折射阳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341"/>
          <p:cNvSpPr/>
          <p:nvPr/>
        </p:nvSpPr>
        <p:spPr>
          <a:xfrm>
            <a:off x="4038480" y="4952880"/>
            <a:ext cx="5105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99"/>
                </a:solidFill>
                <a:latin typeface="黑体"/>
                <a:ea typeface="黑体"/>
              </a:rPr>
              <a:t>形成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2"/>
              </a:rPr>
              <a:t>晚霞</a:t>
            </a:r>
            <a:r>
              <a:rPr b="0" lang="zh-CN" sz="3200" spc="-1" strike="noStrike">
                <a:solidFill>
                  <a:srgbClr val="cc3399"/>
                </a:solidFill>
                <a:latin typeface="黑体"/>
                <a:ea typeface="黑体"/>
              </a:rPr>
              <a:t>朝晖、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3"/>
              </a:rPr>
              <a:t>闲云迷雾</a:t>
            </a:r>
            <a:r>
              <a:rPr b="0" lang="zh-CN" sz="3200" spc="-1" strike="noStrike">
                <a:solidFill>
                  <a:srgbClr val="cc3399"/>
                </a:solidFill>
                <a:latin typeface="黑体"/>
                <a:ea typeface="黑体"/>
              </a:rPr>
              <a:t>、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4"/>
              </a:rPr>
              <a:t>彩虹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5"/>
              </a:rPr>
              <a:t>日晕</a:t>
            </a:r>
            <a:r>
              <a:rPr b="0" lang="zh-CN" sz="3200" spc="-1" strike="noStrike">
                <a:solidFill>
                  <a:srgbClr val="cc3399"/>
                </a:solidFill>
                <a:latin typeface="黑体"/>
                <a:ea typeface="黑体"/>
              </a:rPr>
              <a:t>等自然景色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AutoShape 34"/>
          <p:cNvSpPr/>
          <p:nvPr/>
        </p:nvSpPr>
        <p:spPr>
          <a:xfrm>
            <a:off x="8001000" y="205740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40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假如空中没有灰尘，地面上的万物都将是湿漉漉的（　　）更严重的是，天空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不可能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有云雾，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也不可能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形成雨、雪来调节气候，从地面上蒸发到上空的水也就不可能再回到地面上来。假如地球上的水越来越少，最后完全干涸，生物就不能生存（　　）此外，由于这些小水滴对阳光的折射作用，才会有晚霞朝晖、闲云迷雾、彩虹日晕等气象万千的自然景色。假如空中没有灰尘。大自然将多么单调啊！　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4651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第三单元导语 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学习本组的说明性文章，要抓住课文的要点，了解基本的说明方法，并试着加以运用 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3581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00624"/>
                </a:solidFill>
                <a:latin typeface="Arial"/>
              </a:rPr>
              <a:t>文字材料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540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优点：成本低，耐用，防水，质轻。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原料：聚乙烯。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废弃颗粒在垃圾中的比例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40%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缺点：易燃，燃烧时产生有毒气体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塑料在给人们的生活带来方便的同时，也给环境带来了“白色污染”。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例如塑料燃烧时产生甲苯，这种物质会导致失明。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380880" y="441972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用上面的这些材料，说一段完整的话。像第六段那样，用上“更严重的是”“此外”，注意条理性，还可以用上一些关联词语，如：虽然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但是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　因为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塑料在给人们的生活带来方便的同时，也给环境带来了“白色污染”。虽然塑料具有成本低，耐用，防水，质轻的优点，但是它燃烧时会产生有毒气体，废弃颗粒在垃圾中的比例也占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40%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。此外，塑料燃烧时产生甲苯，这种物质会导致失明。　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塑料的原料是聚乙烯，它的优点是成本低，耐用，防水，质轻。它的缺点是易燃，燃烧时产生有毒气体。更严重的是塑料燃烧时产生甲苯，这种物质会导致失明 。因为废弃塑料在垃圾中的比例也占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0%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所以，塑料在给人们的生活带来方便的同时，也给环境带来了“白色污染”。　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1524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小结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7848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在生活中，我们更好地利用像灰尘这样具有两面性的东西，为我们服务。　　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03:39:3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58:29Z</dcterms:modified>
  <cp:revision>9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