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2580-FC53-4683-9C84-5E4EA7914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A3D9-AF19-407C-B60B-AB583C00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CA5D-6430-493C-A364-BC7DA44E0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C398-86D5-4A48-A16D-377EE1B1F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7039-B9BE-4CE9-BA63-D7FC523B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2F96-D4E8-466F-A047-10884C1A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BA95-5125-4039-8889-D8D82A18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A5A7-E24D-42DD-9949-AE407B71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1264-ADC9-4890-9960-AF857906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50D6-5BD2-4DE3-839E-F835239C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645A-A66B-4325-8C2A-AACC6A30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A43D-BF1E-44CF-BE27-699D97C6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4DB4-BC3F-4E6D-9706-F0390A19A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2"/>
          <p:cNvSpPr/>
          <p:nvPr/>
        </p:nvSpPr>
        <p:spPr>
          <a:xfrm>
            <a:off x="2085840" y="14860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5"/>
          <p:cNvGrpSpPr/>
          <p:nvPr/>
        </p:nvGrpSpPr>
        <p:grpSpPr>
          <a:xfrm>
            <a:off x="76320" y="-76320"/>
            <a:ext cx="9143280" cy="6857640"/>
            <a:chOff x="76320" y="-76320"/>
            <a:chExt cx="9143280" cy="6857640"/>
          </a:xfrm>
        </p:grpSpPr>
        <p:grpSp>
          <p:nvGrpSpPr>
            <p:cNvPr id="44" name="Group 6"/>
            <p:cNvGrpSpPr/>
            <p:nvPr/>
          </p:nvGrpSpPr>
          <p:grpSpPr>
            <a:xfrm>
              <a:off x="76320" y="-76320"/>
              <a:ext cx="1828080" cy="6857640"/>
              <a:chOff x="76320" y="-76320"/>
              <a:chExt cx="1828080" cy="6857640"/>
            </a:xfrm>
          </p:grpSpPr>
          <p:pic>
            <p:nvPicPr>
              <p:cNvPr id="45" name="Picture 7" descr="BGFL016"/>
              <p:cNvPicPr/>
              <p:nvPr/>
            </p:nvPicPr>
            <p:blipFill>
              <a:blip r:embed="rId2"/>
              <a:stretch/>
            </p:blipFill>
            <p:spPr>
              <a:xfrm>
                <a:off x="76320" y="-76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Picture 8" descr="BGFL016"/>
              <p:cNvPicPr/>
              <p:nvPr/>
            </p:nvPicPr>
            <p:blipFill>
              <a:blip r:embed="rId3"/>
              <a:stretch/>
            </p:blipFill>
            <p:spPr>
              <a:xfrm>
                <a:off x="76320" y="163800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Picture 9" descr="BGFL016"/>
              <p:cNvPicPr/>
              <p:nvPr/>
            </p:nvPicPr>
            <p:blipFill>
              <a:blip r:embed="rId4"/>
              <a:stretch/>
            </p:blipFill>
            <p:spPr>
              <a:xfrm>
                <a:off x="76320" y="3352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Picture 10" descr="BGFL016"/>
              <p:cNvPicPr/>
              <p:nvPr/>
            </p:nvPicPr>
            <p:blipFill>
              <a:blip r:embed="rId5"/>
              <a:stretch/>
            </p:blipFill>
            <p:spPr>
              <a:xfrm>
                <a:off x="76320" y="506700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9" name="Group 11"/>
            <p:cNvGrpSpPr/>
            <p:nvPr/>
          </p:nvGrpSpPr>
          <p:grpSpPr>
            <a:xfrm>
              <a:off x="1904760" y="-76320"/>
              <a:ext cx="1828440" cy="6857640"/>
              <a:chOff x="1904760" y="-76320"/>
              <a:chExt cx="1828440" cy="6857640"/>
            </a:xfrm>
          </p:grpSpPr>
          <p:pic>
            <p:nvPicPr>
              <p:cNvPr id="50" name="Picture 12" descr="BGFL016"/>
              <p:cNvPicPr/>
              <p:nvPr/>
            </p:nvPicPr>
            <p:blipFill>
              <a:blip r:embed="rId6"/>
              <a:stretch/>
            </p:blipFill>
            <p:spPr>
              <a:xfrm>
                <a:off x="1904760" y="-76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Picture 13" descr="BGFL016"/>
              <p:cNvPicPr/>
              <p:nvPr/>
            </p:nvPicPr>
            <p:blipFill>
              <a:blip r:embed="rId7"/>
              <a:stretch/>
            </p:blipFill>
            <p:spPr>
              <a:xfrm>
                <a:off x="1904760" y="163800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Picture 14" descr="BGFL016"/>
              <p:cNvPicPr/>
              <p:nvPr/>
            </p:nvPicPr>
            <p:blipFill>
              <a:blip r:embed="rId8"/>
              <a:stretch/>
            </p:blipFill>
            <p:spPr>
              <a:xfrm>
                <a:off x="1904760" y="3352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Picture 15" descr="BGFL016"/>
              <p:cNvPicPr/>
              <p:nvPr/>
            </p:nvPicPr>
            <p:blipFill>
              <a:blip r:embed="rId9"/>
              <a:stretch/>
            </p:blipFill>
            <p:spPr>
              <a:xfrm>
                <a:off x="1904760" y="506700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4" name="Group 16"/>
            <p:cNvGrpSpPr/>
            <p:nvPr/>
          </p:nvGrpSpPr>
          <p:grpSpPr>
            <a:xfrm>
              <a:off x="3733920" y="-76320"/>
              <a:ext cx="1828080" cy="6857640"/>
              <a:chOff x="3733920" y="-76320"/>
              <a:chExt cx="1828080" cy="6857640"/>
            </a:xfrm>
          </p:grpSpPr>
          <p:pic>
            <p:nvPicPr>
              <p:cNvPr id="55" name="Picture 17" descr="BGFL016"/>
              <p:cNvPicPr/>
              <p:nvPr/>
            </p:nvPicPr>
            <p:blipFill>
              <a:blip r:embed="rId10"/>
              <a:stretch/>
            </p:blipFill>
            <p:spPr>
              <a:xfrm>
                <a:off x="3733920" y="-76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" name="Picture 18" descr="BGFL016"/>
              <p:cNvPicPr/>
              <p:nvPr/>
            </p:nvPicPr>
            <p:blipFill>
              <a:blip r:embed="rId11"/>
              <a:stretch/>
            </p:blipFill>
            <p:spPr>
              <a:xfrm>
                <a:off x="3733920" y="163800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Picture 19" descr="BGFL016"/>
              <p:cNvPicPr/>
              <p:nvPr/>
            </p:nvPicPr>
            <p:blipFill>
              <a:blip r:embed="rId12"/>
              <a:stretch/>
            </p:blipFill>
            <p:spPr>
              <a:xfrm>
                <a:off x="3733920" y="3352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Picture 20" descr="BGFL016"/>
              <p:cNvPicPr/>
              <p:nvPr/>
            </p:nvPicPr>
            <p:blipFill>
              <a:blip r:embed="rId13"/>
              <a:stretch/>
            </p:blipFill>
            <p:spPr>
              <a:xfrm>
                <a:off x="3733920" y="506700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" name="Group 21"/>
            <p:cNvGrpSpPr/>
            <p:nvPr/>
          </p:nvGrpSpPr>
          <p:grpSpPr>
            <a:xfrm>
              <a:off x="5562360" y="-76320"/>
              <a:ext cx="1828080" cy="6857640"/>
              <a:chOff x="5562360" y="-76320"/>
              <a:chExt cx="1828080" cy="6857640"/>
            </a:xfrm>
          </p:grpSpPr>
          <p:pic>
            <p:nvPicPr>
              <p:cNvPr id="60" name="Picture 22" descr="BGFL016"/>
              <p:cNvPicPr/>
              <p:nvPr/>
            </p:nvPicPr>
            <p:blipFill>
              <a:blip r:embed="rId14"/>
              <a:stretch/>
            </p:blipFill>
            <p:spPr>
              <a:xfrm>
                <a:off x="5562360" y="-76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Picture 23" descr="BGFL016"/>
              <p:cNvPicPr/>
              <p:nvPr/>
            </p:nvPicPr>
            <p:blipFill>
              <a:blip r:embed="rId15"/>
              <a:stretch/>
            </p:blipFill>
            <p:spPr>
              <a:xfrm>
                <a:off x="5562360" y="163800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Picture 24" descr="BGFL016"/>
              <p:cNvPicPr/>
              <p:nvPr/>
            </p:nvPicPr>
            <p:blipFill>
              <a:blip r:embed="rId16"/>
              <a:stretch/>
            </p:blipFill>
            <p:spPr>
              <a:xfrm>
                <a:off x="5562360" y="3352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Picture 25" descr="BGFL016"/>
              <p:cNvPicPr/>
              <p:nvPr/>
            </p:nvPicPr>
            <p:blipFill>
              <a:blip r:embed="rId17"/>
              <a:stretch/>
            </p:blipFill>
            <p:spPr>
              <a:xfrm>
                <a:off x="5562360" y="506700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4" name="Group 26"/>
            <p:cNvGrpSpPr/>
            <p:nvPr/>
          </p:nvGrpSpPr>
          <p:grpSpPr>
            <a:xfrm>
              <a:off x="7391160" y="-76320"/>
              <a:ext cx="1828440" cy="6857640"/>
              <a:chOff x="7391160" y="-76320"/>
              <a:chExt cx="1828440" cy="6857640"/>
            </a:xfrm>
          </p:grpSpPr>
          <p:pic>
            <p:nvPicPr>
              <p:cNvPr id="65" name="Picture 27" descr="BGFL016"/>
              <p:cNvPicPr/>
              <p:nvPr/>
            </p:nvPicPr>
            <p:blipFill>
              <a:blip r:embed="rId18"/>
              <a:stretch/>
            </p:blipFill>
            <p:spPr>
              <a:xfrm>
                <a:off x="7391160" y="-76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Picture 28" descr="BGFL016"/>
              <p:cNvPicPr/>
              <p:nvPr/>
            </p:nvPicPr>
            <p:blipFill>
              <a:blip r:embed="rId19"/>
              <a:stretch/>
            </p:blipFill>
            <p:spPr>
              <a:xfrm>
                <a:off x="7391160" y="163800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Picture 29" descr="BGFL016"/>
              <p:cNvPicPr/>
              <p:nvPr/>
            </p:nvPicPr>
            <p:blipFill>
              <a:blip r:embed="rId20"/>
              <a:stretch/>
            </p:blipFill>
            <p:spPr>
              <a:xfrm>
                <a:off x="7391160" y="3352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Picture 30" descr="BGFL016"/>
              <p:cNvPicPr/>
              <p:nvPr/>
            </p:nvPicPr>
            <p:blipFill>
              <a:blip r:embed="rId21"/>
              <a:stretch/>
            </p:blipFill>
            <p:spPr>
              <a:xfrm>
                <a:off x="7391160" y="506700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9" name="Text Box 32"/>
          <p:cNvSpPr/>
          <p:nvPr/>
        </p:nvSpPr>
        <p:spPr>
          <a:xfrm>
            <a:off x="914400" y="1716120"/>
            <a:ext cx="762804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3"/>
          <p:cNvSpPr/>
          <p:nvPr/>
        </p:nvSpPr>
        <p:spPr>
          <a:xfrm>
            <a:off x="380880" y="6094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行楷"/>
              </a:rPr>
              <a:t>北师大版三年级语文上册第一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1360" y="2057400"/>
            <a:ext cx="3458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《金色的草地》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课件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219320" y="1752480"/>
            <a:ext cx="7391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自然里有植物、动物，各式各样的物种千千万万，它们色彩缤纷、形态独特、习性各异，经常亲近它们，仔细观察它们，你会有独特的发现、新颖的感受，因而你会激动、兴奋，由此产生眷恋、喜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请大家把自己回到大自然的发现、经历、感受作为课余生活记录下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小学语文（散文）02-5"/>
          <p:cNvPicPr/>
          <p:nvPr/>
        </p:nvPicPr>
        <p:blipFill>
          <a:blip r:embed="rId2"/>
          <a:stretch/>
        </p:blipFill>
        <p:spPr>
          <a:xfrm>
            <a:off x="998640" y="1241280"/>
            <a:ext cx="1668240" cy="435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94C1-1493-4454-A225-0DC146B9E3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52280" y="1523880"/>
            <a:ext cx="91440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隶书"/>
              </a:rPr>
              <a:t>作业超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把课文中自己喜欢的句子抄下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双休日和爸爸妈妈一起到郊外的草地上去踏青，仔细观察你所看到的草地，通过你喜欢的方式向同学们介绍你这次郊游所得。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7"/>
          <p:cNvSpPr/>
          <p:nvPr/>
        </p:nvSpPr>
        <p:spPr>
          <a:xfrm>
            <a:off x="838080" y="2133720"/>
            <a:ext cx="723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小朋友们，大家去草地上玩过吗？展现在你眼前的草地是怎样的？在草地上你玩些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4"/>
          <p:cNvGrpSpPr/>
          <p:nvPr/>
        </p:nvGrpSpPr>
        <p:grpSpPr>
          <a:xfrm>
            <a:off x="1905120" y="1295280"/>
            <a:ext cx="6171840" cy="5028840"/>
            <a:chOff x="1905120" y="1295280"/>
            <a:chExt cx="6171840" cy="5028840"/>
          </a:xfrm>
        </p:grpSpPr>
        <p:pic>
          <p:nvPicPr>
            <p:cNvPr id="76" name="Picture 5" descr=""/>
            <p:cNvPicPr/>
            <p:nvPr/>
          </p:nvPicPr>
          <p:blipFill>
            <a:blip r:embed="rId2"/>
            <a:stretch/>
          </p:blipFill>
          <p:spPr>
            <a:xfrm>
              <a:off x="1905120" y="1295280"/>
              <a:ext cx="5232960" cy="50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6"/>
            <p:cNvSpPr/>
            <p:nvPr/>
          </p:nvSpPr>
          <p:spPr>
            <a:xfrm>
              <a:off x="7409160" y="2408760"/>
              <a:ext cx="667800" cy="25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蒲公英花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634760" y="2133720"/>
            <a:ext cx="333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你见过“金色的草地”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草地是金色的，这是怎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回事呢？我们一起来读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金色的草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200710562347584"/>
          <p:cNvPicPr/>
          <p:nvPr/>
        </p:nvPicPr>
        <p:blipFill>
          <a:blip r:embed="rId2"/>
          <a:srcRect l="0" t="13073" r="-2717" b="0"/>
          <a:stretch/>
        </p:blipFill>
        <p:spPr>
          <a:xfrm>
            <a:off x="1752480" y="1905120"/>
            <a:ext cx="525780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33520" y="1905120"/>
            <a:ext cx="8305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学生思考：文中这片草地出现在哪里？为什么称这片草地为金色的草地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学生思考讨论后指名朗读相关的课文（第一自然段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小学语文（散文）02-2"/>
          <p:cNvPicPr/>
          <p:nvPr/>
        </p:nvPicPr>
        <p:blipFill>
          <a:blip r:embed="rId2"/>
          <a:stretch/>
        </p:blipFill>
        <p:spPr>
          <a:xfrm>
            <a:off x="941400" y="1322280"/>
            <a:ext cx="1725480" cy="3542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1676520" y="2362320"/>
            <a:ext cx="62481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自由朗读课文，同桌交流预习时画　　出的生字，读准字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676520" y="3784680"/>
            <a:ext cx="624816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你最喜欢读哪个自然段，站起来读　　读，让我们感受你对它的喜爱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774800" y="1523880"/>
            <a:ext cx="34736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说草地是金色的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小学语文（散文）02-3"/>
          <p:cNvPicPr/>
          <p:nvPr/>
        </p:nvPicPr>
        <p:blipFill>
          <a:blip r:embed="rId2"/>
          <a:stretch/>
        </p:blipFill>
        <p:spPr>
          <a:xfrm>
            <a:off x="952560" y="1219320"/>
            <a:ext cx="1714320" cy="4572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1853280" y="2146320"/>
            <a:ext cx="37022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主要写了哪两件事情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752480" y="2819520"/>
            <a:ext cx="7010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弟弟是怎样玩蒲公英的？请大家　　各自放声读一读，然后同桌间互相边说　　边演一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981080" y="4419720"/>
            <a:ext cx="6858000" cy="12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发现了什么，又发现了什么；两　　次发现有哪些不同，你从中受到了什　　么启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4T09:40:5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2:10:04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