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gif" ContentType="image/gif"/>
  <Override PartName="/ppt/media/image13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181-3DB1-494A-B8C1-7E138285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793-F42F-4D30-B15E-BA56075A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4C0-2AAF-4B4C-ADA2-029D5DCC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D38-1D4E-405D-9123-2C843FB9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2BF-92F6-450E-90E4-BC8833A3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956-5614-48CC-AD73-6CDB0854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432-44AE-46F2-A078-118D444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DC4-143D-4F65-8C26-DFBC699C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8A9-8571-4196-BF16-9B5FEA0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DB4-3A8F-4954-BF86-00CB6793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0E7-1246-4E92-A78E-C406F8A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BCD-3D74-49E8-B2F0-65FBD68A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1252-F2D7-45EC-9D14-B837B05B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z.mp3" descr=""/>
          <p:cNvPicPr/>
          <p:nvPr/>
        </p:nvPicPr>
        <p:blipFill>
          <a:blip r:embed="rId2"/>
          <a:stretch/>
        </p:blipFill>
        <p:spPr>
          <a:xfrm>
            <a:off x="802800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2060640" y="469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初读感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3700440" y="469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词语正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5284800" y="4723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朗读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2211480" y="42926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4"/>
          <p:cNvSpPr/>
          <p:nvPr/>
        </p:nvSpPr>
        <p:spPr>
          <a:xfrm>
            <a:off x="3851280" y="42926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5435640" y="42926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79360" y="9810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色的鱼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00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4360" y="1628640"/>
            <a:ext cx="81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用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比较快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的速度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默读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课文，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意入眼看得快</a:t>
            </a: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入脑想得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2.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课文主要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把和题目有关的句子用线划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7596360" y="6337440"/>
            <a:ext cx="1547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0005"/>
          <p:cNvPicPr/>
          <p:nvPr/>
        </p:nvPicPr>
        <p:blipFill>
          <a:blip r:embed="rId2"/>
          <a:stretch/>
        </p:blipFill>
        <p:spPr>
          <a:xfrm>
            <a:off x="8101080" y="6021360"/>
            <a:ext cx="571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79320" y="2204280"/>
            <a:ext cx="4421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颧骨  两鬓  搪瓷  收敛  疙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粗糙  抽噎  红锈  宿营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青稞面  喜出望外  热气腾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无边无涯  昏迷不醒  奄奄一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348000" y="1484280"/>
            <a:ext cx="22320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读一读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8" name="Picture 7" descr="0005"/>
          <p:cNvPicPr/>
          <p:nvPr/>
        </p:nvPicPr>
        <p:blipFill>
          <a:blip r:embed="rId4"/>
          <a:stretch/>
        </p:blipFill>
        <p:spPr>
          <a:xfrm>
            <a:off x="7524720" y="573408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2195640" y="28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26920" y="2060640"/>
            <a:ext cx="7058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他坐在那里捧着搪瓷碗，嚼着几根草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和我们吃剩的鱼骨头，嚼了一会儿，就皱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眉头硬咽下去。我觉得有万根钢针扎着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喉管，失声叫起来：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老班长，你怎么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新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我端起搪瓷碗，觉得这个碗有千斤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怎么也送不到嘴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300720" y="4581360"/>
            <a:ext cx="136692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476280"/>
            <a:ext cx="835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当我俯下身子，把鱼汤送到老班长嘴边的时候，老班长已经奄奄一息了。他微微地睁开眼睛，看见我端着的鱼汤头一句话就说：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小梁别浪费东西了。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我不行啦。你们吃吧！还有二十多里路，吃完了，一定要走出草地去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不，你们吃吧。你们一定要走出草地去！见着指导员，告诉他，我没有完成党交给我的任务，没把你们照顾好。看，你们都瘦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老班长用粗糙的手抚摸我的头。突然间，他的手垂了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老班长！老班长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我们叫起来。但是老班长，他，他的眼睛慢慢地闭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835280" y="1484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042920" y="1484280"/>
            <a:ext cx="7848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在这个长满了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红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的鱼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上，闪烁着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烂的金色的光芒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4859280" y="2637000"/>
            <a:ext cx="1656000" cy="1439640"/>
          </a:xfrm>
          <a:prstGeom prst="ellipse">
            <a:avLst/>
          </a:prstGeom>
          <a:noFill/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3319560" y="4221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  <a:ea typeface="华文新魏"/>
              </a:rPr>
              <a:t>金色的光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C84-C0BE-4254-A153-24D1FF2F4D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835280" y="2363760"/>
            <a:ext cx="633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你是怎样理解“在这个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满了红锈的鱼钩上，闪烁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灿烂的金色的光芒”这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908000" y="1341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小组合作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014360" y="2193120"/>
            <a:ext cx="110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复述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搜集长征中发生的感人的故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201I3141350"/>
          <p:cNvPicPr/>
          <p:nvPr/>
        </p:nvPicPr>
        <p:blipFill>
          <a:blip r:embed="rId2"/>
          <a:stretch/>
        </p:blipFill>
        <p:spPr>
          <a:xfrm rot="470400">
            <a:off x="6948360" y="1268280"/>
            <a:ext cx="8478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2:08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3:31:40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