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9CD-65E5-405B-8295-8D28996B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E5E-1C21-4035-873A-F225787E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C36-58EA-4707-B8F9-E1E89AA4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762-B35A-4105-B7B8-BB330080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362-7141-4F1E-868B-7ADABD1E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5B3-07D1-4A32-BD06-28BDD60B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A4A-6C2E-427F-BD88-5046BC21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B7D-2A3D-4C00-8D91-47C34394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229-6B3B-4C65-9AE3-54B78FEC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F32-1B46-4475-B98A-4102E326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26E-5BC9-4230-99DD-D4E46484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D29-B636-4A65-8350-AFF9D12D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A4D0-DC79-4714-9B40-CAA0DD6EC8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410080" y="2306520"/>
            <a:ext cx="39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Arial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7080" y="38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135240" y="3213000"/>
            <a:ext cx="5461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64760" y="3213000"/>
            <a:ext cx="9118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217480" y="3213000"/>
            <a:ext cx="91188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6514560" y="3213000"/>
            <a:ext cx="91188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573408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3AE-567B-405B-9D71-20B883DE28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995640" y="141300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362120" y="313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290840" y="4581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877000" y="2755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54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816520" y="57340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068720" y="1123920"/>
            <a:ext cx="47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924360" y="249228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556000" y="386064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332000" y="515772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7:29:1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