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8DA-3714-48F4-AE47-33FFF8AF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F16-09FE-426C-B9E6-FE33800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138-4EAE-43BE-B6C7-9974ACA9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50F-C241-429B-959C-9EA7A85A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58D7-B15F-452F-A59B-E4B768C8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738F-686D-47FF-97AC-8E20CCA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D667-A2F1-4318-8FAF-8043BDA0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7DF-EAC3-4444-A87F-8B62047D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9C1-8D4A-4F48-B661-1D18A83D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528D-5218-433B-993A-BD2AA6C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DE66-EC54-45D8-A03D-DE21133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1B9-6B2B-4191-92D3-32C7357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D85-74A6-4041-A8B7-E8C7E99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410-A229-4315-BFB3-5A0151B8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962E-FD09-4A27-82EC-36E2BF97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0680-CB4F-45E5-94C2-FB01F30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026-C9D6-48E2-B272-6E2F2705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A26-4D42-49E1-9C90-C819A10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B0D-75B3-44F5-9993-27F1A01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BAF-68D6-41C0-BC71-0292098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922-9F16-4BE8-A033-578F2F82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973-F74C-41FF-8494-D2A7D80B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FD9-22C8-4776-A0A8-2839DBF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116-630C-4FF4-B0C5-5C7B8F0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18B-3D26-4475-A3D7-F9CA2E2E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6D9-35AD-4FC0-B6C3-FB848237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c828004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8480" y="5302080"/>
            <a:ext cx="25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《九色鹿》精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件模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林之中，春光明媚。九色鹿在开满鲜花的草地上睡得正香。突然，乌鸦高声叫喊道：“九色鹿，九色鹿，快醒一醒吧，国王的军队捉你来了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Xc828010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338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陛下，您知道吗？正是这个人，在快要淹死时，我救了他。他发誓永不暴露我的住地，谁知他竟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见利忘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！您与这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魂肮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小人一起来残害无辜，难道不怕天下人笑话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Xc828012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国王非常惭愧。他斥责调达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背信弃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恩将仇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并重重惩罚了他，还下令全国臣民永远不许伤害九色鹿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4" descr="Xc82801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1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9D5-74BF-4762-B0AB-5B166DA7CB21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作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色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故事讲给家长听，准备下次课复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集诚实守信的故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九色鹿今后的生活，续写一段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5" descr="1010370040[1]"/>
          <p:cNvPicPr/>
          <p:nvPr/>
        </p:nvPicPr>
        <p:blipFill>
          <a:blip r:embed="rId1"/>
          <a:stretch/>
        </p:blipFill>
        <p:spPr>
          <a:xfrm>
            <a:off x="17928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1010370040[1]"/>
          <p:cNvPicPr/>
          <p:nvPr/>
        </p:nvPicPr>
        <p:blipFill>
          <a:blip r:embed="rId2"/>
          <a:stretch/>
        </p:blipFill>
        <p:spPr>
          <a:xfrm>
            <a:off x="407664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010370040[1]"/>
          <p:cNvPicPr/>
          <p:nvPr/>
        </p:nvPicPr>
        <p:blipFill>
          <a:blip r:embed="rId3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1010370040[1]"/>
          <p:cNvPicPr/>
          <p:nvPr/>
        </p:nvPicPr>
        <p:blipFill>
          <a:blip r:embed="rId4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谢谢指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fl179"/>
          <p:cNvPicPr/>
          <p:nvPr/>
        </p:nvPicPr>
        <p:blipFill>
          <a:blip r:embed="rId1"/>
          <a:stretch/>
        </p:blipFill>
        <p:spPr>
          <a:xfrm>
            <a:off x="0" y="0"/>
            <a:ext cx="2411280" cy="190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l178"/>
          <p:cNvPicPr/>
          <p:nvPr/>
        </p:nvPicPr>
        <p:blipFill>
          <a:blip r:embed="rId2"/>
          <a:stretch/>
        </p:blipFill>
        <p:spPr>
          <a:xfrm>
            <a:off x="3780000" y="4780080"/>
            <a:ext cx="5364000" cy="20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奴仆             发誓                  灵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榜             斥责                   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 利 忘 义                  背 信 弃 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恩 将 仇 报                  知  恩 图 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010370040[1]"/>
          <p:cNvPicPr/>
          <p:nvPr/>
        </p:nvPicPr>
        <p:blipFill>
          <a:blip r:embed="rId1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010370040[1]"/>
          <p:cNvPicPr/>
          <p:nvPr/>
        </p:nvPicPr>
        <p:blipFill>
          <a:blip r:embed="rId2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1010370040[1]"/>
          <p:cNvPicPr/>
          <p:nvPr/>
        </p:nvPicPr>
        <p:blipFill>
          <a:blip r:embed="rId3"/>
          <a:stretch/>
        </p:blipFill>
        <p:spPr>
          <a:xfrm>
            <a:off x="0" y="587700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010370040[1]"/>
          <p:cNvPicPr/>
          <p:nvPr/>
        </p:nvPicPr>
        <p:blipFill>
          <a:blip r:embed="rId4"/>
          <a:stretch/>
        </p:blipFill>
        <p:spPr>
          <a:xfrm>
            <a:off x="4087800" y="5880240"/>
            <a:ext cx="5067360" cy="3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1692360" y="206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yuwen/167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双角洁白如雪，身上有九种鲜艳的毛色，漂亮极了，人们都称它九色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Xc828004"/>
          <p:cNvPicPr/>
          <p:nvPr/>
        </p:nvPicPr>
        <p:blipFill>
          <a:blip r:embed="rId19"/>
          <a:stretch/>
        </p:blipFill>
        <p:spPr>
          <a:xfrm>
            <a:off x="324000" y="26028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364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天，九色鹿在河边散步。突然，耳边传来“救命啊，救命！”的呼喊，只见一个人在汹涌的波涛中奋力挣扎。九色鹿立即纵身跳进河中，将落水人救上岸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Xc828005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9640" y="407664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落水人名叫调达，得救后连连向九色鹿叩头，感激地说：“谢谢你的救命之恩。我愿意永远做你的奴仆，终身受你的驱使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6" descr="Xc828006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18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九色鹿打断了调达的话说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救你并不是要你做我的奴仆。快回家吧。只要你不向任何人泄露我的住处 ，就算是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恩图报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Picture 5" descr="Xc828006"/>
          <p:cNvPicPr/>
          <p:nvPr/>
        </p:nvPicPr>
        <p:blipFill>
          <a:blip r:embed="rId1"/>
          <a:stretch/>
        </p:blipFill>
        <p:spPr>
          <a:xfrm>
            <a:off x="395280" y="2781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528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调达郑重起誓，决不说出九色鹿的住处，然后千恩万谢地走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6" descr="Xc828006"/>
          <p:cNvPicPr/>
          <p:nvPr/>
        </p:nvPicPr>
        <p:blipFill>
          <a:blip r:embed="rId1"/>
          <a:stretch/>
        </p:blipFill>
        <p:spPr>
          <a:xfrm>
            <a:off x="179280" y="2421000"/>
            <a:ext cx="86425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国王无奈，只好张贴皇榜，重金悬赏捕捉九色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Xc828008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49417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调达看了皇榜，心想发财的机会来啦，就进宫告密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3851280" y="2492280"/>
            <a:ext cx="6095880" cy="3276720"/>
            <a:chOff x="3851280" y="2492280"/>
            <a:chExt cx="6095880" cy="3276720"/>
          </a:xfrm>
        </p:grpSpPr>
        <p:sp>
          <p:nvSpPr>
            <p:cNvPr id="113" name="AutoShape 5"/>
            <p:cNvSpPr/>
            <p:nvPr/>
          </p:nvSpPr>
          <p:spPr>
            <a:xfrm>
              <a:off x="3851280" y="2492280"/>
              <a:ext cx="6095880" cy="3276720"/>
            </a:xfrm>
            <a:prstGeom prst="irregularSeal2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5146560" y="3681360"/>
              <a:ext cx="4267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调达看到皇榜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一心想到的是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他完全忘记了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5" name="Picture 8" descr="Xc828009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352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6:58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2:36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