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8BA-2D83-4003-8AC1-43AEA00B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7D4-F18B-4E2B-BADE-F1DE6E56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17D-24BC-4DA1-91F7-808C3EE6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D05-894B-423E-994B-43F8AE6C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D4C-DAA1-45DD-88F8-5C5F918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A7B-DA83-4081-8463-06A46301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85E-8087-412C-BF2D-FF319DFE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718-194D-4465-8044-3A656EF5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6B9-0C3B-45A7-A56C-1F512B4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F4E-6C38-4E26-BE03-AF985089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941-3A6F-4573-8E4C-B1AED9E1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BB2-8C6D-4F17-A139-1AD34FEF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5EB5-7B4C-4280-8929-99FBF49B63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1E24-8508-474B-A863-11B4EC95A0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wmf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6.wmf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6.wmf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466560" y="10573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fce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fce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3794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78604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金属商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6308640" y="254808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8" y="0"/>
                </a:moveTo>
                <a:arcTo wR="2968" hR="2968" stAng="16200000" swAng="-5400000"/>
                <a:lnTo>
                  <a:pt x="0" y="33513"/>
                </a:lnTo>
                <a:arcTo wR="2968" hR="2968" stAng="10800000" swAng="-5400000"/>
                <a:lnTo>
                  <a:pt x="18632" y="36481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4613400" y="254808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8" y="0"/>
                </a:moveTo>
                <a:arcTo wR="2968" hR="2968" stAng="16200000" swAng="-5400000"/>
                <a:lnTo>
                  <a:pt x="0" y="33733"/>
                </a:lnTo>
                <a:arcTo wR="2968" hR="2968" stAng="10800000" swAng="-5400000"/>
                <a:lnTo>
                  <a:pt x="18632" y="36701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2930400" y="254808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8" y="0"/>
                </a:moveTo>
                <a:arcTo wR="2968" hR="2968" stAng="16200000" swAng="-5400000"/>
                <a:lnTo>
                  <a:pt x="0" y="34848"/>
                </a:lnTo>
                <a:arcTo wR="2968" hR="2968" stAng="10800000" swAng="-5400000"/>
                <a:lnTo>
                  <a:pt x="18632" y="37816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1224000" y="254808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8" y="0"/>
                </a:moveTo>
                <a:arcTo wR="2968" hR="2968" stAng="16200000" swAng="-5400000"/>
                <a:lnTo>
                  <a:pt x="0" y="33521"/>
                </a:lnTo>
                <a:arcTo wR="2968" hR="2968" stAng="10800000" swAng="-5400000"/>
                <a:lnTo>
                  <a:pt x="18632" y="36489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7"/>
          <p:cNvGrpSpPr/>
          <p:nvPr/>
        </p:nvGrpSpPr>
        <p:grpSpPr>
          <a:xfrm>
            <a:off x="1284840" y="977400"/>
            <a:ext cx="6215400" cy="1324800"/>
            <a:chOff x="1284840" y="977400"/>
            <a:chExt cx="6215400" cy="1324800"/>
          </a:xfrm>
        </p:grpSpPr>
        <p:sp>
          <p:nvSpPr>
            <p:cNvPr id="277" name="Rectangle 8"/>
            <p:cNvSpPr/>
            <p:nvPr/>
          </p:nvSpPr>
          <p:spPr>
            <a:xfrm rot="3418800">
              <a:off x="1492560" y="1185480"/>
              <a:ext cx="874080" cy="970920"/>
            </a:xfrm>
            <a:prstGeom prst="rect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9"/>
            <p:cNvGrpSpPr/>
            <p:nvPr/>
          </p:nvGrpSpPr>
          <p:grpSpPr>
            <a:xfrm>
              <a:off x="2409840" y="1358640"/>
              <a:ext cx="899640" cy="124200"/>
              <a:chOff x="2409840" y="1358640"/>
              <a:chExt cx="899640" cy="124200"/>
            </a:xfrm>
          </p:grpSpPr>
          <p:sp>
            <p:nvSpPr>
              <p:cNvPr id="279" name="Oval 10"/>
              <p:cNvSpPr/>
              <p:nvPr/>
            </p:nvSpPr>
            <p:spPr>
              <a:xfrm>
                <a:off x="2409840" y="135864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1"/>
              <p:cNvSpPr/>
              <p:nvPr/>
            </p:nvSpPr>
            <p:spPr>
              <a:xfrm>
                <a:off x="2495880" y="135936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2"/>
              <p:cNvSpPr/>
              <p:nvPr/>
            </p:nvSpPr>
            <p:spPr>
              <a:xfrm>
                <a:off x="3173040" y="136008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13"/>
              <p:cNvSpPr/>
              <p:nvPr/>
            </p:nvSpPr>
            <p:spPr>
              <a:xfrm>
                <a:off x="3245760" y="140004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14"/>
            <p:cNvSpPr/>
            <p:nvPr/>
          </p:nvSpPr>
          <p:spPr>
            <a:xfrm rot="3418800">
              <a:off x="3157200" y="1123200"/>
              <a:ext cx="874080" cy="97092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15"/>
            <p:cNvGrpSpPr/>
            <p:nvPr/>
          </p:nvGrpSpPr>
          <p:grpSpPr>
            <a:xfrm>
              <a:off x="4074840" y="1358640"/>
              <a:ext cx="899640" cy="124200"/>
              <a:chOff x="4074840" y="1358640"/>
              <a:chExt cx="899640" cy="124200"/>
            </a:xfrm>
          </p:grpSpPr>
          <p:sp>
            <p:nvSpPr>
              <p:cNvPr id="285" name="Oval 16"/>
              <p:cNvSpPr/>
              <p:nvPr/>
            </p:nvSpPr>
            <p:spPr>
              <a:xfrm>
                <a:off x="4074840" y="135864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7"/>
              <p:cNvSpPr/>
              <p:nvPr/>
            </p:nvSpPr>
            <p:spPr>
              <a:xfrm>
                <a:off x="4160880" y="135936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18"/>
              <p:cNvSpPr/>
              <p:nvPr/>
            </p:nvSpPr>
            <p:spPr>
              <a:xfrm>
                <a:off x="4838040" y="136008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19"/>
              <p:cNvSpPr/>
              <p:nvPr/>
            </p:nvSpPr>
            <p:spPr>
              <a:xfrm>
                <a:off x="4910760" y="140004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Rectangle 20"/>
            <p:cNvSpPr/>
            <p:nvPr/>
          </p:nvSpPr>
          <p:spPr>
            <a:xfrm rot="3418800">
              <a:off x="4753080" y="1122840"/>
              <a:ext cx="874080" cy="971280"/>
            </a:xfrm>
            <a:prstGeom prst="rect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1"/>
            <p:cNvGrpSpPr/>
            <p:nvPr/>
          </p:nvGrpSpPr>
          <p:grpSpPr>
            <a:xfrm>
              <a:off x="5752080" y="1358640"/>
              <a:ext cx="1180080" cy="124200"/>
              <a:chOff x="5752080" y="1358640"/>
              <a:chExt cx="1180080" cy="124200"/>
            </a:xfrm>
          </p:grpSpPr>
          <p:sp>
            <p:nvSpPr>
              <p:cNvPr id="291" name="Oval 22"/>
              <p:cNvSpPr/>
              <p:nvPr/>
            </p:nvSpPr>
            <p:spPr>
              <a:xfrm>
                <a:off x="5752080" y="135864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23"/>
              <p:cNvSpPr/>
              <p:nvPr/>
            </p:nvSpPr>
            <p:spPr>
              <a:xfrm>
                <a:off x="5865120" y="1359360"/>
                <a:ext cx="9781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>
                <a:off x="6753240" y="1360080"/>
                <a:ext cx="17892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25"/>
              <p:cNvSpPr/>
              <p:nvPr/>
            </p:nvSpPr>
            <p:spPr>
              <a:xfrm>
                <a:off x="6848640" y="140004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26"/>
            <p:cNvSpPr/>
            <p:nvPr/>
          </p:nvSpPr>
          <p:spPr>
            <a:xfrm rot="3418800">
              <a:off x="6417720" y="1122840"/>
              <a:ext cx="874080" cy="97128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Rectangle 27"/>
          <p:cNvSpPr/>
          <p:nvPr/>
        </p:nvSpPr>
        <p:spPr>
          <a:xfrm>
            <a:off x="1602000" y="14731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3297240" y="14731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9"/>
          <p:cNvSpPr/>
          <p:nvPr/>
        </p:nvSpPr>
        <p:spPr>
          <a:xfrm>
            <a:off x="4843440" y="14731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0"/>
          <p:cNvSpPr/>
          <p:nvPr/>
        </p:nvSpPr>
        <p:spPr>
          <a:xfrm>
            <a:off x="6539040" y="14731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1608120" y="2765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3301920" y="2765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3"/>
          <p:cNvSpPr/>
          <p:nvPr/>
        </p:nvSpPr>
        <p:spPr>
          <a:xfrm>
            <a:off x="4997520" y="2765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4"/>
          <p:cNvSpPr/>
          <p:nvPr/>
        </p:nvSpPr>
        <p:spPr>
          <a:xfrm>
            <a:off x="6693120" y="2765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"/>
          <p:cNvSpPr/>
          <p:nvPr/>
        </p:nvSpPr>
        <p:spPr>
          <a:xfrm>
            <a:off x="2717640" y="4116240"/>
            <a:ext cx="453420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2016000" y="4116240"/>
            <a:ext cx="60984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4"/>
          <p:cNvSpPr/>
          <p:nvPr/>
        </p:nvSpPr>
        <p:spPr>
          <a:xfrm>
            <a:off x="2717640" y="3157560"/>
            <a:ext cx="453420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2016000" y="3157560"/>
            <a:ext cx="60984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21200" y="32162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2717640" y="2192400"/>
            <a:ext cx="453420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2016000" y="2192400"/>
            <a:ext cx="609840" cy="5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2717640" y="1262160"/>
            <a:ext cx="4534200" cy="568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2016000" y="1262160"/>
            <a:ext cx="609840" cy="568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121200" y="1327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121200" y="225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121200" y="41846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2149560" y="12142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149560" y="215424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149560" y="310680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2139840" y="40687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hadow_1_m"/>
          <p:cNvPicPr/>
          <p:nvPr/>
        </p:nvPicPr>
        <p:blipFill>
          <a:blip r:embed="rId2"/>
          <a:stretch/>
        </p:blipFill>
        <p:spPr>
          <a:xfrm>
            <a:off x="3352680" y="4640400"/>
            <a:ext cx="2347920" cy="169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hadow_1_m"/>
          <p:cNvPicPr/>
          <p:nvPr/>
        </p:nvPicPr>
        <p:blipFill>
          <a:blip r:embed="rId3"/>
          <a:stretch/>
        </p:blipFill>
        <p:spPr>
          <a:xfrm>
            <a:off x="5867280" y="463068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hadow_1_m"/>
          <p:cNvPicPr/>
          <p:nvPr/>
        </p:nvPicPr>
        <p:blipFill>
          <a:blip r:embed="rId4"/>
          <a:stretch/>
        </p:blipFill>
        <p:spPr>
          <a:xfrm>
            <a:off x="858960" y="4640400"/>
            <a:ext cx="2347920" cy="16956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6"/>
          <p:cNvGrpSpPr/>
          <p:nvPr/>
        </p:nvGrpSpPr>
        <p:grpSpPr>
          <a:xfrm>
            <a:off x="5972040" y="1353960"/>
            <a:ext cx="2174760" cy="3380040"/>
            <a:chOff x="5972040" y="1353960"/>
            <a:chExt cx="2174760" cy="3380040"/>
          </a:xfrm>
        </p:grpSpPr>
        <p:sp>
          <p:nvSpPr>
            <p:cNvPr id="66" name="AutoShape 7"/>
            <p:cNvSpPr/>
            <p:nvPr/>
          </p:nvSpPr>
          <p:spPr>
            <a:xfrm>
              <a:off x="5972040" y="1353960"/>
              <a:ext cx="2174760" cy="338004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80040"/>
                <a:gd name="textAreaBottom" fmla="*/ 3349440 h 3380040"/>
              </a:gdLst>
              <a:ahLst/>
              <a:rect l="textAreaLeft" t="textAreaTop" r="textAreaRight" b="textAreaBottom"/>
              <a:pathLst>
                <a:path w="21600" h="33569">
                  <a:moveTo>
                    <a:pt x="1038" y="0"/>
                  </a:moveTo>
                  <a:arcTo wR="1038" hR="1038" stAng="16200000" swAng="-5400000"/>
                  <a:lnTo>
                    <a:pt x="0" y="32531"/>
                  </a:lnTo>
                  <a:arcTo wR="1038" hR="1038" stAng="10800000" swAng="-5400000"/>
                  <a:lnTo>
                    <a:pt x="20562" y="33569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078240" y="1368000"/>
              <a:ext cx="1978200" cy="1440"/>
              <a:chOff x="6078240" y="1368000"/>
              <a:chExt cx="1978200" cy="1440"/>
            </a:xfrm>
          </p:grpSpPr>
          <p:sp>
            <p:nvSpPr>
              <p:cNvPr id="68" name="Line 8"/>
              <p:cNvSpPr/>
              <p:nvPr/>
            </p:nvSpPr>
            <p:spPr>
              <a:xfrm>
                <a:off x="6078240" y="1368000"/>
                <a:ext cx="197820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6078240" y="1368000"/>
                <a:ext cx="1978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9"/>
            <p:cNvSpPr/>
            <p:nvPr/>
          </p:nvSpPr>
          <p:spPr>
            <a:xfrm flipV="1">
              <a:off x="5987880" y="4684320"/>
              <a:ext cx="2147760" cy="42840"/>
            </a:xfrm>
            <a:prstGeom prst="pie">
              <a:avLst/>
            </a:pr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5999040" y="1357920"/>
              <a:ext cx="2120760" cy="33120"/>
            </a:xfrm>
            <a:prstGeom prst="pie">
              <a:avLst/>
            </a:prstGeom>
            <a:noFill/>
            <a:ln w="9360">
              <a:solidFill>
                <a:srgbClr val="f8f8f8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3476520" y="1811160"/>
            <a:ext cx="2174760" cy="2922840"/>
            <a:chOff x="3476520" y="1811160"/>
            <a:chExt cx="2174760" cy="2922840"/>
          </a:xfrm>
        </p:grpSpPr>
        <p:sp>
          <p:nvSpPr>
            <p:cNvPr id="73" name="AutoShape 12"/>
            <p:cNvSpPr/>
            <p:nvPr/>
          </p:nvSpPr>
          <p:spPr>
            <a:xfrm>
              <a:off x="3476520" y="1811160"/>
              <a:ext cx="2174760" cy="292284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840"/>
                <a:gd name="textAreaBottom" fmla="*/ 2892240 h 2922840"/>
              </a:gdLst>
              <a:ahLst/>
              <a:rect l="textAreaLeft" t="textAreaTop" r="textAreaRight" b="textAreaBottom"/>
              <a:pathLst>
                <a:path w="21600" h="29029">
                  <a:moveTo>
                    <a:pt x="1038" y="0"/>
                  </a:moveTo>
                  <a:arcTo wR="1038" hR="1038" stAng="16200000" swAng="-5400000"/>
                  <a:lnTo>
                    <a:pt x="0" y="27991"/>
                  </a:lnTo>
                  <a:arcTo wR="1038" hR="1038" stAng="10800000" swAng="-5400000"/>
                  <a:lnTo>
                    <a:pt x="20562" y="29029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582720" y="1824840"/>
              <a:ext cx="1978200" cy="1080"/>
              <a:chOff x="3582720" y="1824840"/>
              <a:chExt cx="1978200" cy="1080"/>
            </a:xfrm>
          </p:grpSpPr>
          <p:sp>
            <p:nvSpPr>
              <p:cNvPr id="75" name="Line 13"/>
              <p:cNvSpPr/>
              <p:nvPr/>
            </p:nvSpPr>
            <p:spPr>
              <a:xfrm>
                <a:off x="3582720" y="1824840"/>
                <a:ext cx="1978200" cy="108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3582720" y="1824840"/>
                <a:ext cx="1978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Freeform 14"/>
            <p:cNvSpPr/>
            <p:nvPr/>
          </p:nvSpPr>
          <p:spPr>
            <a:xfrm flipV="1">
              <a:off x="3500280" y="4689360"/>
              <a:ext cx="2121120" cy="38160"/>
            </a:xfrm>
            <a:prstGeom prst="pie">
              <a:avLst/>
            </a:pr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3503520" y="1814040"/>
              <a:ext cx="2120760" cy="29160"/>
            </a:xfrm>
            <a:prstGeom prst="pie">
              <a:avLst/>
            </a:prstGeom>
            <a:noFill/>
            <a:ln w="9360">
              <a:solidFill>
                <a:srgbClr val="f8f8f8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6"/>
          <p:cNvGrpSpPr/>
          <p:nvPr/>
        </p:nvGrpSpPr>
        <p:grpSpPr>
          <a:xfrm>
            <a:off x="1004760" y="2463840"/>
            <a:ext cx="2146320" cy="2270160"/>
            <a:chOff x="1004760" y="2463840"/>
            <a:chExt cx="2146320" cy="2270160"/>
          </a:xfrm>
        </p:grpSpPr>
        <p:sp>
          <p:nvSpPr>
            <p:cNvPr id="80" name="AutoShape 17"/>
            <p:cNvSpPr/>
            <p:nvPr/>
          </p:nvSpPr>
          <p:spPr>
            <a:xfrm>
              <a:off x="1004760" y="246384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109520" y="2475000"/>
              <a:ext cx="1952640" cy="1440"/>
              <a:chOff x="1109520" y="2475000"/>
              <a:chExt cx="1952640" cy="1440"/>
            </a:xfrm>
          </p:grpSpPr>
          <p:sp>
            <p:nvSpPr>
              <p:cNvPr id="82" name="Line 18"/>
              <p:cNvSpPr/>
              <p:nvPr/>
            </p:nvSpPr>
            <p:spPr>
              <a:xfrm>
                <a:off x="1109520" y="2475000"/>
                <a:ext cx="195264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1109520" y="2475000"/>
                <a:ext cx="1952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Freeform 19"/>
            <p:cNvSpPr/>
            <p:nvPr/>
          </p:nvSpPr>
          <p:spPr>
            <a:xfrm flipV="1">
              <a:off x="1028520" y="4699080"/>
              <a:ext cx="2092320" cy="3024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Freeform 20"/>
          <p:cNvSpPr/>
          <p:nvPr/>
        </p:nvSpPr>
        <p:spPr>
          <a:xfrm>
            <a:off x="1031760" y="2465280"/>
            <a:ext cx="2092320" cy="30240"/>
          </a:xfrm>
          <a:prstGeom prst="pie">
            <a:avLst/>
          </a:prstGeom>
          <a:noFill/>
          <a:ln w="9360">
            <a:solidFill>
              <a:srgbClr val="f8f8f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1019160" y="3417840"/>
            <a:ext cx="21337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6067440" y="2344680"/>
            <a:ext cx="2133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1208160" y="255744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1190520" y="4859280"/>
            <a:ext cx="67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5"/>
          <p:cNvGrpSpPr/>
          <p:nvPr/>
        </p:nvGrpSpPr>
        <p:grpSpPr>
          <a:xfrm>
            <a:off x="1687680" y="1611360"/>
            <a:ext cx="720720" cy="821880"/>
            <a:chOff x="1687680" y="1611360"/>
            <a:chExt cx="720720" cy="821880"/>
          </a:xfrm>
        </p:grpSpPr>
        <p:grpSp>
          <p:nvGrpSpPr>
            <p:cNvPr id="91" name="Group 26"/>
            <p:cNvGrpSpPr/>
            <p:nvPr/>
          </p:nvGrpSpPr>
          <p:grpSpPr>
            <a:xfrm>
              <a:off x="1687680" y="1611360"/>
              <a:ext cx="720720" cy="821880"/>
              <a:chOff x="1687680" y="1611360"/>
              <a:chExt cx="720720" cy="821880"/>
            </a:xfrm>
          </p:grpSpPr>
          <p:pic>
            <p:nvPicPr>
              <p:cNvPr id="92" name="Picture 27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1756080" y="225576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2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687680" y="1611360"/>
                <a:ext cx="720720" cy="7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Oval 29"/>
              <p:cNvSpPr/>
              <p:nvPr/>
            </p:nvSpPr>
            <p:spPr>
              <a:xfrm>
                <a:off x="1687680" y="16113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Picture 30" descr="Picture2"/>
            <p:cNvPicPr/>
            <p:nvPr/>
          </p:nvPicPr>
          <p:blipFill>
            <a:blip r:embed="rId7"/>
            <a:stretch/>
          </p:blipFill>
          <p:spPr>
            <a:xfrm>
              <a:off x="1759680" y="161856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WordArt 31"/>
          <p:cNvSpPr/>
          <p:nvPr/>
        </p:nvSpPr>
        <p:spPr>
          <a:xfrm>
            <a:off x="1790640" y="1785960"/>
            <a:ext cx="520920" cy="420840"/>
          </a:xfrm>
          <a:custGeom>
            <a:avLst/>
            <a:gdLst>
              <a:gd name="textAreaLeft" fmla="*/ 0 w 520920"/>
              <a:gd name="textAreaRight" fmla="*/ 521280 w 5209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08080" y="3238560"/>
            <a:ext cx="1916280" cy="360"/>
            <a:chOff x="1108080" y="3238560"/>
            <a:chExt cx="1916280" cy="360"/>
          </a:xfrm>
        </p:grpSpPr>
        <p:sp>
          <p:nvSpPr>
            <p:cNvPr id="98" name="Line 32"/>
            <p:cNvSpPr/>
            <p:nvPr/>
          </p:nvSpPr>
          <p:spPr>
            <a:xfrm>
              <a:off x="1108080" y="323856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108080" y="323856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33"/>
          <p:cNvSpPr/>
          <p:nvPr/>
        </p:nvSpPr>
        <p:spPr>
          <a:xfrm>
            <a:off x="3679920" y="196848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4140360" y="973080"/>
            <a:ext cx="739440" cy="822240"/>
            <a:chOff x="4140360" y="973080"/>
            <a:chExt cx="739440" cy="822240"/>
          </a:xfrm>
        </p:grpSpPr>
        <p:grpSp>
          <p:nvGrpSpPr>
            <p:cNvPr id="102" name="Group 35"/>
            <p:cNvGrpSpPr/>
            <p:nvPr/>
          </p:nvGrpSpPr>
          <p:grpSpPr>
            <a:xfrm>
              <a:off x="4140360" y="973080"/>
              <a:ext cx="739440" cy="822240"/>
              <a:chOff x="4140360" y="973080"/>
              <a:chExt cx="739440" cy="822240"/>
            </a:xfrm>
          </p:grpSpPr>
          <p:pic>
            <p:nvPicPr>
              <p:cNvPr id="103" name="Picture 36" descr="light_shadow"/>
              <p:cNvPicPr/>
              <p:nvPr/>
            </p:nvPicPr>
            <p:blipFill>
              <a:blip r:embed="rId8"/>
              <a:stretch/>
            </p:blipFill>
            <p:spPr>
              <a:xfrm>
                <a:off x="4209840" y="1617480"/>
                <a:ext cx="60912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140360" y="9730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Oval 38"/>
              <p:cNvSpPr/>
              <p:nvPr/>
            </p:nvSpPr>
            <p:spPr>
              <a:xfrm>
                <a:off x="4140360" y="9730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Picture 39" descr="Picture2"/>
            <p:cNvPicPr/>
            <p:nvPr/>
          </p:nvPicPr>
          <p:blipFill>
            <a:blip r:embed="rId10"/>
            <a:stretch/>
          </p:blipFill>
          <p:spPr>
            <a:xfrm>
              <a:off x="4230360" y="981000"/>
              <a:ext cx="56952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WordArt 40"/>
          <p:cNvSpPr/>
          <p:nvPr/>
        </p:nvSpPr>
        <p:spPr>
          <a:xfrm>
            <a:off x="4253040" y="1147680"/>
            <a:ext cx="529920" cy="420840"/>
          </a:xfrm>
          <a:custGeom>
            <a:avLst/>
            <a:gdLst>
              <a:gd name="textAreaLeft" fmla="*/ 0 w 529920"/>
              <a:gd name="textAreaRight" fmla="*/ 530280 w 5299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79840" y="2649600"/>
            <a:ext cx="1915920" cy="1440"/>
            <a:chOff x="3579840" y="2649600"/>
            <a:chExt cx="1915920" cy="1440"/>
          </a:xfrm>
        </p:grpSpPr>
        <p:sp>
          <p:nvSpPr>
            <p:cNvPr id="109" name="Line 41"/>
            <p:cNvSpPr/>
            <p:nvPr/>
          </p:nvSpPr>
          <p:spPr>
            <a:xfrm>
              <a:off x="3579840" y="2649600"/>
              <a:ext cx="1915920" cy="144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579840" y="2649600"/>
              <a:ext cx="1915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42"/>
          <p:cNvSpPr/>
          <p:nvPr/>
        </p:nvSpPr>
        <p:spPr>
          <a:xfrm>
            <a:off x="6175440" y="150192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3" descr="Picture2"/>
          <p:cNvPicPr/>
          <p:nvPr/>
        </p:nvPicPr>
        <p:blipFill>
          <a:blip r:embed="rId11"/>
          <a:stretch/>
        </p:blipFill>
        <p:spPr>
          <a:xfrm>
            <a:off x="6764400" y="544680"/>
            <a:ext cx="569880" cy="2682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075360" y="2192400"/>
            <a:ext cx="1916280" cy="1440"/>
            <a:chOff x="6075360" y="2192400"/>
            <a:chExt cx="1916280" cy="1440"/>
          </a:xfrm>
        </p:grpSpPr>
        <p:sp>
          <p:nvSpPr>
            <p:cNvPr id="114" name="Line 44"/>
            <p:cNvSpPr/>
            <p:nvPr/>
          </p:nvSpPr>
          <p:spPr>
            <a:xfrm>
              <a:off x="6075360" y="2192400"/>
              <a:ext cx="1916280" cy="144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6075360" y="2192400"/>
              <a:ext cx="1916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45"/>
          <p:cNvSpPr/>
          <p:nvPr/>
        </p:nvSpPr>
        <p:spPr>
          <a:xfrm>
            <a:off x="3530520" y="2878200"/>
            <a:ext cx="19987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6"/>
          <p:cNvGrpSpPr/>
          <p:nvPr/>
        </p:nvGrpSpPr>
        <p:grpSpPr>
          <a:xfrm>
            <a:off x="6651720" y="531720"/>
            <a:ext cx="739800" cy="822240"/>
            <a:chOff x="6651720" y="531720"/>
            <a:chExt cx="739800" cy="822240"/>
          </a:xfrm>
        </p:grpSpPr>
        <p:grpSp>
          <p:nvGrpSpPr>
            <p:cNvPr id="118" name="Group 47"/>
            <p:cNvGrpSpPr/>
            <p:nvPr/>
          </p:nvGrpSpPr>
          <p:grpSpPr>
            <a:xfrm>
              <a:off x="6651720" y="531720"/>
              <a:ext cx="739800" cy="822240"/>
              <a:chOff x="6651720" y="531720"/>
              <a:chExt cx="739800" cy="822240"/>
            </a:xfrm>
          </p:grpSpPr>
          <p:pic>
            <p:nvPicPr>
              <p:cNvPr id="119" name="Picture 48" descr="light_shadow"/>
              <p:cNvPicPr/>
              <p:nvPr/>
            </p:nvPicPr>
            <p:blipFill>
              <a:blip r:embed="rId12"/>
              <a:stretch/>
            </p:blipFill>
            <p:spPr>
              <a:xfrm>
                <a:off x="6721560" y="11761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49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6651720" y="53172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val 50"/>
              <p:cNvSpPr/>
              <p:nvPr/>
            </p:nvSpPr>
            <p:spPr>
              <a:xfrm>
                <a:off x="6651720" y="53172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51" descr="Picture2"/>
            <p:cNvPicPr/>
            <p:nvPr/>
          </p:nvPicPr>
          <p:blipFill>
            <a:blip r:embed="rId14"/>
            <a:stretch/>
          </p:blipFill>
          <p:spPr>
            <a:xfrm>
              <a:off x="6742080" y="5396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WordArt 52"/>
          <p:cNvSpPr/>
          <p:nvPr/>
        </p:nvSpPr>
        <p:spPr>
          <a:xfrm>
            <a:off x="6775560" y="711360"/>
            <a:ext cx="530280" cy="420480"/>
          </a:xfrm>
          <a:custGeom>
            <a:avLst/>
            <a:gdLst>
              <a:gd name="textAreaLeft" fmla="*/ 0 w 530280"/>
              <a:gd name="textAreaRight" fmla="*/ 530640 w 530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1143000" y="2509920"/>
            <a:ext cx="2286000" cy="2666880"/>
            <a:chOff x="1143000" y="2509920"/>
            <a:chExt cx="2286000" cy="2666880"/>
          </a:xfrm>
        </p:grpSpPr>
        <p:sp>
          <p:nvSpPr>
            <p:cNvPr id="126" name="AutoShape 4"/>
            <p:cNvSpPr/>
            <p:nvPr/>
          </p:nvSpPr>
          <p:spPr>
            <a:xfrm>
              <a:off x="1143000" y="25099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1238400" y="2710080"/>
              <a:ext cx="203832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6"/>
          <p:cNvSpPr/>
          <p:nvPr/>
        </p:nvSpPr>
        <p:spPr>
          <a:xfrm>
            <a:off x="3222720" y="2413080"/>
            <a:ext cx="903240" cy="12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 flipH="1">
            <a:off x="4869000" y="24098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3048120" y="785880"/>
            <a:ext cx="2998440" cy="1601280"/>
            <a:chOff x="3048120" y="785880"/>
            <a:chExt cx="2998440" cy="1601280"/>
          </a:xfrm>
        </p:grpSpPr>
        <p:grpSp>
          <p:nvGrpSpPr>
            <p:cNvPr id="131" name="Group 9"/>
            <p:cNvGrpSpPr/>
            <p:nvPr/>
          </p:nvGrpSpPr>
          <p:grpSpPr>
            <a:xfrm>
              <a:off x="3048120" y="785880"/>
              <a:ext cx="2998440" cy="1601280"/>
              <a:chOff x="3048120" y="785880"/>
              <a:chExt cx="2998440" cy="1601280"/>
            </a:xfrm>
          </p:grpSpPr>
          <p:grpSp>
            <p:nvGrpSpPr>
              <p:cNvPr id="132" name="Group 10"/>
              <p:cNvGrpSpPr/>
              <p:nvPr/>
            </p:nvGrpSpPr>
            <p:grpSpPr>
              <a:xfrm>
                <a:off x="3048120" y="928800"/>
                <a:ext cx="2998440" cy="1458360"/>
                <a:chOff x="3048120" y="928800"/>
                <a:chExt cx="2998440" cy="1458360"/>
              </a:xfrm>
            </p:grpSpPr>
            <p:sp>
              <p:nvSpPr>
                <p:cNvPr id="133" name="Oval 11"/>
                <p:cNvSpPr/>
                <p:nvPr/>
              </p:nvSpPr>
              <p:spPr>
                <a:xfrm>
                  <a:off x="3080880" y="9752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2"/>
                <p:cNvSpPr/>
                <p:nvPr/>
              </p:nvSpPr>
              <p:spPr>
                <a:xfrm>
                  <a:off x="3048120" y="9288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3"/>
              <p:cNvSpPr/>
              <p:nvPr/>
            </p:nvSpPr>
            <p:spPr>
              <a:xfrm>
                <a:off x="3189240" y="7858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224160" y="7938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5"/>
              <p:cNvSpPr/>
              <p:nvPr/>
            </p:nvSpPr>
            <p:spPr>
              <a:xfrm>
                <a:off x="3251160" y="8064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6"/>
              <p:cNvSpPr/>
              <p:nvPr/>
            </p:nvSpPr>
            <p:spPr>
              <a:xfrm>
                <a:off x="3382920" y="8334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17"/>
            <p:cNvSpPr/>
            <p:nvPr/>
          </p:nvSpPr>
          <p:spPr>
            <a:xfrm>
              <a:off x="3917880" y="986040"/>
              <a:ext cx="11653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8"/>
          <p:cNvGrpSpPr/>
          <p:nvPr/>
        </p:nvGrpSpPr>
        <p:grpSpPr>
          <a:xfrm>
            <a:off x="5562720" y="2509920"/>
            <a:ext cx="2286000" cy="2666880"/>
            <a:chOff x="5562720" y="2509920"/>
            <a:chExt cx="2286000" cy="2666880"/>
          </a:xfrm>
        </p:grpSpPr>
        <p:sp>
          <p:nvSpPr>
            <p:cNvPr id="141" name="AutoShape 19"/>
            <p:cNvSpPr/>
            <p:nvPr/>
          </p:nvSpPr>
          <p:spPr>
            <a:xfrm>
              <a:off x="5562720" y="25099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0"/>
            <p:cNvSpPr/>
            <p:nvPr/>
          </p:nvSpPr>
          <p:spPr>
            <a:xfrm>
              <a:off x="5791320" y="2738520"/>
              <a:ext cx="203832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Freeform 21"/>
          <p:cNvSpPr/>
          <p:nvPr/>
        </p:nvSpPr>
        <p:spPr>
          <a:xfrm flipH="1">
            <a:off x="4874400" y="2413080"/>
            <a:ext cx="903240" cy="12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411360" y="26748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175440" y="26748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6315120" y="2424240"/>
            <a:ext cx="2355840" cy="523800"/>
            <a:chOff x="6315120" y="2424240"/>
            <a:chExt cx="2355840" cy="523800"/>
          </a:xfrm>
        </p:grpSpPr>
        <p:sp>
          <p:nvSpPr>
            <p:cNvPr id="148" name="AutoShape 6"/>
            <p:cNvSpPr/>
            <p:nvPr/>
          </p:nvSpPr>
          <p:spPr>
            <a:xfrm>
              <a:off x="6315120" y="242424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ffc319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>
              <a:off x="6351480" y="245592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8"/>
          <p:cNvSpPr/>
          <p:nvPr/>
        </p:nvSpPr>
        <p:spPr>
          <a:xfrm>
            <a:off x="6743520" y="24750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"/>
          <p:cNvGrpSpPr/>
          <p:nvPr/>
        </p:nvGrpSpPr>
        <p:grpSpPr>
          <a:xfrm>
            <a:off x="3522600" y="2424240"/>
            <a:ext cx="2355840" cy="523800"/>
            <a:chOff x="3522600" y="2424240"/>
            <a:chExt cx="2355840" cy="523800"/>
          </a:xfrm>
        </p:grpSpPr>
        <p:sp>
          <p:nvSpPr>
            <p:cNvPr id="152" name="AutoShape 10"/>
            <p:cNvSpPr/>
            <p:nvPr/>
          </p:nvSpPr>
          <p:spPr>
            <a:xfrm>
              <a:off x="3522600" y="242424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5cb1fe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3558960" y="245592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944880" y="24750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649440" y="267480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747720" y="242424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784080" y="2455920"/>
            <a:ext cx="2273400" cy="12528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1169640" y="24750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871560" y="197496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93800" y="3218040"/>
            <a:ext cx="226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483000" y="32511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6224760" y="3251160"/>
            <a:ext cx="2506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754200" y="928800"/>
            <a:ext cx="77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cc33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0896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896760" y="1285920"/>
            <a:ext cx="3659400" cy="1879560"/>
          </a:xfrm>
          <a:prstGeom prst="pie">
            <a:avLst/>
          </a:prstGeom>
          <a:solidFill>
            <a:srgbClr val="009dd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96760" y="1405080"/>
            <a:ext cx="36529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4699080" y="1289160"/>
            <a:ext cx="3659040" cy="1879560"/>
          </a:xfrm>
          <a:prstGeom prst="pie">
            <a:avLst/>
          </a:prstGeom>
          <a:solidFill>
            <a:srgbClr val="85dfd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 flipH="1">
            <a:off x="4690440" y="1407960"/>
            <a:ext cx="36637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893880" y="3295800"/>
            <a:ext cx="3659040" cy="1879560"/>
          </a:xfrm>
          <a:prstGeom prst="pie">
            <a:avLst/>
          </a:prstGeom>
          <a:solidFill>
            <a:srgbClr val="0f6fc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8"/>
          <p:cNvSpPr/>
          <p:nvPr/>
        </p:nvSpPr>
        <p:spPr>
          <a:xfrm>
            <a:off x="4695840" y="3286080"/>
            <a:ext cx="3659040" cy="1881360"/>
          </a:xfrm>
          <a:prstGeom prst="pie">
            <a:avLst/>
          </a:prstGeom>
          <a:solidFill>
            <a:srgbClr val="e2d7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"/>
          <p:cNvSpPr/>
          <p:nvPr/>
        </p:nvSpPr>
        <p:spPr>
          <a:xfrm>
            <a:off x="5157720" y="3425760"/>
            <a:ext cx="3186360" cy="46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0"/>
          <p:cNvSpPr/>
          <p:nvPr/>
        </p:nvSpPr>
        <p:spPr>
          <a:xfrm flipH="1">
            <a:off x="893160" y="3402000"/>
            <a:ext cx="3165480" cy="46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042920" y="140796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1042920" y="34304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5948280" y="141912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948280" y="345456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1025640" y="2031840"/>
            <a:ext cx="29541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5248440" y="2031840"/>
            <a:ext cx="29890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966960" y="421164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863960" y="421164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29520" y="2217960"/>
            <a:ext cx="1995840" cy="2001240"/>
            <a:chOff x="3629520" y="2217960"/>
            <a:chExt cx="1995840" cy="2001240"/>
          </a:xfrm>
        </p:grpSpPr>
        <p:sp>
          <p:nvSpPr>
            <p:cNvPr id="183" name="Oval 29"/>
            <p:cNvSpPr/>
            <p:nvPr/>
          </p:nvSpPr>
          <p:spPr>
            <a:xfrm>
              <a:off x="3782880" y="2386080"/>
              <a:ext cx="1682640" cy="168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30"/>
            <p:cNvGrpSpPr/>
            <p:nvPr/>
          </p:nvGrpSpPr>
          <p:grpSpPr>
            <a:xfrm>
              <a:off x="3629520" y="2217960"/>
              <a:ext cx="1995840" cy="2001240"/>
              <a:chOff x="3629520" y="2217960"/>
              <a:chExt cx="1995840" cy="2001240"/>
            </a:xfrm>
          </p:grpSpPr>
          <p:pic>
            <p:nvPicPr>
              <p:cNvPr id="185" name="Picture 31" descr="circuler_1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3922560" y="2502360"/>
                <a:ext cx="1398240" cy="143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Oval 32"/>
              <p:cNvSpPr/>
              <p:nvPr/>
            </p:nvSpPr>
            <p:spPr>
              <a:xfrm rot="19311000">
                <a:off x="3923640" y="2498760"/>
                <a:ext cx="1407600" cy="1439280"/>
              </a:xfrm>
              <a:prstGeom prst="ellipse">
                <a:avLst/>
              </a:prstGeom>
              <a:solidFill>
                <a:srgbClr val="ff66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7" name="Picture 33" descr="Picture2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3785400" y="2610720"/>
                <a:ext cx="112176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8" name="Picture 34" descr=""/>
            <p:cNvPicPr/>
            <p:nvPr/>
          </p:nvPicPr>
          <p:blipFill>
            <a:blip r:embed="rId4"/>
            <a:srcRect l="12029" t="9307" r="12418" b="12612"/>
            <a:stretch/>
          </p:blipFill>
          <p:spPr>
            <a:xfrm>
              <a:off x="3906720" y="2454480"/>
              <a:ext cx="1452600" cy="14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Text Box 37"/>
          <p:cNvSpPr/>
          <p:nvPr/>
        </p:nvSpPr>
        <p:spPr>
          <a:xfrm>
            <a:off x="4025880" y="2905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F88-EA07-4887-AFC4-670A7FA45E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 flipV="1">
            <a:off x="1058760" y="3768840"/>
            <a:ext cx="1698840" cy="1589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 flipV="1">
            <a:off x="2992320" y="3189240"/>
            <a:ext cx="1698840" cy="2168640"/>
          </a:xfrm>
          <a:prstGeom prst="can">
            <a:avLst>
              <a:gd name="adj" fmla="val 186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 flipV="1">
            <a:off x="4937040" y="2418480"/>
            <a:ext cx="1687680" cy="2938680"/>
          </a:xfrm>
          <a:prstGeom prst="can">
            <a:avLst>
              <a:gd name="adj" fmla="val 1338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 flipV="1">
            <a:off x="6872400" y="1668600"/>
            <a:ext cx="1687320" cy="3689280"/>
          </a:xfrm>
          <a:prstGeom prst="can">
            <a:avLst>
              <a:gd name="adj" fmla="val 104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7"/>
          <p:cNvGrpSpPr/>
          <p:nvPr/>
        </p:nvGrpSpPr>
        <p:grpSpPr>
          <a:xfrm>
            <a:off x="4937040" y="2395440"/>
            <a:ext cx="1687320" cy="520560"/>
            <a:chOff x="4937040" y="2395440"/>
            <a:chExt cx="1687320" cy="520560"/>
          </a:xfrm>
        </p:grpSpPr>
        <p:sp>
          <p:nvSpPr>
            <p:cNvPr id="199" name="Oval 8"/>
            <p:cNvSpPr/>
            <p:nvPr/>
          </p:nvSpPr>
          <p:spPr>
            <a:xfrm>
              <a:off x="4941360" y="243720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937040" y="239544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6870600" y="1650960"/>
            <a:ext cx="1687320" cy="520560"/>
            <a:chOff x="6870600" y="1650960"/>
            <a:chExt cx="1687320" cy="520560"/>
          </a:xfrm>
        </p:grpSpPr>
        <p:sp>
          <p:nvSpPr>
            <p:cNvPr id="202" name="Oval 11"/>
            <p:cNvSpPr/>
            <p:nvPr/>
          </p:nvSpPr>
          <p:spPr>
            <a:xfrm>
              <a:off x="6874920" y="169272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2"/>
            <p:cNvSpPr/>
            <p:nvPr/>
          </p:nvSpPr>
          <p:spPr>
            <a:xfrm>
              <a:off x="6870600" y="165096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3"/>
          <p:cNvGrpSpPr/>
          <p:nvPr/>
        </p:nvGrpSpPr>
        <p:grpSpPr>
          <a:xfrm>
            <a:off x="1065240" y="3733920"/>
            <a:ext cx="1686960" cy="520200"/>
            <a:chOff x="1065240" y="3733920"/>
            <a:chExt cx="1686960" cy="520200"/>
          </a:xfrm>
        </p:grpSpPr>
        <p:sp>
          <p:nvSpPr>
            <p:cNvPr id="205" name="Oval 14"/>
            <p:cNvSpPr/>
            <p:nvPr/>
          </p:nvSpPr>
          <p:spPr>
            <a:xfrm>
              <a:off x="1069560" y="377568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5"/>
            <p:cNvSpPr/>
            <p:nvPr/>
          </p:nvSpPr>
          <p:spPr>
            <a:xfrm>
              <a:off x="1065240" y="3733920"/>
              <a:ext cx="168264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"/>
          <p:cNvGrpSpPr/>
          <p:nvPr/>
        </p:nvGrpSpPr>
        <p:grpSpPr>
          <a:xfrm>
            <a:off x="3003480" y="3138480"/>
            <a:ext cx="1687320" cy="520200"/>
            <a:chOff x="3003480" y="3138480"/>
            <a:chExt cx="1687320" cy="520200"/>
          </a:xfrm>
        </p:grpSpPr>
        <p:sp>
          <p:nvSpPr>
            <p:cNvPr id="208" name="Oval 17"/>
            <p:cNvSpPr/>
            <p:nvPr/>
          </p:nvSpPr>
          <p:spPr>
            <a:xfrm>
              <a:off x="3007800" y="3180240"/>
              <a:ext cx="168300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3003480" y="3138480"/>
              <a:ext cx="168300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9"/>
          <p:cNvSpPr/>
          <p:nvPr/>
        </p:nvSpPr>
        <p:spPr>
          <a:xfrm>
            <a:off x="857160" y="1044720"/>
            <a:ext cx="40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1047600" y="43909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2995560" y="4390920"/>
            <a:ext cx="16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4954680" y="4390920"/>
            <a:ext cx="163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6892920" y="43909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4" descr="shadow_1_m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70760" y="1787400"/>
            <a:ext cx="1190520" cy="2239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25"/>
          <p:cNvGrpSpPr/>
          <p:nvPr/>
        </p:nvGrpSpPr>
        <p:grpSpPr>
          <a:xfrm>
            <a:off x="7050240" y="711360"/>
            <a:ext cx="1258200" cy="1217160"/>
            <a:chOff x="7050240" y="711360"/>
            <a:chExt cx="1258200" cy="1217160"/>
          </a:xfrm>
        </p:grpSpPr>
        <p:pic>
          <p:nvPicPr>
            <p:cNvPr id="217" name="Picture 26" descr="circuler_1"/>
            <p:cNvPicPr/>
            <p:nvPr/>
          </p:nvPicPr>
          <p:blipFill>
            <a:blip r:embed="rId3"/>
            <a:stretch/>
          </p:blipFill>
          <p:spPr>
            <a:xfrm>
              <a:off x="7050240" y="711360"/>
              <a:ext cx="124956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27"/>
            <p:cNvSpPr/>
            <p:nvPr/>
          </p:nvSpPr>
          <p:spPr>
            <a:xfrm>
              <a:off x="7050240" y="711360"/>
              <a:ext cx="1258200" cy="12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28" descr="Picture2"/>
            <p:cNvPicPr/>
            <p:nvPr/>
          </p:nvPicPr>
          <p:blipFill>
            <a:blip r:embed="rId4"/>
            <a:stretch/>
          </p:blipFill>
          <p:spPr>
            <a:xfrm>
              <a:off x="7175160" y="722880"/>
              <a:ext cx="100224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Rectangle 29"/>
          <p:cNvSpPr/>
          <p:nvPr/>
        </p:nvSpPr>
        <p:spPr>
          <a:xfrm>
            <a:off x="7202160" y="107316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shadow_1_m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5164200" y="2502000"/>
            <a:ext cx="1189080" cy="22356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31"/>
          <p:cNvGrpSpPr/>
          <p:nvPr/>
        </p:nvGrpSpPr>
        <p:grpSpPr>
          <a:xfrm>
            <a:off x="5143680" y="1425600"/>
            <a:ext cx="1256760" cy="1217160"/>
            <a:chOff x="5143680" y="1425600"/>
            <a:chExt cx="1256760" cy="1217160"/>
          </a:xfrm>
        </p:grpSpPr>
        <p:pic>
          <p:nvPicPr>
            <p:cNvPr id="223" name="Picture 32" descr="circuler_1"/>
            <p:cNvPicPr/>
            <p:nvPr/>
          </p:nvPicPr>
          <p:blipFill>
            <a:blip r:embed="rId6"/>
            <a:stretch/>
          </p:blipFill>
          <p:spPr>
            <a:xfrm>
              <a:off x="5143680" y="1425600"/>
              <a:ext cx="124812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Oval 33"/>
            <p:cNvSpPr/>
            <p:nvPr/>
          </p:nvSpPr>
          <p:spPr>
            <a:xfrm>
              <a:off x="5143680" y="1425600"/>
              <a:ext cx="1256760" cy="12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34" descr="Picture2"/>
            <p:cNvPicPr/>
            <p:nvPr/>
          </p:nvPicPr>
          <p:blipFill>
            <a:blip r:embed="rId7"/>
            <a:stretch/>
          </p:blipFill>
          <p:spPr>
            <a:xfrm>
              <a:off x="5268600" y="1437120"/>
              <a:ext cx="100116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Rectangle 35"/>
          <p:cNvSpPr/>
          <p:nvPr/>
        </p:nvSpPr>
        <p:spPr>
          <a:xfrm>
            <a:off x="5293800" y="17874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6" descr="shadow_1_m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3244680" y="3270240"/>
            <a:ext cx="1190880" cy="22392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37"/>
          <p:cNvGrpSpPr/>
          <p:nvPr/>
        </p:nvGrpSpPr>
        <p:grpSpPr>
          <a:xfrm>
            <a:off x="3225960" y="2193840"/>
            <a:ext cx="1256760" cy="1217160"/>
            <a:chOff x="3225960" y="2193840"/>
            <a:chExt cx="1256760" cy="1217160"/>
          </a:xfrm>
        </p:grpSpPr>
        <p:pic>
          <p:nvPicPr>
            <p:cNvPr id="229" name="Picture 38" descr="circuler_1"/>
            <p:cNvPicPr/>
            <p:nvPr/>
          </p:nvPicPr>
          <p:blipFill>
            <a:blip r:embed="rId9"/>
            <a:stretch/>
          </p:blipFill>
          <p:spPr>
            <a:xfrm>
              <a:off x="3225960" y="2193840"/>
              <a:ext cx="124812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Oval 39"/>
            <p:cNvSpPr/>
            <p:nvPr/>
          </p:nvSpPr>
          <p:spPr>
            <a:xfrm>
              <a:off x="3225960" y="2193840"/>
              <a:ext cx="1256760" cy="12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0" descr="Picture2"/>
            <p:cNvPicPr/>
            <p:nvPr/>
          </p:nvPicPr>
          <p:blipFill>
            <a:blip r:embed="rId10"/>
            <a:stretch/>
          </p:blipFill>
          <p:spPr>
            <a:xfrm>
              <a:off x="3350880" y="2205360"/>
              <a:ext cx="100116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Rectangle 41"/>
          <p:cNvSpPr/>
          <p:nvPr/>
        </p:nvSpPr>
        <p:spPr>
          <a:xfrm>
            <a:off x="3376080" y="25560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2" descr="shadow_1_m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1285920" y="3854520"/>
            <a:ext cx="1189080" cy="22392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43"/>
          <p:cNvGrpSpPr/>
          <p:nvPr/>
        </p:nvGrpSpPr>
        <p:grpSpPr>
          <a:xfrm>
            <a:off x="1265400" y="2778120"/>
            <a:ext cx="1258200" cy="1217160"/>
            <a:chOff x="1265400" y="2778120"/>
            <a:chExt cx="1258200" cy="1217160"/>
          </a:xfrm>
        </p:grpSpPr>
        <p:pic>
          <p:nvPicPr>
            <p:cNvPr id="235" name="Picture 44" descr="circuler_1"/>
            <p:cNvPicPr/>
            <p:nvPr/>
          </p:nvPicPr>
          <p:blipFill>
            <a:blip r:embed="rId12"/>
            <a:stretch/>
          </p:blipFill>
          <p:spPr>
            <a:xfrm>
              <a:off x="1265400" y="2778120"/>
              <a:ext cx="124956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45"/>
            <p:cNvSpPr/>
            <p:nvPr/>
          </p:nvSpPr>
          <p:spPr>
            <a:xfrm>
              <a:off x="1265400" y="2778120"/>
              <a:ext cx="1258200" cy="12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46" descr="Picture2"/>
            <p:cNvPicPr/>
            <p:nvPr/>
          </p:nvPicPr>
          <p:blipFill>
            <a:blip r:embed="rId13"/>
            <a:stretch/>
          </p:blipFill>
          <p:spPr>
            <a:xfrm>
              <a:off x="1390320" y="2789640"/>
              <a:ext cx="100224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Rectangle 47"/>
          <p:cNvSpPr/>
          <p:nvPr/>
        </p:nvSpPr>
        <p:spPr>
          <a:xfrm>
            <a:off x="1415520" y="31399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752040" y="35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414360" y="3098880"/>
            <a:ext cx="1886040" cy="201780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800"/>
              <a:gd name="textAreaBottom" fmla="*/ 1926000 h 201780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185840" y="1285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 is 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esign Digital Content &amp; Contents m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2598840" y="3098880"/>
            <a:ext cx="1885680" cy="2017800"/>
          </a:xfrm>
          <a:custGeom>
            <a:avLst/>
            <a:gdLst>
              <a:gd name="textAreaLeft" fmla="*/ 91800 w 1885680"/>
              <a:gd name="textAreaRight" fmla="*/ 1793880 w 1885680"/>
              <a:gd name="textAreaTop" fmla="*/ 91800 h 2017800"/>
              <a:gd name="textAreaBottom" fmla="*/ 1926000 h 2017800"/>
            </a:gdLst>
            <a:ahLst/>
            <a:rect l="textAreaLeft" t="textAreaTop" r="textAreaRight" b="textAreaBottom"/>
            <a:pathLst>
              <a:path w="21600" h="23113">
                <a:moveTo>
                  <a:pt x="3600" y="0"/>
                </a:moveTo>
                <a:arcTo wR="3600" hR="3600" stAng="16200000" swAng="-5400000"/>
                <a:lnTo>
                  <a:pt x="0" y="19513"/>
                </a:lnTo>
                <a:arcTo wR="3600" hR="3600" stAng="10800000" swAng="-5400000"/>
                <a:lnTo>
                  <a:pt x="18000" y="23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4749840" y="3098880"/>
            <a:ext cx="1886040" cy="201780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800"/>
              <a:gd name="textAreaBottom" fmla="*/ 1926000 h 201780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6900840" y="3098880"/>
            <a:ext cx="1886040" cy="201780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800"/>
              <a:gd name="textAreaBottom" fmla="*/ 1926000 h 201780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764560" y="3381480"/>
            <a:ext cx="3240" cy="1463400"/>
            <a:chOff x="8764560" y="3381480"/>
            <a:chExt cx="3240" cy="1463400"/>
          </a:xfrm>
        </p:grpSpPr>
        <p:sp>
          <p:nvSpPr>
            <p:cNvPr id="246" name="Line 7"/>
            <p:cNvSpPr/>
            <p:nvPr/>
          </p:nvSpPr>
          <p:spPr>
            <a:xfrm>
              <a:off x="8764560" y="3381480"/>
              <a:ext cx="3240" cy="1463400"/>
            </a:xfrm>
            <a:prstGeom prst="line">
              <a:avLst/>
            </a:prstGeom>
            <a:ln w="19080">
              <a:solidFill>
                <a:srgbClr val="080808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8764560" y="3381480"/>
              <a:ext cx="3240" cy="146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8"/>
          <p:cNvSpPr/>
          <p:nvPr/>
        </p:nvSpPr>
        <p:spPr>
          <a:xfrm>
            <a:off x="546120" y="408924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33440" y="33274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2595600" y="33274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737240" y="33274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900840" y="33274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2685960" y="408924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848120" y="408924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6999120" y="408924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/>
          <p:cNvSpPr/>
          <p:nvPr/>
        </p:nvSpPr>
        <p:spPr>
          <a:xfrm>
            <a:off x="2343240" y="391320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4484520" y="3913200"/>
            <a:ext cx="26532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6635880" y="391320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00040" y="3784680"/>
            <a:ext cx="1676520" cy="360"/>
            <a:chOff x="500040" y="3784680"/>
            <a:chExt cx="1676520" cy="360"/>
          </a:xfrm>
        </p:grpSpPr>
        <p:sp>
          <p:nvSpPr>
            <p:cNvPr id="260" name="Line 22"/>
            <p:cNvSpPr/>
            <p:nvPr/>
          </p:nvSpPr>
          <p:spPr>
            <a:xfrm>
              <a:off x="500040" y="378468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500040" y="37846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678040" y="3784680"/>
            <a:ext cx="1676520" cy="360"/>
            <a:chOff x="2678040" y="3784680"/>
            <a:chExt cx="1676520" cy="360"/>
          </a:xfrm>
        </p:grpSpPr>
        <p:sp>
          <p:nvSpPr>
            <p:cNvPr id="263" name="Line 23"/>
            <p:cNvSpPr/>
            <p:nvPr/>
          </p:nvSpPr>
          <p:spPr>
            <a:xfrm>
              <a:off x="2678040" y="378468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678040" y="37846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856040" y="3784680"/>
            <a:ext cx="1676520" cy="360"/>
            <a:chOff x="4856040" y="3784680"/>
            <a:chExt cx="1676520" cy="360"/>
          </a:xfrm>
        </p:grpSpPr>
        <p:sp>
          <p:nvSpPr>
            <p:cNvPr id="266" name="Line 24"/>
            <p:cNvSpPr/>
            <p:nvPr/>
          </p:nvSpPr>
          <p:spPr>
            <a:xfrm>
              <a:off x="4856040" y="378468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856040" y="37846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021440" y="3784680"/>
            <a:ext cx="1676520" cy="360"/>
            <a:chOff x="7021440" y="3784680"/>
            <a:chExt cx="1676520" cy="360"/>
          </a:xfrm>
        </p:grpSpPr>
        <p:sp>
          <p:nvSpPr>
            <p:cNvPr id="269" name="Line 25"/>
            <p:cNvSpPr/>
            <p:nvPr/>
          </p:nvSpPr>
          <p:spPr>
            <a:xfrm>
              <a:off x="7021440" y="378468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7021440" y="37846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6:5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09:0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