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EBF-6AF8-4815-AAD6-FACAA87F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966-8251-46B8-8746-4929F0B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487-BB42-4871-9FFC-E6E7AD71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867-2FDA-4539-B945-3F6E71D0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124-C25B-4C8D-BC2C-FE76151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5F6-8ABB-444A-B41F-45A8127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A43-4DA0-4BDB-9E0D-1C714C6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65C-9D06-4BD1-B0F6-FFB96F35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A6D-EE7E-42D1-A0F9-D5C4939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E03-9A2A-4AEE-8B69-7D49959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906-A67C-4F67-BF49-29BE9F7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C4B-40C2-43FC-86C2-4BCC438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445-A39F-4C66-A15E-2A4F9DDC00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:\pic\PSD\效果\动物\眼鏡蛇\未标题-1.png"/>
          <p:cNvPicPr/>
          <p:nvPr/>
        </p:nvPicPr>
        <p:blipFill>
          <a:blip r:embed="rId2"/>
          <a:stretch/>
        </p:blipFill>
        <p:spPr>
          <a:xfrm>
            <a:off x="6858000" y="3865680"/>
            <a:ext cx="1676520" cy="299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7800" y="99072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金属商务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5943600" y="1222200"/>
            <a:ext cx="3200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&amp;S Speedway"/>
              </a:rPr>
              <a:t>once upon a time a teacher and his student lay down under the big tree near the big grass area. Then suddenly the student asked the teach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&amp;S Speedway"/>
              </a:rPr>
              <a:t>"Teacher, I'm confused, how do we find our soul mate? Can you please help me?"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&amp;S Speedway"/>
              </a:rPr>
              <a:t>Silent for a few seconds, the teacher then answered, "Well, it's a pretty hard and an easy question.“</a:t>
            </a:r>
            <a:r>
              <a:rPr b="0" lang="en-US" sz="1200" spc="-1" strike="noStrike">
                <a:solidFill>
                  <a:srgbClr val="000000"/>
                </a:solidFill>
                <a:latin typeface="A&amp;S Speedway"/>
                <a:ea typeface="宋体"/>
              </a:rPr>
              <a:t>www.1ppt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&amp;S Speedway"/>
              </a:rPr>
              <a:t>The teacher continued, "Look that way, there is a lot of grass, why don't you walk there? Please don't walk backwards, just walk straight ahead. On your way, try to find a blade of beautiful grass and pick it up and then give it to me. But j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 rot="16200000">
            <a:off x="-191160" y="277848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&amp;S Speedway"/>
              </a:rPr>
              <a:t>Lifelong lov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pic\新建文件夹\2 [转换]副本.png"/>
          <p:cNvPicPr/>
          <p:nvPr/>
        </p:nvPicPr>
        <p:blipFill>
          <a:blip r:embed="rId2"/>
          <a:stretch/>
        </p:blipFill>
        <p:spPr>
          <a:xfrm>
            <a:off x="4268880" y="914400"/>
            <a:ext cx="4875120" cy="452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7039800" y="403848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parajita"/>
                <a:ea typeface="Aparajita"/>
              </a:rPr>
              <a:t>out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4572000" y="1554120"/>
            <a:ext cx="3657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8640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pic\新建文件夹\4 [转换]副本.png"/>
          <p:cNvPicPr/>
          <p:nvPr/>
        </p:nvPicPr>
        <p:blipFill>
          <a:blip r:embed="rId2"/>
          <a:stretch/>
        </p:blipFill>
        <p:spPr>
          <a:xfrm>
            <a:off x="-227160" y="-760320"/>
            <a:ext cx="7618680" cy="761832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720000" y="243828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parajita"/>
                <a:ea typeface="Aparajita"/>
              </a:rPr>
              <a:t>out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2743200" y="1935000"/>
            <a:ext cx="3657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u two totally have no idea that how much i want to forgive u. </a:t>
            </a: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宋体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726-0404-467D-9F41-C667839AB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"/>
          <p:cNvSpPr/>
          <p:nvPr/>
        </p:nvSpPr>
        <p:spPr>
          <a:xfrm>
            <a:off x="2890800" y="32590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pic\新建文件夹\1 [转换]副本.png"/>
          <p:cNvPicPr/>
          <p:nvPr/>
        </p:nvPicPr>
        <p:blipFill>
          <a:blip r:embed="rId3"/>
          <a:stretch/>
        </p:blipFill>
        <p:spPr>
          <a:xfrm>
            <a:off x="762120" y="1905120"/>
            <a:ext cx="8153280" cy="349236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1676520" y="2895480"/>
            <a:ext cx="3809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282360" y="3429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parajita"/>
                <a:ea typeface="Aparajita"/>
              </a:rPr>
              <a:t>out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pic\新建文件夹\3 [转换]副本.png"/>
          <p:cNvPicPr/>
          <p:nvPr/>
        </p:nvPicPr>
        <p:blipFill>
          <a:blip r:embed="rId2"/>
          <a:stretch/>
        </p:blipFill>
        <p:spPr>
          <a:xfrm>
            <a:off x="3808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1361880" y="101592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&amp;S Speedway"/>
                <a:ea typeface="方正姚体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E:\pic\PSD\效果\动物\眼鏡蛇\未标题-1.png"/>
          <p:cNvPicPr/>
          <p:nvPr/>
        </p:nvPicPr>
        <p:blipFill>
          <a:blip r:embed="rId3"/>
          <a:stretch/>
        </p:blipFill>
        <p:spPr>
          <a:xfrm>
            <a:off x="6705720" y="3865680"/>
            <a:ext cx="1676160" cy="2992320"/>
          </a:xfrm>
          <a:prstGeom prst="rect">
            <a:avLst/>
          </a:prstGeom>
          <a:ln w="0">
            <a:noFill/>
          </a:ln>
        </p:spPr>
      </p:pic>
      <p:sp>
        <p:nvSpPr>
          <p:cNvPr id="64" name="矩形 4"/>
          <p:cNvSpPr/>
          <p:nvPr/>
        </p:nvSpPr>
        <p:spPr>
          <a:xfrm rot="19328400">
            <a:off x="7602480" y="47703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A&amp;S Speedway"/>
                <a:ea typeface="RawStreetWall"/>
              </a:rPr>
              <a:t>Arkey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52:51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