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400"/>
              </a:spcBef>
              <a:buClr>
                <a:srgbClr val="000000"/>
              </a:buClr>
              <a:buSzPct val="25000"/>
              <a:buFont typeface="Wingdings" charset="2"/>
              <a:buChar char="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45120"/>
            <a:ext cx="9139320" cy="360"/>
            <a:chOff x="0" y="6045120"/>
            <a:chExt cx="9139320" cy="360"/>
          </a:xfrm>
        </p:grpSpPr>
        <p:sp>
          <p:nvSpPr>
            <p:cNvPr id="3" name="Line 25"/>
            <p:cNvSpPr/>
            <p:nvPr/>
          </p:nvSpPr>
          <p:spPr>
            <a:xfrm>
              <a:off x="0" y="6045120"/>
              <a:ext cx="9139320" cy="0"/>
            </a:xfrm>
            <a:prstGeom prst="line">
              <a:avLst/>
            </a:prstGeom>
            <a:ln w="93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 txBox="1"/>
            <p:nvPr/>
          </p:nvSpPr>
          <p:spPr>
            <a:xfrm>
              <a:off x="0" y="6045120"/>
              <a:ext cx="913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http://www.eeppt.com/dongtai/" TargetMode="External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0" t="11249" r="0" b="11528"/>
          <a:stretch/>
        </p:blipFill>
        <p:spPr>
          <a:xfrm>
            <a:off x="0" y="771480"/>
            <a:ext cx="9144000" cy="52959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5"/>
          <p:cNvSpPr/>
          <p:nvPr/>
        </p:nvSpPr>
        <p:spPr>
          <a:xfrm>
            <a:off x="777960" y="812880"/>
            <a:ext cx="7566120" cy="430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7"/>
          <p:cNvSpPr/>
          <p:nvPr/>
        </p:nvSpPr>
        <p:spPr>
          <a:xfrm flipH="1" flipV="1">
            <a:off x="777240" y="5113440"/>
            <a:ext cx="756612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3"/>
          <a:srcRect l="4983" t="8481" r="201" b="14201"/>
          <a:stretch/>
        </p:blipFill>
        <p:spPr>
          <a:xfrm>
            <a:off x="-1668600" y="2106720"/>
            <a:ext cx="8148600" cy="260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0" y="6045120"/>
            <a:ext cx="9144000" cy="81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-55440" y="14400"/>
            <a:ext cx="9142200" cy="81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开场动态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647040" y="6248520"/>
            <a:ext cx="2225520" cy="392040"/>
            <a:chOff x="6647040" y="6248520"/>
            <a:chExt cx="2225520" cy="392040"/>
          </a:xfrm>
        </p:grpSpPr>
        <p:pic>
          <p:nvPicPr>
            <p:cNvPr id="48" name="Picture 12" descr=""/>
            <p:cNvPicPr/>
            <p:nvPr/>
          </p:nvPicPr>
          <p:blipFill>
            <a:blip r:embed="rId4"/>
            <a:stretch/>
          </p:blipFill>
          <p:spPr>
            <a:xfrm>
              <a:off x="6647040" y="6248520"/>
              <a:ext cx="222552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2" descr=""/>
            <p:cNvPicPr/>
            <p:nvPr/>
          </p:nvPicPr>
          <p:blipFill>
            <a:blip r:embed="rId5"/>
            <a:srcRect l="0" t="0" r="30532" b="0"/>
            <a:stretch/>
          </p:blipFill>
          <p:spPr>
            <a:xfrm>
              <a:off x="6647040" y="6248520"/>
              <a:ext cx="1546200" cy="39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/>
          <p:cNvSpPr/>
          <p:nvPr/>
        </p:nvSpPr>
        <p:spPr>
          <a:xfrm>
            <a:off x="0" y="6039000"/>
            <a:ext cx="9144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6"/>
          <a:stretch/>
        </p:blipFill>
        <p:spPr>
          <a:xfrm>
            <a:off x="2389320" y="2016000"/>
            <a:ext cx="4195800" cy="26575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625920" y="3208320"/>
            <a:ext cx="2622600" cy="1440"/>
            <a:chOff x="3625920" y="3208320"/>
            <a:chExt cx="2622600" cy="1440"/>
          </a:xfrm>
        </p:grpSpPr>
        <p:sp>
          <p:nvSpPr>
            <p:cNvPr id="53" name="Line 12"/>
            <p:cNvSpPr/>
            <p:nvPr/>
          </p:nvSpPr>
          <p:spPr>
            <a:xfrm>
              <a:off x="3625920" y="3208320"/>
              <a:ext cx="2622600" cy="1440"/>
            </a:xfrm>
            <a:prstGeom prst="line">
              <a:avLst/>
            </a:prstGeom>
            <a:ln w="1260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3625920" y="3208320"/>
              <a:ext cx="2622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768840" y="3703680"/>
            <a:ext cx="2479680" cy="1440"/>
            <a:chOff x="3768840" y="3703680"/>
            <a:chExt cx="2479680" cy="1440"/>
          </a:xfrm>
        </p:grpSpPr>
        <p:sp>
          <p:nvSpPr>
            <p:cNvPr id="56" name="Line 13"/>
            <p:cNvSpPr/>
            <p:nvPr/>
          </p:nvSpPr>
          <p:spPr>
            <a:xfrm>
              <a:off x="3768840" y="3703680"/>
              <a:ext cx="2479680" cy="1440"/>
            </a:xfrm>
            <a:prstGeom prst="line">
              <a:avLst/>
            </a:prstGeom>
            <a:ln w="1260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3768840" y="3703680"/>
              <a:ext cx="2479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649600" y="4224240"/>
            <a:ext cx="3598920" cy="1800"/>
            <a:chOff x="2649600" y="4224240"/>
            <a:chExt cx="3598920" cy="1800"/>
          </a:xfrm>
        </p:grpSpPr>
        <p:sp>
          <p:nvSpPr>
            <p:cNvPr id="59" name="Line 14"/>
            <p:cNvSpPr/>
            <p:nvPr/>
          </p:nvSpPr>
          <p:spPr>
            <a:xfrm>
              <a:off x="2649600" y="4224240"/>
              <a:ext cx="3598920" cy="1800"/>
            </a:xfrm>
            <a:prstGeom prst="line">
              <a:avLst/>
            </a:prstGeom>
            <a:ln w="1260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2649600" y="4224240"/>
              <a:ext cx="3598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46600" y="4224240"/>
            <a:ext cx="1271160" cy="312840"/>
            <a:chOff x="3846600" y="4224240"/>
            <a:chExt cx="1271160" cy="312840"/>
          </a:xfrm>
        </p:grpSpPr>
        <p:grpSp>
          <p:nvGrpSpPr>
            <p:cNvPr id="62" name=""/>
            <p:cNvGrpSpPr/>
            <p:nvPr/>
          </p:nvGrpSpPr>
          <p:grpSpPr>
            <a:xfrm>
              <a:off x="5116320" y="4224240"/>
              <a:ext cx="1440" cy="312840"/>
              <a:chOff x="5116320" y="4224240"/>
              <a:chExt cx="1440" cy="312840"/>
            </a:xfrm>
          </p:grpSpPr>
          <p:sp>
            <p:nvSpPr>
              <p:cNvPr id="63" name="Line 16"/>
              <p:cNvSpPr/>
              <p:nvPr/>
            </p:nvSpPr>
            <p:spPr>
              <a:xfrm>
                <a:off x="5116320" y="4224240"/>
                <a:ext cx="1440" cy="312840"/>
              </a:xfrm>
              <a:prstGeom prst="line">
                <a:avLst/>
              </a:prstGeom>
              <a:ln w="1260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5116320" y="4224240"/>
                <a:ext cx="1440" cy="31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846600" y="4224240"/>
              <a:ext cx="1080" cy="312840"/>
              <a:chOff x="3846600" y="4224240"/>
              <a:chExt cx="1080" cy="312840"/>
            </a:xfrm>
          </p:grpSpPr>
          <p:sp>
            <p:nvSpPr>
              <p:cNvPr id="66" name="Line 17"/>
              <p:cNvSpPr/>
              <p:nvPr/>
            </p:nvSpPr>
            <p:spPr>
              <a:xfrm>
                <a:off x="3846600" y="4224240"/>
                <a:ext cx="1080" cy="312840"/>
              </a:xfrm>
              <a:prstGeom prst="line">
                <a:avLst/>
              </a:prstGeom>
              <a:ln w="1260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3846600" y="4224240"/>
                <a:ext cx="1080" cy="31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Text Box 6"/>
          <p:cNvSpPr/>
          <p:nvPr/>
        </p:nvSpPr>
        <p:spPr>
          <a:xfrm>
            <a:off x="2892600" y="4002120"/>
            <a:ext cx="527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435640" y="4002120"/>
            <a:ext cx="527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TAK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211640" y="4002120"/>
            <a:ext cx="527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CE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211640" y="4265640"/>
            <a:ext cx="527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445000" y="4265640"/>
            <a:ext cx="527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635200" y="3008160"/>
            <a:ext cx="1079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635200" y="3519360"/>
            <a:ext cx="1079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CREATED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041720" y="2998800"/>
            <a:ext cx="2041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www.PresentationLoad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956040" y="3497400"/>
            <a:ext cx="2041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Microsoft Power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6440400" y="6102360"/>
            <a:ext cx="270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6920" y="62895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19191"/>
                </a:solidFill>
                <a:uFillTx/>
                <a:latin typeface="Arial"/>
                <a:hlinkClick r:id="rId7"/>
              </a:rPr>
              <a:t>动态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819">
                                      <p:cBhvr>
                                        <p:cTn id="6" dur="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60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9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1919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1919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8:5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3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