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93A-6AC0-478B-9E9D-F0F36856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21B-7758-49EB-B988-D346569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912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2A3-CF33-4CEC-959C-7184C3A2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120" y="11426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5040" y="11426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120" y="38890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5040" y="38890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CDC-9936-4F6F-838A-119A64EC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61B-2002-43CE-BDEF-47E8A38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ECA-DBB4-4C1A-A509-71AC0814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468-A9C9-4023-98C0-0CD6DCB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D72-30A1-4D37-88E1-000059B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5D2-1E6B-42D2-9971-B61FB85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E7D-E484-44B5-B1BF-8C064B2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912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C21-3E1A-4542-8632-A153793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2FF-CCA2-41BE-8666-FBE4A4F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2A05-DE41-4DED-9B96-F4A0B10FC0B1}" type="slidenum"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tretch/>
        </p:blipFill>
        <p:spPr>
          <a:xfrm>
            <a:off x="6877080" y="49528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4280" y="61419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0240" y="828720"/>
            <a:ext cx="613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科幻动态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0120" y="3691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227-0A77-41B7-985B-2747D0A83DE3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45476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905200" y="2643120"/>
            <a:ext cx="333360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1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2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