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gif" ContentType="image/gif"/>
  <Override PartName="/ppt/media/image9.jpeg" ContentType="image/jpeg"/>
  <Override PartName="/ppt/media/image12.gif" ContentType="image/gif"/>
  <Override PartName="/ppt/media/image18.jpeg" ContentType="image/jpeg"/>
  <Override PartName="/ppt/media/image3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BAD-CF8C-4ECB-AE6D-6E278A84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CEF-D624-4429-ABB4-85653BB7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0E8-340F-4121-BA74-E20B1E6C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294-BD08-406E-9002-8E9D0EC8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53FB-40B5-4217-9A7B-CB159CDA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4AC-1B5C-444D-9C1F-106A3098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B8B-65AA-4ACA-BCA9-0D2B5CE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223-01A4-4F5C-A0D7-3C58E46A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ECB-CDDA-4ACF-A31F-C72CBA9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43F5-CEA9-4711-8E65-B9B2763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C37-E783-49E4-980C-6722D29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EE1-CC73-41C9-BF83-5A817D1D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2554-594B-49B0-8650-8D0C58F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238E-9FB2-402F-A8B8-075DE820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1C32-FFEB-4D2B-A272-BB1E190D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2172-E8B1-4A4A-908E-91CB6EE4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46AC-7FAA-43E3-8EA6-9CD22AFB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328B2-165A-43F6-834F-9B14299F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33D1C-EE52-44BE-A4B2-3FF4BE3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79829-E299-4FE5-B32F-4797F62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66CDA-3635-48B2-862E-9E3B39A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B6CD3-C41F-48B4-80E6-1626E675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8A3-14E4-49A1-AEFD-4A5C691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08283-7E07-4382-872F-47EA19B0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E5B55-877E-43D4-ADC5-AAFA3C7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754C6-E8A7-424F-89C6-F26C732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AED5D-E8D6-431F-A0B4-4D032BF9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E0C45-3376-4F24-85A8-B239CEF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39705-3020-44E7-9E15-3AE2D6A6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EDB1D-3A21-4E2A-9656-40958309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317-0A3A-4C7E-8486-98821DB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74F-C51C-4AFA-9A9F-4EB0E17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5DD-601C-4C2B-A9E9-75DDFD36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4E1-1661-459F-B1A8-3A62966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3A0-0C82-427F-8EE5-1B20F4B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488-1A5A-4F07-A06E-BBFAA570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4CD2-5473-471F-B403-517C15D9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0760" cy="2493720"/>
              <a:chOff x="1440" y="622440"/>
              <a:chExt cx="914076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0F4-EC85-4CE4-9B0F-A81A2685C0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BCF-FABA-4745-B849-63D8CA81AC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2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7,10,&#24187;&#28783;&#29255; 1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atu"/>
          <p:cNvPicPr/>
          <p:nvPr/>
        </p:nvPicPr>
        <p:blipFill>
          <a:blip r:embed="rId1"/>
          <a:stretch/>
        </p:blipFill>
        <p:spPr>
          <a:xfrm>
            <a:off x="762120" y="115884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295280" y="152280"/>
            <a:ext cx="6782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2362320"/>
            <a:ext cx="24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科利亚的木匣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80880" y="914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一部分：（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埋木匣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80880" y="2438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二部分：（ 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挖木匣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335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第三部分：（             ）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得到启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809880" y="838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—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038480" y="24382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4—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038480" y="39625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523880" y="54864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57200" y="4952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围绕这三个小标题，简单谈谈这篇文章主要讲了件什么事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2585520" y="1398600"/>
            <a:ext cx="4385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▲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轻声朗读课文第一段（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思考问题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19040" y="309564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埋木匣和木箱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302920" y="388620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利亚的木匣里有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样埋木匣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木匣里盛着各种各样好玩的东西，有冰鞋、小斧头、小手锯和其他小玩意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724280" y="380880"/>
            <a:ext cx="24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各种各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129528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科利亚从家门口向前走，数了十步，就用铲子挖起坑来。坑挖好了，他把一个木匣放进坑里。他放好了木匣，盖上土，用脚踩实，还在上面撒了一层细沙，免得被人发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37916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036760" y="137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8174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25608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2597400" y="190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137844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625500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435840" y="2895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0" y="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和妈妈是怎样埋东西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828800" y="533520"/>
            <a:ext cx="5562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195640" y="1413000"/>
            <a:ext cx="4392360" cy="301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科利亚从家门口向前走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十步，就用铲子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起坑来。坑（       ）好了，他把一个木匣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进坑里。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好了木匣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上土，用脚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实，还在上面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(      )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了一层细沙，免得被人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133720" y="19810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635280" y="19130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340000" y="3933720"/>
            <a:ext cx="5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3635280" y="3357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5364000" y="378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995640" y="4289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477120" y="34210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3606840" y="234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276720" y="486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7162920" y="6629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4"/>
          <p:cNvSpPr txBox="1"/>
          <p:nvPr/>
        </p:nvSpPr>
        <p:spPr>
          <a:xfrm>
            <a:off x="3419640" y="476280"/>
            <a:ext cx="23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你会填吗？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2711160" y="29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/>
          <p:cNvSpPr/>
          <p:nvPr/>
        </p:nvSpPr>
        <p:spPr>
          <a:xfrm>
            <a:off x="6443640" y="476280"/>
            <a:ext cx="2700360" cy="2016000"/>
          </a:xfrm>
          <a:prstGeom prst="cloudCallout">
            <a:avLst>
              <a:gd name="adj1" fmla="val -45472"/>
              <a:gd name="adj2" fmla="val 44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这些动作词，你觉得科利亚是个怎样的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4419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0" y="30481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0" y="5867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0" y="1676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思考，科利亚终于挖到了木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838080" y="4572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仔细读第二部分，重新排列顺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>
            <a:hlinkClick r:id="" action="ppaction://hlinkshowjump?jump=nextslide"/>
          </p:cNvPr>
          <p:cNvSpPr/>
          <p:nvPr/>
        </p:nvSpPr>
        <p:spPr>
          <a:xfrm>
            <a:off x="0" y="533520"/>
            <a:ext cx="762120" cy="6858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838080" y="12952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4800600"/>
            <a:ext cx="8915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经过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科利亚终于挖到了木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20574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数了三十步，妈妈挖到了箱子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法西斯被赶走了，科利亚回到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0" y="342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科利亚数了十步，却没挖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761280" y="53352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小组合作学习、讨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2307960" y="1828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从埋东西到挖东西经过了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line151"/>
          <p:cNvPicPr/>
          <p:nvPr/>
        </p:nvPicPr>
        <p:blipFill>
          <a:blip r:embed="rId1"/>
          <a:stretch/>
        </p:blipFill>
        <p:spPr>
          <a:xfrm>
            <a:off x="1371600" y="1371600"/>
            <a:ext cx="4971960" cy="1713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198320" y="2895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找出妈妈挖箱子和科利亚挖木匣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2671920" y="39625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0301"/>
                </a:solidFill>
                <a:latin typeface="Times New Roman"/>
              </a:rPr>
              <a:t>科利亚为什么开始时找不到木匣子，后来找到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从家门口朝前走了三十步，挖出了她埋的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高兴地说：“算术真有用。如果当初我随便挖个坑把箱子埋了，现在就不好找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038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533520" y="228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7864"/>
                </a:solidFill>
                <a:latin typeface="华文新魏"/>
                <a:ea typeface="华文新魏"/>
              </a:rPr>
              <a:t>科利亚开始是怎样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09480" y="18288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也拿来铲子，从家门口向前走了十步，动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起来。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呀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呀，坑已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得很深了，还没找到匣子。他又朝左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朝右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，仍然没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2438280"/>
            <a:ext cx="739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1c06"/>
                </a:solidFill>
                <a:latin typeface="Tahoma"/>
                <a:ea typeface="幼圆"/>
              </a:rPr>
              <a:t>     </a:t>
            </a:r>
            <a:r>
              <a:rPr b="1" lang="zh-CN" sz="4400" spc="-1" strike="noStrike">
                <a:solidFill>
                  <a:srgbClr val="ee1c06"/>
                </a:solidFill>
                <a:latin typeface="Tahoma"/>
                <a:ea typeface="幼圆"/>
              </a:rPr>
              <a:t>现在的你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幼圆"/>
              </a:rPr>
              <a:t>和</a:t>
            </a:r>
            <a:r>
              <a:rPr b="1" lang="zh-CN" sz="4400" spc="-1" strike="noStrike">
                <a:solidFill>
                  <a:srgbClr val="ee1c06"/>
                </a:solidFill>
                <a:latin typeface="Tahoma"/>
                <a:ea typeface="幼圆"/>
              </a:rPr>
              <a:t>小时候的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幼圆"/>
              </a:rPr>
              <a:t>相比有什么变化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3429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说说看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1066680" y="380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科利亚也拿来铲子，从家门口向前走了十步，动手挖起来。他挖呀，挖呀，坑已经挖得很深了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还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找到匣子。他又朝左边挖，朝右边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仍然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没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2743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仍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"/>
          <p:cNvSpPr/>
          <p:nvPr/>
        </p:nvSpPr>
        <p:spPr>
          <a:xfrm>
            <a:off x="2895480" y="3352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562720" y="26668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依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200400" y="2590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 flipH="1">
            <a:off x="1828080" y="123984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5406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利亚丢下铲子，坐在台阶上，用手摸着脑门儿想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3360" y="2205000"/>
            <a:ext cx="8540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当时在想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找不到木匣的可能性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木匣可能被法西斯挖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数步法可能不管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挖的方法可能不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己的步子可能有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-1395360"/>
            <a:ext cx="854064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" descr="line151"/>
          <p:cNvPicPr/>
          <p:nvPr/>
        </p:nvPicPr>
        <p:blipFill>
          <a:blip r:embed="rId1"/>
          <a:stretch/>
        </p:blipFill>
        <p:spPr>
          <a:xfrm>
            <a:off x="2627280" y="-1324080"/>
            <a:ext cx="496908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一种可能性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木匣可能被法西斯挖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伙伴们说：“也许，法西斯把你的宝贝挖走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利亚说：“不会的，敌人连我们家的大箱子都没挖走，还能找到我的小木匣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，想一想，从他们的对话中可以找到什么依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line151"/>
          <p:cNvPicPr/>
          <p:nvPr/>
        </p:nvPicPr>
        <p:blipFill>
          <a:blip r:embed="rId1"/>
          <a:stretch/>
        </p:blipFill>
        <p:spPr>
          <a:xfrm>
            <a:off x="1835280" y="1628640"/>
            <a:ext cx="4971960" cy="171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line151"/>
          <p:cNvPicPr/>
          <p:nvPr/>
        </p:nvPicPr>
        <p:blipFill>
          <a:blip r:embed="rId2"/>
          <a:stretch/>
        </p:blipFill>
        <p:spPr>
          <a:xfrm>
            <a:off x="2050920" y="1844640"/>
            <a:ext cx="497232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步法可能不管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找出描写妈妈埋箱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挖箱子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妈妈把有些东西放进箱子里，从家门口向前走了三十步，把箱子埋在地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妈妈从家门口朝前走了三十步，挖出了她埋的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</a:rPr>
              <a:t>读读这两句，想一想妈妈用的是什么方法埋箱子、挖箱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line151"/>
          <p:cNvPicPr/>
          <p:nvPr/>
        </p:nvPicPr>
        <p:blipFill>
          <a:blip r:embed="rId1"/>
          <a:stretch/>
        </p:blipFill>
        <p:spPr>
          <a:xfrm>
            <a:off x="2195640" y="1413000"/>
            <a:ext cx="4971960" cy="1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挖的方法可能不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5406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家的房子还在，屋里的东西却被法西斯抢走了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房子还在”告诉我们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科利亚不可能把方向搞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r05"/>
          <p:cNvPicPr/>
          <p:nvPr/>
        </p:nvPicPr>
        <p:blipFill>
          <a:blip r:embed="rId1"/>
          <a:stretch/>
        </p:blipFill>
        <p:spPr>
          <a:xfrm>
            <a:off x="5651640" y="3733920"/>
            <a:ext cx="1869840" cy="3124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line151"/>
          <p:cNvPicPr/>
          <p:nvPr/>
        </p:nvPicPr>
        <p:blipFill>
          <a:blip r:embed="rId2"/>
          <a:stretch/>
        </p:blipFill>
        <p:spPr>
          <a:xfrm>
            <a:off x="2050920" y="1557360"/>
            <a:ext cx="4972320" cy="171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第四种可能性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己的步子可能有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就在那一天，妈妈、奶奶带着科利亚到喀山去了，在那儿住了差不多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个年头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年头，科利亚会发生什么变化呢？（同桌互相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line151"/>
          <p:cNvPicPr/>
          <p:nvPr/>
        </p:nvPicPr>
        <p:blipFill>
          <a:blip r:embed="rId1"/>
          <a:stretch/>
        </p:blipFill>
        <p:spPr>
          <a:xfrm>
            <a:off x="2124000" y="1844640"/>
            <a:ext cx="49719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我知道是怎么回事啦！木匣是我四年前埋的，那时候我还小，步子也小。我现在九岁啦，步子比那时候大了一倍，所以应该走的不是十步，而是五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04920" y="30448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段话讲科利亚经过自己的思考，终于找出了问题的症结。从中又可以看出科利亚非常善于动脑筋，善于独立思考，善于分析问题和解决问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914400" y="22860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科利亚量了五步，又动手挖起来，不多一会儿，他果然找到了木匣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215320" y="28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7951"/>
                </a:solidFill>
                <a:latin typeface="Arial"/>
                <a:ea typeface="楷体_GB2312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6"/>
          <p:cNvSpPr/>
          <p:nvPr/>
        </p:nvSpPr>
        <p:spPr>
          <a:xfrm flipH="1">
            <a:off x="1828080" y="-1884240"/>
            <a:ext cx="59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143000" y="2362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2743200" y="3048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867280" y="2590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果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3124080" y="22860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近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1523880"/>
            <a:ext cx="95248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xi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á</a:t>
            </a: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   j</a:t>
            </a:r>
            <a:r>
              <a:rPr b="1" lang="en-US" sz="4000" spc="-1" strike="noStrike">
                <a:solidFill>
                  <a:srgbClr val="00ffcc"/>
                </a:solidFill>
                <a:latin typeface="Times New Roman"/>
                <a:ea typeface="楷体_GB2312"/>
              </a:rPr>
              <a:t>ù</a:t>
            </a:r>
            <a:r>
              <a:rPr b="1" lang="en-US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  jiē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木匣   手锯  台阶  测量  数数  难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挖坑   冰鞋  斧头  免得    房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抢走   当初  管事    敌人  懂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喀山   仍然   玩意   随便   算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457200" y="4572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059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1676520" y="1981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请画出科利亚第一次和第二次挖木匣时怎样量步子</a:t>
            </a:r>
            <a:r>
              <a:rPr b="1" lang="en-US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怎样挖到木匣的示意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2273400" y="176688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埋木匣   只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步子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273400" y="327672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挖木匣   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以后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步子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1620720" y="2590920"/>
            <a:ext cx="3256920" cy="457200"/>
            <a:chOff x="1620720" y="2590920"/>
            <a:chExt cx="3256920" cy="457200"/>
          </a:xfrm>
        </p:grpSpPr>
        <p:sp>
          <p:nvSpPr>
            <p:cNvPr id="350" name="Line 6"/>
            <p:cNvSpPr/>
            <p:nvPr/>
          </p:nvSpPr>
          <p:spPr>
            <a:xfrm>
              <a:off x="1620720" y="304812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7"/>
            <p:cNvSpPr/>
            <p:nvPr/>
          </p:nvSpPr>
          <p:spPr>
            <a:xfrm flipV="1">
              <a:off x="16207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8"/>
            <p:cNvSpPr/>
            <p:nvPr/>
          </p:nvSpPr>
          <p:spPr>
            <a:xfrm flipV="1">
              <a:off x="19256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"/>
            <p:cNvSpPr/>
            <p:nvPr/>
          </p:nvSpPr>
          <p:spPr>
            <a:xfrm flipV="1">
              <a:off x="22302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 flipV="1">
              <a:off x="25351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 flipV="1">
              <a:off x="28400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"/>
            <p:cNvSpPr/>
            <p:nvPr/>
          </p:nvSpPr>
          <p:spPr>
            <a:xfrm flipV="1">
              <a:off x="34495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V="1">
              <a:off x="37544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4"/>
            <p:cNvSpPr/>
            <p:nvPr/>
          </p:nvSpPr>
          <p:spPr>
            <a:xfrm flipV="1">
              <a:off x="40590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 flipV="1">
              <a:off x="436392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 flipV="1">
              <a:off x="466884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7"/>
            <p:cNvSpPr/>
            <p:nvPr/>
          </p:nvSpPr>
          <p:spPr>
            <a:xfrm flipV="1">
              <a:off x="3144600" y="2895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8061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211068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0"/>
            <p:cNvSpPr/>
            <p:nvPr/>
          </p:nvSpPr>
          <p:spPr>
            <a:xfrm>
              <a:off x="24156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1"/>
            <p:cNvSpPr/>
            <p:nvPr/>
          </p:nvSpPr>
          <p:spPr>
            <a:xfrm>
              <a:off x="27205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2"/>
            <p:cNvSpPr/>
            <p:nvPr/>
          </p:nvSpPr>
          <p:spPr>
            <a:xfrm>
              <a:off x="302508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3"/>
            <p:cNvSpPr/>
            <p:nvPr/>
          </p:nvSpPr>
          <p:spPr>
            <a:xfrm>
              <a:off x="33300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4"/>
            <p:cNvSpPr/>
            <p:nvPr/>
          </p:nvSpPr>
          <p:spPr>
            <a:xfrm>
              <a:off x="363492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39078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6"/>
            <p:cNvSpPr/>
            <p:nvPr/>
          </p:nvSpPr>
          <p:spPr>
            <a:xfrm>
              <a:off x="4244400" y="2590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27"/>
            <p:cNvSpPr/>
            <p:nvPr/>
          </p:nvSpPr>
          <p:spPr>
            <a:xfrm>
              <a:off x="4516920" y="2590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8"/>
          <p:cNvGrpSpPr/>
          <p:nvPr/>
        </p:nvGrpSpPr>
        <p:grpSpPr>
          <a:xfrm>
            <a:off x="1676520" y="3886200"/>
            <a:ext cx="6304680" cy="900000"/>
            <a:chOff x="1676520" y="3886200"/>
            <a:chExt cx="6304680" cy="900000"/>
          </a:xfrm>
        </p:grpSpPr>
        <p:sp>
          <p:nvSpPr>
            <p:cNvPr id="373" name="Rectangle 29"/>
            <p:cNvSpPr/>
            <p:nvPr/>
          </p:nvSpPr>
          <p:spPr>
            <a:xfrm>
              <a:off x="1744920" y="3886200"/>
              <a:ext cx="8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第一次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1676520" y="478620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 flipV="1">
              <a:off x="16765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2"/>
            <p:cNvSpPr/>
            <p:nvPr/>
          </p:nvSpPr>
          <p:spPr>
            <a:xfrm flipV="1">
              <a:off x="22860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3"/>
            <p:cNvSpPr/>
            <p:nvPr/>
          </p:nvSpPr>
          <p:spPr>
            <a:xfrm flipV="1">
              <a:off x="28958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4"/>
            <p:cNvSpPr/>
            <p:nvPr/>
          </p:nvSpPr>
          <p:spPr>
            <a:xfrm flipV="1">
              <a:off x="35053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5"/>
            <p:cNvSpPr/>
            <p:nvPr/>
          </p:nvSpPr>
          <p:spPr>
            <a:xfrm flipV="1">
              <a:off x="41594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6"/>
            <p:cNvSpPr/>
            <p:nvPr/>
          </p:nvSpPr>
          <p:spPr>
            <a:xfrm flipV="1">
              <a:off x="5378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7"/>
            <p:cNvSpPr/>
            <p:nvPr/>
          </p:nvSpPr>
          <p:spPr>
            <a:xfrm flipV="1">
              <a:off x="598824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8"/>
            <p:cNvSpPr/>
            <p:nvPr/>
          </p:nvSpPr>
          <p:spPr>
            <a:xfrm flipV="1">
              <a:off x="6629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9"/>
            <p:cNvSpPr/>
            <p:nvPr/>
          </p:nvSpPr>
          <p:spPr>
            <a:xfrm flipV="1">
              <a:off x="72072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0"/>
            <p:cNvSpPr/>
            <p:nvPr/>
          </p:nvSpPr>
          <p:spPr>
            <a:xfrm flipV="1">
              <a:off x="777240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41"/>
            <p:cNvSpPr/>
            <p:nvPr/>
          </p:nvSpPr>
          <p:spPr>
            <a:xfrm flipV="1">
              <a:off x="4768920" y="46335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2"/>
            <p:cNvSpPr/>
            <p:nvPr/>
          </p:nvSpPr>
          <p:spPr>
            <a:xfrm>
              <a:off x="21664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3"/>
            <p:cNvSpPr/>
            <p:nvPr/>
          </p:nvSpPr>
          <p:spPr>
            <a:xfrm>
              <a:off x="27763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4"/>
            <p:cNvSpPr/>
            <p:nvPr/>
          </p:nvSpPr>
          <p:spPr>
            <a:xfrm>
              <a:off x="33858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5"/>
            <p:cNvSpPr/>
            <p:nvPr/>
          </p:nvSpPr>
          <p:spPr>
            <a:xfrm>
              <a:off x="40399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6"/>
            <p:cNvSpPr/>
            <p:nvPr/>
          </p:nvSpPr>
          <p:spPr>
            <a:xfrm>
              <a:off x="46494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7"/>
            <p:cNvSpPr/>
            <p:nvPr/>
          </p:nvSpPr>
          <p:spPr>
            <a:xfrm>
              <a:off x="52588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8"/>
            <p:cNvSpPr/>
            <p:nvPr/>
          </p:nvSpPr>
          <p:spPr>
            <a:xfrm>
              <a:off x="586872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9"/>
            <p:cNvSpPr/>
            <p:nvPr/>
          </p:nvSpPr>
          <p:spPr>
            <a:xfrm>
              <a:off x="647820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50"/>
            <p:cNvSpPr/>
            <p:nvPr/>
          </p:nvSpPr>
          <p:spPr>
            <a:xfrm>
              <a:off x="7087680" y="4329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51"/>
            <p:cNvSpPr/>
            <p:nvPr/>
          </p:nvSpPr>
          <p:spPr>
            <a:xfrm>
              <a:off x="7620480" y="4329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4724640" y="478620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53"/>
          <p:cNvGrpSpPr/>
          <p:nvPr/>
        </p:nvGrpSpPr>
        <p:grpSpPr>
          <a:xfrm>
            <a:off x="1602360" y="5105520"/>
            <a:ext cx="3317760" cy="990360"/>
            <a:chOff x="1602360" y="5105520"/>
            <a:chExt cx="3317760" cy="990360"/>
          </a:xfrm>
        </p:grpSpPr>
        <p:sp>
          <p:nvSpPr>
            <p:cNvPr id="398" name="Rectangle 54"/>
            <p:cNvSpPr/>
            <p:nvPr/>
          </p:nvSpPr>
          <p:spPr>
            <a:xfrm>
              <a:off x="1602360" y="510552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第二次</a:t>
              </a:r>
              <a:r>
                <a:rPr b="1" lang="en-US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>
              <a:off x="1676520" y="609588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16765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228600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289584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35053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415944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1"/>
            <p:cNvSpPr/>
            <p:nvPr/>
          </p:nvSpPr>
          <p:spPr>
            <a:xfrm flipV="1">
              <a:off x="4768920" y="59428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62"/>
            <p:cNvSpPr/>
            <p:nvPr/>
          </p:nvSpPr>
          <p:spPr>
            <a:xfrm>
              <a:off x="216648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63"/>
            <p:cNvSpPr/>
            <p:nvPr/>
          </p:nvSpPr>
          <p:spPr>
            <a:xfrm>
              <a:off x="277632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64"/>
            <p:cNvSpPr/>
            <p:nvPr/>
          </p:nvSpPr>
          <p:spPr>
            <a:xfrm>
              <a:off x="338580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65"/>
            <p:cNvSpPr/>
            <p:nvPr/>
          </p:nvSpPr>
          <p:spPr>
            <a:xfrm>
              <a:off x="403992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66"/>
            <p:cNvSpPr/>
            <p:nvPr/>
          </p:nvSpPr>
          <p:spPr>
            <a:xfrm>
              <a:off x="4649400" y="5638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68" descr="r05"/>
          <p:cNvPicPr/>
          <p:nvPr/>
        </p:nvPicPr>
        <p:blipFill>
          <a:blip r:embed="rId1"/>
          <a:stretch/>
        </p:blipFill>
        <p:spPr>
          <a:xfrm>
            <a:off x="6804000" y="476280"/>
            <a:ext cx="1870200" cy="3124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9" descr="米老鼠1"/>
          <p:cNvPicPr/>
          <p:nvPr/>
        </p:nvPicPr>
        <p:blipFill>
          <a:blip r:embed="rId2"/>
          <a:stretch/>
        </p:blipFill>
        <p:spPr>
          <a:xfrm>
            <a:off x="6948360" y="5300640"/>
            <a:ext cx="1123920" cy="1289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0" descr="home074"/>
          <p:cNvPicPr/>
          <p:nvPr/>
        </p:nvPicPr>
        <p:blipFill>
          <a:blip r:embed="rId3"/>
          <a:stretch/>
        </p:blipFill>
        <p:spPr>
          <a:xfrm>
            <a:off x="0" y="1341360"/>
            <a:ext cx="1496880" cy="20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2" descr="home074"/>
          <p:cNvPicPr/>
          <p:nvPr/>
        </p:nvPicPr>
        <p:blipFill>
          <a:blip r:embed="rId4"/>
          <a:stretch/>
        </p:blipFill>
        <p:spPr>
          <a:xfrm>
            <a:off x="0" y="4800600"/>
            <a:ext cx="1496880" cy="2057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3" descr="home074"/>
          <p:cNvPicPr/>
          <p:nvPr/>
        </p:nvPicPr>
        <p:blipFill>
          <a:blip r:embed="rId5"/>
          <a:stretch/>
        </p:blipFill>
        <p:spPr>
          <a:xfrm>
            <a:off x="0" y="3357720"/>
            <a:ext cx="1496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科利亚高兴地说：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伙伴们，今天我不光找到了匣子，还懂得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间一天天过去，我们一天天长大，步子也在渐渐变大。周围的一切，不是都在起变化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？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04920" y="3044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这是科利亚的体会，是他从挖木匣中得到的认识：时间过去了，人长大了，步子也变大了，由此他认识到周围的一切都在起变化。面对着变化着的事物，不能采取固定不变的态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31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848720" y="5410080"/>
            <a:ext cx="977760" cy="10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914400" y="533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这件事情让科利亚得到了怎样的启示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914400" y="26193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时间一天天过去，我们一天天长大，步子也在渐渐变大。周围的一切，都在起着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EDUCH012"/>
          <p:cNvPicPr/>
          <p:nvPr/>
        </p:nvPicPr>
        <p:blipFill>
          <a:blip r:embed="rId1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2627280" y="9810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这件事情，又让你想到了些什么呢？能举个例子说一说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31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848720" y="5410080"/>
            <a:ext cx="977760" cy="10861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700360" y="3357720"/>
            <a:ext cx="823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我们不能用固定不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眼光看变化的事物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要使自己的想法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顺应这样的变化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62485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我</a:t>
            </a: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的身高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我现在的身高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Times New Roman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候鞋子的码子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现在鞋子的码子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岁时我读什么书 </a:t>
            </a:r>
            <a:br>
              <a:rPr sz="4000"/>
            </a:b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现在我可以读什么书</a:t>
            </a:r>
            <a:br>
              <a:rPr sz="4000"/>
            </a:br>
            <a:r>
              <a:rPr b="0" lang="zh-CN" sz="4000" spc="-1" strike="noStrike">
                <a:solidFill>
                  <a:srgbClr val="3333ff"/>
                </a:solidFill>
                <a:latin typeface="宋体"/>
              </a:rPr>
              <a:t>通过调查我发现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选词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仍然  果然  固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爸爸说用一个月的时间学会使用电脑。经过一个月的努力，爸爸（          ）学会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自然博物馆里，同学们看到了多姿多彩的动植物。闭馆的时间快到了，同学们（        ）不想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样做（         ）能保住他的性命，可他的一条腿却没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2362320" y="4876920"/>
            <a:ext cx="21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仍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914400" y="2971800"/>
            <a:ext cx="187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743200" y="556272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固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971280" y="476280"/>
            <a:ext cx="8172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战争开始时，妈妈从家门口，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　　）步，埋下了箱子。四年后妈妈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门口朝菜园走了（　　　）步，很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                 　　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战争开始时，科利亚量了（　）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埋下木匣。四年后，科利亚从门口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　）步，却没有找到木匣子。后来科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从屋门口起量了（　 ）步，他一下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　 ）。这是因为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                                        　              　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3"/>
          <p:cNvSpPr txBox="1"/>
          <p:nvPr/>
        </p:nvSpPr>
        <p:spPr>
          <a:xfrm rot="5400000">
            <a:off x="-576720" y="274464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 会 填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547640" y="112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4643280" y="155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476360" y="2133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挖出她的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6877080" y="29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1332000" y="4149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716360" y="47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33200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找到了木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1"/>
          <p:cNvGrpSpPr/>
          <p:nvPr/>
        </p:nvGrpSpPr>
        <p:grpSpPr>
          <a:xfrm>
            <a:off x="4066200" y="5340240"/>
            <a:ext cx="3999240" cy="1333800"/>
            <a:chOff x="4066200" y="5340240"/>
            <a:chExt cx="3999240" cy="1333800"/>
          </a:xfrm>
        </p:grpSpPr>
        <p:sp>
          <p:nvSpPr>
            <p:cNvPr id="442" name="Rectangle 12"/>
            <p:cNvSpPr/>
            <p:nvPr/>
          </p:nvSpPr>
          <p:spPr>
            <a:xfrm>
              <a:off x="4066200" y="6092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过去，人在一天天长大，步子也在渐渐变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477920" y="5340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</a:rPr>
                <a:t>时间一天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484360" y="184464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这件事里，科利亚能有这么大的收获，是因为他有一个特别好的品质，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EDUCH012"/>
          <p:cNvPicPr/>
          <p:nvPr/>
        </p:nvPicPr>
        <p:blipFill>
          <a:blip r:embed="rId1"/>
          <a:stretch/>
        </p:blipFill>
        <p:spPr>
          <a:xfrm>
            <a:off x="914400" y="380880"/>
            <a:ext cx="1512720" cy="54486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5621400" y="4529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提示：爱动脑，勤于思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010"/>
          <p:cNvPicPr/>
          <p:nvPr/>
        </p:nvPicPr>
        <p:blipFill>
          <a:blip r:embed="rId2"/>
          <a:stretch/>
        </p:blipFill>
        <p:spPr>
          <a:xfrm>
            <a:off x="8001000" y="5932440"/>
            <a:ext cx="1143000" cy="925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116000" y="9075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时间的推移，在我们周围所有的事物都在变化，你能举个例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835280" y="2565360"/>
            <a:ext cx="698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围的一切都在起变化，告诉我们要怎样做事情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987640" y="4221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世界上的万物都在不断变化，我们应象科利亚一样多动脑筋，根据情况的变化而变化才能把事情做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380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读读下列词语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并给字注音</a:t>
            </a: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04920" y="18288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科利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743200" y="1828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木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572000" y="1828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挖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71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880" y="52578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小手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648320" y="35053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喀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山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590920" y="34290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躲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04920" y="35053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533520" y="121932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447920" y="1219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276720" y="1219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572000" y="12193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010280" y="1143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3200400" y="27432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4724280" y="28195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600200" y="4495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03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3"/>
          <p:cNvSpPr/>
          <p:nvPr/>
        </p:nvSpPr>
        <p:spPr>
          <a:xfrm>
            <a:off x="2286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我们做事情，要随着情况的变化采取不同的做法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sun6"/>
          <p:cNvPicPr/>
          <p:nvPr/>
        </p:nvPicPr>
        <p:blipFill>
          <a:blip r:embed="rId2"/>
          <a:stretch/>
        </p:blipFill>
        <p:spPr>
          <a:xfrm>
            <a:off x="152280" y="150840"/>
            <a:ext cx="2286000" cy="1982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200297231450120"/>
          <p:cNvPicPr/>
          <p:nvPr/>
        </p:nvPicPr>
        <p:blipFill>
          <a:blip r:embed="rId3"/>
          <a:stretch/>
        </p:blipFill>
        <p:spPr>
          <a:xfrm>
            <a:off x="7027920" y="3962520"/>
            <a:ext cx="2192400" cy="25905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6"/>
          <p:cNvSpPr/>
          <p:nvPr/>
        </p:nvSpPr>
        <p:spPr>
          <a:xfrm>
            <a:off x="24382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懂得道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C62-2022-4D52-A16F-12E3EECB50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报纸上说，今天晚上八点有月食。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八点钟，我站在阳台上向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空望去，月食（        ）出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在抗洪前线，解放军战士与洪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搏斗了十几天。有的战士累得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昏倒，（        ）不肯离开防洪大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堤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232000" y="907920"/>
            <a:ext cx="382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用“仍然”和“果然”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4829400" y="240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果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382140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1523880" y="8380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、科利亚的木匣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2971800" y="2330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五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子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十步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990720" y="2286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年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2971800" y="3321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十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步子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    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五步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90720" y="3276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年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85800" y="45720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懂得：一切都在起变化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花1"/>
          <p:cNvPicPr/>
          <p:nvPr/>
        </p:nvPicPr>
        <p:blipFill>
          <a:blip r:embed="rId2"/>
          <a:stretch/>
        </p:blipFill>
        <p:spPr>
          <a:xfrm>
            <a:off x="7991640" y="4495680"/>
            <a:ext cx="1152360" cy="23623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856800" y="251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600200" y="175248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057400" y="1523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981080" y="43434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705120" y="457200"/>
            <a:ext cx="10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量角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打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52680" y="365760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5123880" y="2666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172200" y="1295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n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6095880" y="44197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n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5715000" y="1676520"/>
            <a:ext cx="380880" cy="3047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423560" y="99072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367760" y="4367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灾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52280" y="1087560"/>
            <a:ext cx="93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一比，组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锯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81952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避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86400" y="28195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倍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5228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据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81952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僻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486400" y="3413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培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5228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剧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81952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辟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486400" y="39924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陪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1143000" y="2895480"/>
            <a:ext cx="1506240" cy="1785600"/>
            <a:chOff x="1143000" y="2895480"/>
            <a:chExt cx="1506240" cy="1785600"/>
          </a:xfrm>
        </p:grpSpPr>
        <p:sp>
          <p:nvSpPr>
            <p:cNvPr id="221" name="Text Box 14"/>
            <p:cNvSpPr/>
            <p:nvPr/>
          </p:nvSpPr>
          <p:spPr>
            <a:xfrm>
              <a:off x="1143000" y="2895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锯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1143000" y="350496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根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1143000" y="4038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剧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3809880" y="2895480"/>
            <a:ext cx="1506240" cy="1861920"/>
            <a:chOff x="3809880" y="2895480"/>
            <a:chExt cx="1506240" cy="1861920"/>
          </a:xfrm>
        </p:grpSpPr>
        <p:sp>
          <p:nvSpPr>
            <p:cNvPr id="225" name="Text Box 18"/>
            <p:cNvSpPr/>
            <p:nvPr/>
          </p:nvSpPr>
          <p:spPr>
            <a:xfrm>
              <a:off x="3809880" y="289548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回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3809880" y="350496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僻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3809880" y="4114800"/>
              <a:ext cx="15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开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1"/>
          <p:cNvGrpSpPr/>
          <p:nvPr/>
        </p:nvGrpSpPr>
        <p:grpSpPr>
          <a:xfrm>
            <a:off x="6477120" y="2895480"/>
            <a:ext cx="1505880" cy="1785600"/>
            <a:chOff x="6477120" y="2895480"/>
            <a:chExt cx="1505880" cy="1785600"/>
          </a:xfrm>
        </p:grpSpPr>
        <p:sp>
          <p:nvSpPr>
            <p:cNvPr id="229" name="Text Box 22"/>
            <p:cNvSpPr/>
            <p:nvPr/>
          </p:nvSpPr>
          <p:spPr>
            <a:xfrm>
              <a:off x="6477120" y="289548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倍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477120" y="350496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培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6477120" y="4038480"/>
              <a:ext cx="150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陪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28600" y="30492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战争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中提到的“战争”是指苏联卫国战争，是苏联人民为反对德国法西斯及其盟国进行的正义战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505320" y="2362320"/>
            <a:ext cx="4190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法西斯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指无理侵略别国领土的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28600" y="54100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木匣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木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42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BD05629_"/>
          <p:cNvPicPr/>
          <p:nvPr/>
        </p:nvPicPr>
        <p:blipFill>
          <a:blip r:embed="rId2"/>
          <a:stretch/>
        </p:blipFill>
        <p:spPr>
          <a:xfrm>
            <a:off x="6095880" y="4846680"/>
            <a:ext cx="3048120" cy="1895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228600" y="259092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</a:t>
            </a:r>
            <a:r>
              <a:rPr b="1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课文围绕着木匣写了科利亚的哪些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09480" y="83808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思    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7"/>
          <p:cNvSpPr/>
          <p:nvPr/>
        </p:nvSpPr>
        <p:spPr>
          <a:xfrm>
            <a:off x="8915400" y="65530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80880" y="2257560"/>
            <a:ext cx="22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幼圆"/>
                <a:ea typeface="幼圆"/>
              </a:rPr>
              <a:t>埋木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276720" y="23623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幼圆"/>
                <a:ea typeface="幼圆"/>
              </a:rPr>
              <a:t>挖木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019920" y="2181240"/>
            <a:ext cx="29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1c06"/>
                </a:solidFill>
                <a:latin typeface="Times New Roman"/>
                <a:ea typeface="幼圆"/>
              </a:rPr>
              <a:t>受到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4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6:10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