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EC3-764E-4D7F-AEAA-BA7116BF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2B9-216D-4902-930D-476A9948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408-1944-4CC1-90F6-0CCEAE16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9AE-EA27-4095-BDFB-51F5723C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80A-5F45-4383-A078-B5F6814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95F-1937-408C-A236-59BA0B3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997-1966-44F6-9A4F-E904E6D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6B6-C257-4063-89C6-235FD3B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DB8-AC9A-4134-B13C-DDF3C47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226-854A-4165-900D-4DBD3393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06F-8FDF-42EE-87E0-3B46922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788-3ADE-4FEA-9FEA-B7DDD368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30AF-0248-48D3-8954-224E4372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2"/>
          <a:stretch/>
        </p:blipFill>
        <p:spPr>
          <a:xfrm>
            <a:off x="0" y="6153120"/>
            <a:ext cx="146700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未命名8898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152280" y="290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西南师大版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ongtian2_0109"/>
          <p:cNvPicPr/>
          <p:nvPr/>
        </p:nvPicPr>
        <p:blipFill>
          <a:blip r:embed="rId2"/>
          <a:stretch/>
        </p:blipFill>
        <p:spPr>
          <a:xfrm>
            <a:off x="7467480" y="5227560"/>
            <a:ext cx="14479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720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请同学们默读第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至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自然段，说说这一部分主要写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295280" y="2895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写莫泊桑三次去福楼拜家中求教的情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85800" y="4572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莫泊桑的三次拜师中，哪次最精彩，选择你认为最精彩的一次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60948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福楼拜每次都说了些什么？所说的话中哪句话最关键？默读课文后回答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04920" y="2625840"/>
            <a:ext cx="86104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这个问题很简单，是你的功夫还不到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3733920"/>
            <a:ext cx="7620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福楼拜是针对什么说这句话的？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57200" y="43434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从他直截了当地说，可以看出福楼拜是一个怎样的人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7200" y="5302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福楼拜认为必须怎样做才能使功夫到家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ongtian2_0109"/>
          <p:cNvPicPr/>
          <p:nvPr/>
        </p:nvPicPr>
        <p:blipFill>
          <a:blip r:embed="rId2"/>
          <a:stretch/>
        </p:blipFill>
        <p:spPr>
          <a:xfrm>
            <a:off x="7162920" y="5105520"/>
            <a:ext cx="1600200" cy="1380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0948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福楼拜每次都说了些什么？所说的话中哪句话最关键？默读课文后回答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62120" y="2590920"/>
            <a:ext cx="76197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不，不不！怎么能说没有什么东西好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62120" y="3962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福楼拜是在什么情况下说这句话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762120" y="46483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莫泊桑是怎样的心情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62120" y="5272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同学们有感情地齐读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609480" y="1295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福楼拜每次都说了些什么？所说的话中哪句话最关键？默读课文后回答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80880" y="2590920"/>
            <a:ext cx="845820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对你所要写的东西，光仔细观察还不够，还要能发现别人没有发现的特点，并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5800" y="4114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文中哪些话分别是围绕这句话来写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5800" y="4800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这些语句再次说明福楼拜是一个什么样的人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09480" y="13874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　　课文写莫泊桑拜师的经过，共写了他三次求教的情况，着重写了师生二人的对话，从他们的对话中我们看出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62120" y="3352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师生二人一个善教一个勤学的特点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120" y="42372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从他们的对话中，我们懂得仔细观察、不断积累、勤奋练习是提高写作水平的必由之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80880" y="1447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齐读最后一段并思考：莫泊桑经过自己努力最后是否成功了？画出文中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0"/>
          <p:cNvGrpSpPr/>
          <p:nvPr/>
        </p:nvGrpSpPr>
        <p:grpSpPr>
          <a:xfrm>
            <a:off x="990720" y="3048120"/>
            <a:ext cx="7315200" cy="1523880"/>
            <a:chOff x="990720" y="3048120"/>
            <a:chExt cx="7315200" cy="1523880"/>
          </a:xfrm>
        </p:grpSpPr>
        <p:sp>
          <p:nvSpPr>
            <p:cNvPr id="157" name="Text Box 6"/>
            <p:cNvSpPr/>
            <p:nvPr/>
          </p:nvSpPr>
          <p:spPr>
            <a:xfrm>
              <a:off x="990720" y="30481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　　他仔细观察，用心揣摩，积累了许多素材，终于写出了不少有世界影响的名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828800" y="3657600"/>
              <a:ext cx="624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1067040" y="4114800"/>
              <a:ext cx="7010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1067040" y="45720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"/>
          <p:cNvSpPr/>
          <p:nvPr/>
        </p:nvSpPr>
        <p:spPr>
          <a:xfrm>
            <a:off x="76212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同学们有感情地读一读这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990720" y="1600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说说他们各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905120" y="25909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莫泊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724280" y="25909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福楼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85800" y="3838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莫泊桑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虚心好学、勤学苦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685800" y="4648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福楼拜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循循善诱、关心后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女孩"/>
          <p:cNvPicPr/>
          <p:nvPr/>
        </p:nvPicPr>
        <p:blipFill>
          <a:blip r:embed="rId3"/>
          <a:stretch/>
        </p:blipFill>
        <p:spPr>
          <a:xfrm>
            <a:off x="7010280" y="1447920"/>
            <a:ext cx="103032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143000" y="2892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习了这篇课文，你受到了什么启发？你打算今后怎样向莫泊桑学习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2324160" y="20383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集体讨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4" name="Picture 6" descr="讨论"/>
          <p:cNvPicPr/>
          <p:nvPr/>
        </p:nvPicPr>
        <p:blipFill>
          <a:blip r:embed="rId3"/>
          <a:stretch/>
        </p:blipFill>
        <p:spPr>
          <a:xfrm>
            <a:off x="1143000" y="1994040"/>
            <a:ext cx="110484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762120" y="2394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文章主要写从小酷爱写作的莫泊桑为了能够写出好作品，拜福楼拜为师，福楼拜给予悉心指导的事，表现了莫泊桑对所酷爱的事业执著追求的精神和福楼拜循循善诱、关心后辈的名师风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866960" y="1523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课文小结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79" name="Picture 6" descr="书１"/>
          <p:cNvPicPr/>
          <p:nvPr/>
        </p:nvPicPr>
        <p:blipFill>
          <a:blip r:embed="rId3"/>
          <a:stretch/>
        </p:blipFill>
        <p:spPr>
          <a:xfrm>
            <a:off x="914400" y="1523880"/>
            <a:ext cx="838080" cy="47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38080" y="59436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100-45FE-435F-82E8-CFB0011BF5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2747880" y="2424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shanshui2_0181"/>
          <p:cNvPicPr/>
          <p:nvPr/>
        </p:nvPicPr>
        <p:blipFill>
          <a:blip r:embed="rId19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ongtian2_0109"/>
          <p:cNvPicPr/>
          <p:nvPr/>
        </p:nvPicPr>
        <p:blipFill>
          <a:blip r:embed="rId20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33520" y="10666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大家在业余生活里，有没有过拜师的经历呢？简单地说一说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62520" y="2819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同学们说得真不错，今天老师要给大家讲一个关于莫泊桑拜师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未命名1"/>
          <p:cNvPicPr/>
          <p:nvPr/>
        </p:nvPicPr>
        <p:blipFill>
          <a:blip r:embed="rId21"/>
          <a:stretch/>
        </p:blipFill>
        <p:spPr>
          <a:xfrm>
            <a:off x="762120" y="2286000"/>
            <a:ext cx="260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2057400" y="19810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7" name="Picture 5" descr="观察"/>
          <p:cNvPicPr/>
          <p:nvPr/>
        </p:nvPicPr>
        <p:blipFill>
          <a:blip r:embed="rId3"/>
          <a:stretch/>
        </p:blipFill>
        <p:spPr>
          <a:xfrm>
            <a:off x="838080" y="1752480"/>
            <a:ext cx="978120" cy="793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1676520" y="3048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完成课后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600200" y="4038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２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写一篇读后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"/>
          <p:cNvPicPr/>
          <p:nvPr/>
        </p:nvPicPr>
        <p:blipFill>
          <a:blip r:embed="rId1"/>
          <a:srcRect l="13457" t="48597" r="11423" b="7898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2" name="WordArt 4" descr=""/>
          <p:cNvPicPr/>
          <p:nvPr/>
        </p:nvPicPr>
        <p:blipFill>
          <a:blip r:embed="rId2"/>
          <a:stretch/>
        </p:blipFill>
        <p:spPr>
          <a:xfrm>
            <a:off x="1359000" y="2822400"/>
            <a:ext cx="6127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1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dongtian2_0109"/>
          <p:cNvPicPr/>
          <p:nvPr/>
        </p:nvPicPr>
        <p:blipFill>
          <a:blip r:embed="rId2"/>
          <a:stretch/>
        </p:blipFill>
        <p:spPr>
          <a:xfrm>
            <a:off x="7620120" y="5510160"/>
            <a:ext cx="1218960" cy="10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dd"/>
          <p:cNvPicPr/>
          <p:nvPr/>
        </p:nvPicPr>
        <p:blipFill>
          <a:blip r:embed="rId3"/>
          <a:stretch/>
        </p:blipFill>
        <p:spPr>
          <a:xfrm>
            <a:off x="762120" y="2362320"/>
            <a:ext cx="23540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 Box 23"/>
          <p:cNvSpPr/>
          <p:nvPr/>
        </p:nvSpPr>
        <p:spPr>
          <a:xfrm>
            <a:off x="2590920" y="21337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3352680" y="228600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莫泊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Maupassant18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93):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后半期法国优秀的批判现实主义作家。一生创作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长篇小说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部中短篇小说，他的文学成就以短篇小说最为突出，是与契诃夫和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亨利并列的世界短篇小说之王，对后世产生极大影响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5"/>
          <p:cNvSpPr txBox="1"/>
          <p:nvPr/>
        </p:nvSpPr>
        <p:spPr>
          <a:xfrm>
            <a:off x="1828800" y="12952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走近莫泊桑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grpSp>
        <p:nvGrpSpPr>
          <p:cNvPr id="57" name="Group 30"/>
          <p:cNvGrpSpPr/>
          <p:nvPr/>
        </p:nvGrpSpPr>
        <p:grpSpPr>
          <a:xfrm>
            <a:off x="914400" y="1676520"/>
            <a:ext cx="7696080" cy="380880"/>
            <a:chOff x="914400" y="1676520"/>
            <a:chExt cx="7696080" cy="380880"/>
          </a:xfrm>
        </p:grpSpPr>
        <p:sp>
          <p:nvSpPr>
            <p:cNvPr id="58" name="Line 26"/>
            <p:cNvSpPr/>
            <p:nvPr/>
          </p:nvSpPr>
          <p:spPr>
            <a:xfrm>
              <a:off x="1371600" y="1981440"/>
              <a:ext cx="7238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7"/>
            <p:cNvSpPr/>
            <p:nvPr/>
          </p:nvSpPr>
          <p:spPr>
            <a:xfrm>
              <a:off x="1143000" y="1905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8"/>
            <p:cNvSpPr/>
            <p:nvPr/>
          </p:nvSpPr>
          <p:spPr>
            <a:xfrm>
              <a:off x="914400" y="1828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9"/>
            <p:cNvSpPr/>
            <p:nvPr/>
          </p:nvSpPr>
          <p:spPr>
            <a:xfrm flipH="1">
              <a:off x="1218960" y="1676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1"/>
          <p:cNvGrpSpPr/>
          <p:nvPr/>
        </p:nvGrpSpPr>
        <p:grpSpPr>
          <a:xfrm>
            <a:off x="152280" y="609480"/>
            <a:ext cx="8839080" cy="5952960"/>
            <a:chOff x="152280" y="609480"/>
            <a:chExt cx="8839080" cy="5952960"/>
          </a:xfrm>
        </p:grpSpPr>
        <p:pic>
          <p:nvPicPr>
            <p:cNvPr id="63" name="Picture 14" descr="shanshui2_0181"/>
            <p:cNvPicPr/>
            <p:nvPr/>
          </p:nvPicPr>
          <p:blipFill>
            <a:blip r:embed="rId1"/>
            <a:srcRect l="0" t="1168" r="0" b="69683"/>
            <a:stretch/>
          </p:blipFill>
          <p:spPr>
            <a:xfrm>
              <a:off x="152280" y="609480"/>
              <a:ext cx="883908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5" descr="dongtian2_0109"/>
            <p:cNvPicPr/>
            <p:nvPr/>
          </p:nvPicPr>
          <p:blipFill>
            <a:blip r:embed="rId2"/>
            <a:stretch/>
          </p:blipFill>
          <p:spPr>
            <a:xfrm>
              <a:off x="7696080" y="5576760"/>
              <a:ext cx="114300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6"/>
          <p:cNvSpPr/>
          <p:nvPr/>
        </p:nvSpPr>
        <p:spPr>
          <a:xfrm>
            <a:off x="609480" y="2666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读课文，自学生字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09480" y="3809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读通课文，遇到不明白的地方，做上标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609480" y="50292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思考：文章主要讲了一件什么事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371600" y="1447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自读课文，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唱唱"/>
          <p:cNvPicPr/>
          <p:nvPr/>
        </p:nvPicPr>
        <p:blipFill>
          <a:blip r:embed="rId3"/>
          <a:stretch/>
        </p:blipFill>
        <p:spPr>
          <a:xfrm>
            <a:off x="457200" y="144792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未命名2222"/>
          <p:cNvPicPr/>
          <p:nvPr/>
        </p:nvPicPr>
        <p:blipFill>
          <a:blip r:embed="rId4"/>
          <a:stretch/>
        </p:blipFill>
        <p:spPr>
          <a:xfrm>
            <a:off x="6553080" y="914400"/>
            <a:ext cx="220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4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dongtian2_0109"/>
          <p:cNvPicPr/>
          <p:nvPr/>
        </p:nvPicPr>
        <p:blipFill>
          <a:blip r:embed="rId2"/>
          <a:stretch/>
        </p:blipFill>
        <p:spPr>
          <a:xfrm>
            <a:off x="7391520" y="5334120"/>
            <a:ext cx="1447560" cy="1249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简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90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吆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1148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烙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面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1629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21932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26668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191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562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9343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uǎ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复件 思考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ongtian2_0109"/>
          <p:cNvPicPr/>
          <p:nvPr/>
        </p:nvPicPr>
        <p:blipFill>
          <a:blip r:embed="rId2"/>
          <a:stretch/>
        </p:blipFill>
        <p:spPr>
          <a:xfrm>
            <a:off x="7543800" y="5435640"/>
            <a:ext cx="1295280" cy="1117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533520" y="2133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一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1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为了使作品具有特色，拜福楼拜为师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33520" y="3352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二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2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9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向福楼拜请教，福楼拜悉心指导，莫泊桑铭记在心，勤于观察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09480" y="457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第三段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10):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写莫泊桑经过努力，终于写出了许多有影响的名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57200" y="1066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通读课文，给课文分段并概括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未命名2222"/>
          <p:cNvPicPr/>
          <p:nvPr/>
        </p:nvPicPr>
        <p:blipFill>
          <a:blip r:embed="rId3"/>
          <a:stretch/>
        </p:blipFill>
        <p:spPr>
          <a:xfrm>
            <a:off x="5943600" y="5181480"/>
            <a:ext cx="108576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ongtian2_0109"/>
          <p:cNvPicPr/>
          <p:nvPr/>
        </p:nvPicPr>
        <p:blipFill>
          <a:blip r:embed="rId2"/>
          <a:stretch/>
        </p:blipFill>
        <p:spPr>
          <a:xfrm>
            <a:off x="7467480" y="5334120"/>
            <a:ext cx="1371600" cy="1182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914400" y="1752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从哪些词语可以看出莫泊桑从小就热爱写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23880" y="33526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他年轻时酷爱写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886200" y="40384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4267080" y="403848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676520" y="46483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说说你对带点词语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北北"/>
          <p:cNvPicPr/>
          <p:nvPr/>
        </p:nvPicPr>
        <p:blipFill>
          <a:blip r:embed="rId3"/>
          <a:stretch/>
        </p:blipFill>
        <p:spPr>
          <a:xfrm>
            <a:off x="6705720" y="4419720"/>
            <a:ext cx="75060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ongtian2_0109"/>
          <p:cNvPicPr/>
          <p:nvPr/>
        </p:nvPicPr>
        <p:blipFill>
          <a:blip r:embed="rId2"/>
          <a:stretch/>
        </p:blipFill>
        <p:spPr>
          <a:xfrm>
            <a:off x="7467480" y="5303880"/>
            <a:ext cx="1447920" cy="1249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09480" y="121932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自由读第一段并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莫泊桑为什么要拜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762120" y="32464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他年轻时酷爱写作，可作品都平平常常。莫泊桑很着急，于是，他去请福楼拜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hanshui2_0181"/>
          <p:cNvPicPr/>
          <p:nvPr/>
        </p:nvPicPr>
        <p:blipFill>
          <a:blip r:embed="rId1"/>
          <a:srcRect l="0" t="1168" r="0" b="69683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ongtian2_0109"/>
          <p:cNvPicPr/>
          <p:nvPr/>
        </p:nvPicPr>
        <p:blipFill>
          <a:blip r:embed="rId2"/>
          <a:stretch/>
        </p:blipFill>
        <p:spPr>
          <a:xfrm>
            <a:off x="7315200" y="5222880"/>
            <a:ext cx="1523880" cy="1316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33520" y="2209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斯达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福楼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ustave Flaubert 1821-18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法国重要的批判现实主义作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出生在卢昂一个著名的外科医生家庭。其作品反映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48-187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间法国的时代风貌，揭露了丑恶鄙俗的资产阶级社会。他的“客观而无动于衷”的创作理论和精雕细刻的艺术风格，在法国文学史上独树一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914400" y="1676520"/>
            <a:ext cx="7696080" cy="380880"/>
            <a:chOff x="914400" y="1676520"/>
            <a:chExt cx="7696080" cy="380880"/>
          </a:xfrm>
        </p:grpSpPr>
        <p:sp>
          <p:nvSpPr>
            <p:cNvPr id="117" name="Line 6"/>
            <p:cNvSpPr/>
            <p:nvPr/>
          </p:nvSpPr>
          <p:spPr>
            <a:xfrm>
              <a:off x="1371600" y="1981440"/>
              <a:ext cx="7238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1143000" y="1905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914400" y="1828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H="1">
              <a:off x="1218960" y="1676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10"/>
          <p:cNvSpPr txBox="1"/>
          <p:nvPr/>
        </p:nvSpPr>
        <p:spPr>
          <a:xfrm>
            <a:off x="2514600" y="137160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福楼拜简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4:02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9:57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