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BA8-6EFF-48C6-A76F-E0FFEB45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29B-564E-4838-B8A1-4A30296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12-A5C4-43A3-BB60-A87791A2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C04-260E-4275-B166-B137BA4B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0AF-EAD5-4638-B764-17CC1765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4BA-2F73-4900-BB59-8701D7E0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AD0-BED0-41C0-B57F-6A373052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C58-6DDA-438B-B6A0-21A2AAE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F15-5A26-4F42-8009-0E8CC10E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811-3EDF-4F95-AEB6-F19DDDB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954-DEE8-4035-819C-D90A1D2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B2E-8306-4B6E-B298-00D2388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D08-D234-49A2-A879-9612F0EA59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0B9-85D5-4520-8C4D-7F6EE2E2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qljyzx.com/Article/yw/xiao04/200612/4429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qljyzx.com/Article/yw/xiao04/200612/4429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20061272010261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79280" y="1773360"/>
            <a:ext cx="8610840" cy="14238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月光.wma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279360" cy="27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4360" y="177336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牧场之国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77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黑体"/>
              </a:rPr>
              <a:t>生字、词语、多音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48428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场    镶嵌  骏马     毛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吆喝    公爵  牲畜     牛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噜    圈里  哞哞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96000" y="25956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1547640" y="2565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071360" y="4594320"/>
            <a:ext cx="7056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膘肥体壮      辽阔无垠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态端庄      悠然自得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7385040" y="47545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47640" y="364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45086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模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羊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圆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犊的模样像贵夫人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态端庄。老牛好似牛群的家长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比尊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596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抹晚霞也渐渐消失了，整个天地都暗了下来。狗不叫了，圈里的牛也不再发出哞哞声，马也忘记了踢马房的挡板。沉睡的牲畜，无声的低地，漆黑的夜晚，远处的几座灯塔在闪烁着微弱的光芒。这就是真正的荷兰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m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B92-7776-40C7-81E9-FF62FC776E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08000" y="1384200"/>
            <a:ext cx="882000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总分结构，开篇点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细致的观察，恰当地运用比喻、排比、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等修辞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最重要的一点是详略分明的写作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00400" y="43657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练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62760" y="546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作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067120" y="5011560"/>
            <a:ext cx="5139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请你运用这节课学到的写作方法也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处自己喜欢的景点。题目自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20061272010261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3:57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4:49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