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CD9-EC0F-4110-BB91-DB24C766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251-91BA-4E0D-9C43-49B2536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E80-EC11-437A-9587-C44DC57E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59D-3467-49F2-919F-69E76C73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E17F-AA75-4E92-A9A6-9F9311A2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6CA3-B55B-4ADE-889B-E7EB57FE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6CCE-9BFF-45C6-ADDE-051E99D3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AC27-4367-4AD3-9D8D-6A2AF3B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4A3E-1387-4452-A480-48AB3669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C6AF-46D2-45BF-B7E3-350A136E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3A2C-C80D-4E1E-99D4-99D2804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C3B-2B7D-40D2-97B3-CC159157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BE06-F87F-4374-9E6E-93DF83E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DA67-A64E-4A59-8CA8-89EB589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C4A5-98E6-4BEB-ACAE-AF730C3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0C61-D35B-402C-8EFB-0F724908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8BB9-8000-474C-9BE3-051433EB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171-E342-4B17-A094-70641862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3F9-C4BE-445B-8988-AC57CAC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EBA-0F86-4F74-BE4A-792A6A45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51A-EFD8-4F26-BE90-1DEFA9B9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AD4-DDA2-469C-8534-92A924B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698-2F7C-4175-AD92-18F1C94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FB8-2E58-44A1-8D4E-ADCC220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D5DD-ABB4-40E8-999C-8695FC8D8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399B-83F5-401A-909F-10D69D66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ndbsyr.com/ly/jd/200812/806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荷兰-牧场-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2572560" y="515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西师大版四年级语文下册第八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205000"/>
            <a:ext cx="17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牧场之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20081227231721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476280"/>
            <a:ext cx="5185080" cy="3600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763640" y="4581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碧绿色的低地上有成群的骏马，它们膘肥体壮，是辽阔原野的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042920" y="54936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在绿色的草地上，绵羊悠然自得，猪群不停地呼噜，小鸡、长毛山羊安闲自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傍晚，有人驾驶船默默挤奶，船只行驶舒缓平稳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一片静谧，一幅沉寂的静夜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00000" y="4724280"/>
            <a:ext cx="7559640" cy="7642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既是介绍荷兰特点，又是对荷兰独特风光的赞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4105440" cy="3168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33200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金色的晚霞铺在西天，远处偶尔传来汽笛声，接着又是一片寂静。在这里，谁都不叫喊吆喝，牛脖子上的铃铛也没有响声，挤奶的人更是默默无言。沉睡的牲畜，无声的低地，漆黑的夜晚，远处的几座灯塔在闪烁着微弱的光芒。这就是真正的荷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d2622804f119fb2b0f58109bcda8a92"/>
          <p:cNvPicPr/>
          <p:nvPr/>
        </p:nvPicPr>
        <p:blipFill>
          <a:blip r:embed="rId1"/>
          <a:stretch/>
        </p:blipFill>
        <p:spPr>
          <a:xfrm>
            <a:off x="324000" y="2133720"/>
            <a:ext cx="4190760" cy="27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780000" cy="2808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299040" y="549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欣赏荷兰优美地的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5B5C-2B8A-4724-AC7C-45BB94FAA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荷兰-风车-2"/>
          <p:cNvPicPr/>
          <p:nvPr/>
        </p:nvPicPr>
        <p:blipFill>
          <a:blip r:embed="rId1"/>
          <a:stretch/>
        </p:blipFill>
        <p:spPr>
          <a:xfrm>
            <a:off x="539640" y="2133720"/>
            <a:ext cx="3816360" cy="29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荷兰-风车-3"/>
          <p:cNvPicPr/>
          <p:nvPr/>
        </p:nvPicPr>
        <p:blipFill>
          <a:blip r:embed="rId2"/>
          <a:stretch/>
        </p:blipFill>
        <p:spPr>
          <a:xfrm>
            <a:off x="4716360" y="2133720"/>
            <a:ext cx="4070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荷兰-花"/>
          <p:cNvPicPr/>
          <p:nvPr/>
        </p:nvPicPr>
        <p:blipFill>
          <a:blip r:embed="rId1"/>
          <a:stretch/>
        </p:blipFill>
        <p:spPr>
          <a:xfrm>
            <a:off x="1187280" y="1341360"/>
            <a:ext cx="6913800" cy="4608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60820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荷兰的国花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郁金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生字、词语、多音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04920" y="12193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镶 嵌    骏 马    膘肥体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辽阔无垠（   ）   公 爵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悠然自得    牲畜（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290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791320" y="34290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547640" y="4508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羊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圆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5877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阅读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42920" y="1989000"/>
            <a:ext cx="76183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文第一自然段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说说牧场之国荷兰给你留下了怎样的印象？你是从课文的哪些地方感受到的？请带着你的感受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70536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黑体"/>
              </a:rPr>
              <a:t>欣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77160" cy="4143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083040" y="5157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牧场之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荷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荷兰-牧场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96388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荷兰牧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一条条运河之间的绿色低地上，黑白花牛，白头黑牛，白腰蓝嘴黑牛，在低头吃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极目远眺，四周全是丝绒般的碧绿草原和黑白两色的花牛。这就是真正的荷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32000" y="170028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课文为什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四次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这就是真正的荷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四次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这就是真正的荷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2214720"/>
            <a:ext cx="758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牧场上一片碧草，上面有黑白两色花牛，他们在吃草，悠闲自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真正的荷兰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：碧绿色的低地上有成群的骏马，它们膘肥体壮，是辽阔原野的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80880" y="380880"/>
            <a:ext cx="838224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002"/>
          <p:cNvPicPr/>
          <p:nvPr/>
        </p:nvPicPr>
        <p:blipFill>
          <a:blip r:embed="rId1"/>
          <a:stretch/>
        </p:blipFill>
        <p:spPr>
          <a:xfrm>
            <a:off x="1258920" y="476280"/>
            <a:ext cx="6896160" cy="4676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763640" y="53737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牧场上的黑白花牛，白头黑牛，白腰蓝嘴黑牛在吃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30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35:4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